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D41-2E02-45CF-8545-AA3085BE6EB2}" type="slidenum">
              <a:rPr b="0" lang="ar-S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078-4775-48D6-88A8-AE70F338985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BB9-7448-47D2-A513-A468258BEBE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60A0-9818-41B2-A1F5-AED59BDCA32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5B8-E3E9-49C0-93D5-88CDB333E98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C66-ADFA-4C1F-A075-C140A7D02D4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50D-67BF-415C-9DF2-2B4CDDD3C2D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BEE5-8637-4507-97A5-AAA4F2D1E96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52A-8B6A-44B7-9472-21593A5753C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20E-FCF8-4711-9B20-679BD2129E2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080-90F4-4176-B1D4-22601950326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A16-B974-4469-ACE1-C24E32F4F23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867-D048-40D1-AAC4-23900A8415B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A83-C63C-4F7E-91BC-DA549DB859E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51E-A29B-4B8C-9235-A98B594CD47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D85-A665-49A3-81C2-7963E27B774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18E2-5E64-41D7-A371-70536533476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044-FAB6-4EDF-86B8-E448CB74D6B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B9F-8B63-4265-8CD4-0B859F7011B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1A3-E783-49D3-81B8-ECD35168F60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0D05-B634-4EED-93C9-79C9FDBC405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263-F318-43B0-A10B-74276E9DEBF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30C-DF65-4F41-B18F-E47400316FE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BDD-420D-4D8A-8A85-3B8B20F11A9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4063-BB86-4460-ACAE-82ABC24AF6B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EB0-B1A1-4484-A001-659D45CF581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7B1-D543-4DC6-9B19-AFE9F936EA0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287-C3F1-43BC-A360-6CBA9AF894C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CAB-262E-4ECD-AE78-63EA69D5772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D96-7E81-4D24-9D0D-A091F0B3391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9B9-0DF1-46F6-9F09-4C384AC6DA8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6132-EC55-4431-B518-60178DEC3CC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BCC4-DF87-47D5-ADE4-A8E7DAA9AB0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FCA-8D3E-4E14-A767-E1B25CC0F1F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2B4-3D84-4BF4-8826-01207A59DE9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D5F0-0DD3-4F38-8043-01044EAF821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A4B-8220-449A-AD21-D2DB33D8A78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BE2-507F-41C1-84F9-9142DF346BA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2531-AE02-42F1-97AC-318801DA594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8E7E-D13F-4D01-B65E-3F8E3C59AC2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240F-C803-4CB5-A7E8-4404FE895B9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69E-303F-44CF-89B4-DFF041684C7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BD1-89CC-481E-A0DB-1A5A92B0A18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3E8-732B-4F9A-87BA-F8355E0A869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2AA-CA7C-455E-A06F-97B73807A22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DDA-D79E-4AC7-9D60-366666C2525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5574-7081-43F2-83C5-75C9C3D5835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C7B0-26D5-4B4A-B96D-A6B1EC8247C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BDC-42F6-4EFB-B898-42F730BB1EC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CADE-E13A-4586-8BFB-41E3D0BB957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DE8-EB78-40A2-9225-CF6160DEB52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0C0-8D14-4DD6-A0ED-13C255F924F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642-C02C-4651-A33B-C7156806D78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52F4-61F7-498D-9D42-45F57A2FA78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043-8DDE-45CB-B780-B9FAAA88E6A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42C-2928-4643-9841-106D25FB60A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AF89-5CAF-4DC6-BA4A-28E4DE84C10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D7C2-E0DC-4A49-A1AE-8EAD0E0C12B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D4D-D2F7-454D-82A2-BA53B228954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9B0B-527B-4861-A313-80011D4C0CA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9E07-4941-4D95-B454-1DB7A55255F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1111-A4A9-4E3A-97E3-62AE5F83409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AD9-FA74-4CAC-B717-E3E8AD8CD35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003-187A-41F6-9275-11C5AD7C4B1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3C9-A72F-4199-A9B9-0D07889D583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D94-EC35-424A-9416-D4B2DDD8C00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F72-A13F-4F44-86C2-0ED260D44EE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7B18-D186-4B48-8D53-04883D50C24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62C-B522-4060-A503-4DC1FB7CF82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04C6-76E9-4D9B-8762-EFAE4DE8AEB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1FE5-E5C2-478E-80A5-262AFE10B8A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89B-955F-4D41-9A84-9084109E85A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977-1A09-4D7D-A19B-C3F0B3A0A3E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D053-603F-4482-A78F-EDB69CFC311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81B-0D56-48E6-B7F1-85786BC27FE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523-5DBE-4E88-B935-47FCA092B62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25CC-4CA0-49BE-8C50-110CFB254A4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1A30-3A12-4FFD-AF80-CA72D20374E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412-4C5B-4F49-977B-C6B59353537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4285-DD2B-405E-8B75-CDE4456DEE9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3A30-3A72-4AB1-B5ED-81638EB5BD8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4017-3B35-4171-8A12-F6E6AEE7305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4B38-CD79-4486-8526-0950259DB9F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D4A-D86F-41BF-B3C5-39655D04DF9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818-DC6B-4BD0-9839-025BB0556FE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262-3276-4FFB-8852-2DCB66D2282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2D7-FC21-48F7-BC85-60883D6235B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26EA-641F-415C-A842-FDC979D841E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E28-DF47-444B-80F3-EB2942A930E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D68-2C4E-4D1B-8EF1-9C83BE2FBBB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49DA-5F22-491D-8005-D76B1BEB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1981-42C5-4B94-B450-348D908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8F0A-A035-46E1-813F-CF08E6C1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D152-35F2-4524-B2D2-F1C0F360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8AD-8BC8-4C36-A47F-C31AACF0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5CA-0CFD-4F5D-855A-10AE31B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8C08-3F56-475F-8BC2-9BAEB1E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876F-91D9-468B-9DC6-90008222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8AF-D5D0-406D-885D-2B4D64B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E0CD-3861-4FE0-BE33-6092DCA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E406-8072-4E2A-96B7-E77FA32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DE90-8FA6-4B9D-85E5-0DC6E56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03A9-A93D-47A4-8BEF-AF04237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2B11-8924-478C-A131-24DF8E2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31DC-1ED6-4D8C-99F4-524159F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EEB-9B00-45B1-8938-3D738638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F17F-6A7E-43A3-9FB6-83DAEF20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A1F9-EE16-439D-B6BF-FE32DDA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1DD-FF0F-4917-89DD-A9CF4B47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AE2C-FAA6-4A60-B1B0-CBD988C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9126-CBF6-49B6-A575-BD9CCAB6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E7A4-33FF-4792-ACA9-BC0EF2DF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11E0-2EFC-478A-A117-71CED2F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9EB5-A66B-4841-AB4D-F4512531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50DA-5021-4EF8-8B31-531C8B6BD9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A5AE-BE39-4079-8134-687584BE854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000" spc="-1" strike="noStrike">
                <a:solidFill>
                  <a:srgbClr val="ffffff"/>
                </a:solidFill>
                <a:latin typeface="Arial"/>
              </a:rPr>
              <a:t>بعض الأمراض الفمو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400" spc="-1" strike="noStrike">
                <a:solidFill>
                  <a:srgbClr val="000000"/>
                </a:solidFill>
                <a:latin typeface="Arial"/>
              </a:rPr>
              <a:t>المحاضرة الخامس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400" spc="-1" strike="noStrike">
                <a:solidFill>
                  <a:srgbClr val="000000"/>
                </a:solidFill>
                <a:latin typeface="Arial"/>
              </a:rPr>
              <a:t>2014/20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221-EECD-408B-82FF-A7EF001070E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EB9-C6FB-4876-BE08-6321E5DDC42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9640" y="59245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شفى عادة في أقل من أسب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Y" sz="4400" spc="-1" strike="noStrike">
                <a:solidFill>
                  <a:srgbClr val="c00000"/>
                </a:solidFill>
                <a:latin typeface="Arial"/>
              </a:rPr>
              <a:t>سباب القلاع الأصغ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00040" y="2357280"/>
            <a:ext cx="80643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نقص الحديد – الفولات – الزنك – فيتامين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يمكن أن يحدث </a:t>
            </a:r>
            <a:r>
              <a:rPr b="0" lang="ar-SY" sz="3600" spc="-1" strike="noStrike">
                <a:solidFill>
                  <a:srgbClr val="1818ff"/>
                </a:solidFill>
                <a:latin typeface="Arial"/>
              </a:rPr>
              <a:t>التهاب اللسان وزوايا الف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أحيانا 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الطعام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هو المسب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01E-90C0-41E8-89C9-5B3938E7933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500040" y="1285920"/>
            <a:ext cx="806436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ظهور هذه التقرحات يمكن أن يكون تاليا </a:t>
            </a: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ل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0040" y="2884320"/>
            <a:ext cx="806436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0000"/>
                </a:solidFill>
                <a:latin typeface="Arial"/>
              </a:rPr>
              <a:t>أطقم الأسنان</a:t>
            </a: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غير الملائمة يمكن أن تسبب التقر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286240" y="4699080"/>
            <a:ext cx="321624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0000"/>
                </a:solidFill>
                <a:latin typeface="Arial"/>
              </a:rPr>
              <a:t>شائع عند النس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4934-6F88-40D3-85BB-B24A9D613B6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571680" y="2357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الإجهاد والعوامل العاطفية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في العمل والبيت يمكن أن تسرع تكرار أو تؤخر الشفاء لكنها </a:t>
            </a:r>
            <a:r>
              <a:rPr b="0" lang="ar-SY" sz="3600" spc="-1" strike="noStrike">
                <a:solidFill>
                  <a:srgbClr val="c00000"/>
                </a:solidFill>
                <a:latin typeface="Arial"/>
              </a:rPr>
              <a:t>ليست العامل الأساسي المسب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C6BB-C4D3-4F16-89F5-B4C53501CF8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642960" y="2571840"/>
            <a:ext cx="8064360" cy="119124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ff00"/>
                </a:solidFill>
                <a:latin typeface="Arial"/>
              </a:rPr>
              <a:t>ويبقى سبب التقرح الأصغري غير واضح!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1B8-3219-4F0F-A658-8A4125431B5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708360" y="1413000"/>
            <a:ext cx="482436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القلاع الأكب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phtous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أقل شيوعا من النوع الأصغ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– أحيانا تكون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أكبر من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سم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حيث يمكن أن يصل قطرها إلى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– يمكن أن يصل عددها إلى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عشرة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قريب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الأماكن (الشفاه – الخدود – اللسان – البلعوم – سقف الحنك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can2000006"/>
          <p:cNvPicPr/>
          <p:nvPr/>
        </p:nvPicPr>
        <p:blipFill>
          <a:blip r:embed="rId1"/>
          <a:srcRect l="42337" t="58202" r="18817" b="16368"/>
          <a:stretch/>
        </p:blipFill>
        <p:spPr>
          <a:xfrm>
            <a:off x="0" y="907920"/>
            <a:ext cx="3995640" cy="403380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EAC4-C7D3-4DCE-8F2B-D5816268EE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jor images"/>
          <p:cNvPicPr/>
          <p:nvPr/>
        </p:nvPicPr>
        <p:blipFill>
          <a:blip r:embed="rId1"/>
          <a:stretch/>
        </p:blipFill>
        <p:spPr>
          <a:xfrm>
            <a:off x="2484360" y="1052640"/>
            <a:ext cx="5545080" cy="32400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66" name="Text Box 5"/>
          <p:cNvSpPr/>
          <p:nvPr/>
        </p:nvSpPr>
        <p:spPr>
          <a:xfrm>
            <a:off x="3635280" y="692280"/>
            <a:ext cx="237672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apht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8360" y="46944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كثر شيوعا عند الذين يعانون من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تهاب الكولون التقرحي وكذلك داء ك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شفى خلا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D0B-4EB4-4B25-9114-6037CD8B72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sciubba_fig2"/>
          <p:cNvPicPr/>
          <p:nvPr/>
        </p:nvPicPr>
        <p:blipFill>
          <a:blip r:embed="rId1"/>
          <a:stretch/>
        </p:blipFill>
        <p:spPr>
          <a:xfrm>
            <a:off x="1258920" y="1239840"/>
            <a:ext cx="5942160" cy="4189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62728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aph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603-9715-4698-A6F9-AFC87AFDB16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71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تقرح الفموي الفيروسي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petiform Ulc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sciubba_fig3"/>
          <p:cNvPicPr/>
          <p:nvPr/>
        </p:nvPicPr>
        <p:blipFill>
          <a:blip r:embed="rId1"/>
          <a:srcRect l="0" t="0" r="0" b="20426"/>
          <a:stretch/>
        </p:blipFill>
        <p:spPr>
          <a:xfrm>
            <a:off x="2000160" y="1857240"/>
            <a:ext cx="5400720" cy="3884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785880" y="6000840"/>
            <a:ext cx="7402320" cy="1068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بالإضافة للأماكن السابقة تصيب: قاعدة الفم و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2187-CBAB-4AFF-92B9-B1A4BF07D80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755640" y="2565360"/>
            <a:ext cx="16556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tis ul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5280" y="56358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ظهر تقرحات جديدة قبل شفاء الأولى لذلك يعتقد المرضى أن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تقرحات مستمر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Scan2000007"/>
          <p:cNvPicPr/>
          <p:nvPr/>
        </p:nvPicPr>
        <p:blipFill>
          <a:blip r:embed="rId1"/>
          <a:srcRect l="15288" t="13640" r="43513" b="60021"/>
          <a:stretch/>
        </p:blipFill>
        <p:spPr>
          <a:xfrm>
            <a:off x="2484360" y="692280"/>
            <a:ext cx="5545080" cy="458316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452-A19D-48AD-B93E-605641333F2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دبير التقرحات الفموية</a:t>
            </a:r>
            <a:br>
              <a:rPr sz="3600"/>
            </a:b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nagement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f Mouth Ul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قرحات الفموية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شائعة جد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28800" y="3214800"/>
            <a:ext cx="5715000" cy="33573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40A-8640-4132-A965-5C4013A28A6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aphtous - Herpetiform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ألم شديد – فقدان وزن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5F3-7A55-454D-AF0C-CF630C29084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حال كون السبب هو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مرض آخر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دوث التقرح في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مناطق أخرى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هبل – الفرج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حيانا تصاحب التقرحات الفموية مع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التهابات الأمعاء – آلام كولون – إسهالات متكر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هذه الحالات يجب أن ننصح المريض باستشارة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8420-2BB9-40D3-9F97-0CD8DDFF565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قرحات الفموية قد تسببها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بعض الأدوي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تأثير جانبي لها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سبرين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وغيرها من مضادات الالتهاب غير الستيروئي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الأدوية المضادة ل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سلفاسالاز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علاج بالأشع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A8B-8EFE-4699-BDB4-F5156491005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agement</a:t>
            </a:r>
            <a:br>
              <a:rPr sz="4000"/>
            </a:b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العلا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وصف الأدوية التي  </a:t>
            </a:r>
            <a:r>
              <a:rPr b="1" lang="ar-SY" sz="3600" spc="-1" strike="noStrike">
                <a:solidFill>
                  <a:srgbClr val="7030a0"/>
                </a:solidFill>
                <a:latin typeface="Arial"/>
              </a:rPr>
              <a:t>تخفف الألم وتقصر الزمن الازم للش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 المطهرات – كورتيزون – مخدرات موضعي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BF1-F330-441A-9C66-4D52BCA774C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agement</a:t>
            </a:r>
            <a:br>
              <a:rPr sz="4000"/>
            </a:b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العلا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الجي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الغسولات الفم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C758-CA6B-4FC2-B760-A17CA69A432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يخفف مدة وشدة التق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سبب الرئيسي لاستخدام مضادات البكتيريا في التقرحات الفموية </a:t>
            </a: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انتانات الجرثومية الثانوية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تي تحدث كثيراً والتي تزيد الألم وتؤخر الش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Arial"/>
              </a:rPr>
              <a:t>الكلورهيكسيدين يساعد على منع حدوث هذه الإنتانات لكنه لا يمنع تكرار الاص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997-421C-427E-965B-F0562D2785F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85840" y="836640"/>
            <a:ext cx="84009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أن يسبب استخدامه المتكرر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حدوث تبقعات بنية للأسن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ستعمل الغسول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مرتين باليوم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في الفم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لمدة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 دقيق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ويستمر باستعماله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اعة من زوال الأعر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ا يستخدم لدى الأطفال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تحت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01F-EF2B-40F1-B086-8F8CCDA6AAB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e5"/>
                </a:solidFill>
                <a:latin typeface="Arial"/>
              </a:rPr>
              <a:t>الستيروئيدات القشرية الموضعية</a:t>
            </a:r>
            <a:r>
              <a:rPr b="1" lang="ar-SY" sz="4400" spc="-1" strike="noStrike">
                <a:solidFill>
                  <a:srgbClr val="0000e5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001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هيدروكورتيزو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 بشكل حبيبات *حبة واح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و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تريامسينولو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شكل معج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نصح باستخدامها في حال وجود </a:t>
            </a:r>
            <a:r>
              <a:rPr b="1" lang="ar-SY" sz="3200" spc="-1" strike="noStrike">
                <a:solidFill>
                  <a:srgbClr val="7030a0"/>
                </a:solidFill>
                <a:latin typeface="Arial"/>
              </a:rPr>
              <a:t>إصابات فطرية 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6331-8D33-4A50-800A-9D6B87D7438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nalog in ORABASE  paste (Unipharma)</a:t>
            </a:r>
            <a:br>
              <a:rPr sz="3200"/>
            </a:br>
            <a:r>
              <a:rPr b="1" i="1" lang="ar-SY" sz="2400" spc="-1" strike="noStrike">
                <a:solidFill>
                  <a:srgbClr val="000000"/>
                </a:solidFill>
                <a:latin typeface="Arial"/>
              </a:rPr>
              <a:t>مستحضرات شبيهة لشركة دومنا وابن الهيث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ركيبه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تريامسينولون أسيتونيد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0.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رش(توزع) كمية قليلة من المعجون على المنطقة المصابة من غير أن تف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فضل استخدامه قبل الن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أن يستخدم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A9F3-E582-4114-B6BA-C31562A5EF6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مسكنات الأل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بنزيدامين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: غسول فموي أو إرذا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كولين ساليسيل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كلاهما ذات تأثير قصير ويستعملان في الحالات المؤلمة جدا من التقرح القلاعي الأك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251B-6A15-47A1-A553-8845E9E8664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دبير التقرحات الفموية</a:t>
            </a:r>
            <a:br>
              <a:rPr sz="3600"/>
            </a:b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nagement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of Mouth Ul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214800" y="2214720"/>
            <a:ext cx="2857320" cy="1312920"/>
          </a:xfrm>
          <a:prstGeom prst="rect">
            <a:avLst/>
          </a:prstGeom>
          <a:solidFill>
            <a:srgbClr val="1818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القلاع الأصغ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286080" y="3500280"/>
            <a:ext cx="2857680" cy="1312920"/>
          </a:xfrm>
          <a:prstGeom prst="rect">
            <a:avLst/>
          </a:prstGeom>
          <a:solidFill>
            <a:srgbClr val="1818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والقلاع الأكب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000160" y="4857840"/>
            <a:ext cx="5214960" cy="131292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والتقرحات الحلئية (الفيروس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9420-DD35-480A-8C5F-7ADC4AAE1DB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499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e-Flam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السعد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zydamine HCl 0.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شطف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ك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اعات ب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مكن أن يحدث النمل – الوخز اللس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لا يجوز استخدامها للأطفال تحت ا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مكن أن يمدد بالماء في حال حدوث الاصطبا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F78-BEFB-486F-B457-B721D736170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cal anaesthetics (e.g. lidocaine and benzoca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effective in producing temporary pain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pplication of the preparation may be don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DC6C-357F-4F80-B647-169F5B8665A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rofar</a:t>
            </a:r>
            <a:r>
              <a:rPr b="0" i="1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Novartis,MPI)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xonium chlo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ocaine H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مستحضر شبيه لشركة أوب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مرتين أو أكثر في اليوم بعد الوج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CCA-DBBD-4ED5-9352-E3961DB6969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0004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iravix (Arak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Arial"/>
              </a:rPr>
              <a:t>Rhubarb Extract and Salic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لعلاج التهابات الغشاء المخاطي للفم – الحلق – واللثة الملته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ركيب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حمض الساليسيليك وغليكوزيد الأنتراكينو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مستخرجة من نبات الراوند الص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طبق بواسطة الفرشاة عدة مرات يومياً على الأغشية الملته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يجب عدم غسل الفم مباشرة بعد الاست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80B3-F606-42BA-A8FD-A9EEFCF16F0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hubalvex 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cylic acid 1% - Rhubarb extract 5% glyce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وضع القليل من الجيل على المنطقة المصابة وتمسد قليلاً بلط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تكرر العملي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6048-532F-48E7-B43A-A0099568DD1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علاج التقرح الفيرو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iclo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ycloviran</a:t>
            </a:r>
            <a:r>
              <a:rPr b="1" i="1" lang="ar-SY" sz="3200" spc="-1" strike="noStrike">
                <a:solidFill>
                  <a:srgbClr val="c00000"/>
                </a:solidFill>
                <a:latin typeface="Arial"/>
              </a:rPr>
              <a:t>بحري</a:t>
            </a:r>
            <a:r>
              <a:rPr b="1" i="1" lang="ar-SY" sz="3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iclovir 200 mg Ca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iclovir 200 mg l 5 ml Su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جرع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غ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يام وجرعة الطفل (تحت السنتين) هي نصف جرعة البال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701-D405-4266-84AA-C088D181EC9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4572000" y="981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Scan2000007"/>
          <p:cNvPicPr/>
          <p:nvPr/>
        </p:nvPicPr>
        <p:blipFill>
          <a:blip r:embed="rId2"/>
          <a:srcRect l="15288" t="42743" r="42337" b="23643"/>
          <a:stretch/>
        </p:blipFill>
        <p:spPr>
          <a:xfrm>
            <a:off x="539640" y="476280"/>
            <a:ext cx="3745080" cy="340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Scan2000007"/>
          <p:cNvPicPr/>
          <p:nvPr/>
        </p:nvPicPr>
        <p:blipFill>
          <a:blip r:embed="rId3"/>
          <a:srcRect l="15288" t="20006" r="43513" b="60021"/>
          <a:stretch/>
        </p:blipFill>
        <p:spPr>
          <a:xfrm>
            <a:off x="395280" y="4221000"/>
            <a:ext cx="3529080" cy="2211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sciubba_fig2"/>
          <p:cNvPicPr/>
          <p:nvPr/>
        </p:nvPicPr>
        <p:blipFill>
          <a:blip r:embed="rId4"/>
          <a:stretch/>
        </p:blipFill>
        <p:spPr>
          <a:xfrm>
            <a:off x="4716360" y="3933720"/>
            <a:ext cx="3527640" cy="266868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A0B1-AB90-441F-876E-DFD42A574EF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سرطان الفم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al Can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ي تقرح في الفم يستمر لمدة 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أطول من 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 أسابيع</a:t>
            </a: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تطلب إحالة فورية إلى طبيب الأسنان أو إلى الطبيب لأنه قد يشير إلى مرض خطير مثل سرطان الف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مواقع تتضمن بشكل أساسي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أرضية اللسان أو الخ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سرطان الفم أكثر شيوعا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عند المدخنين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غير المدخ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أكثر شيوعا عند الرجال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خاصة فوق ال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لا يحدث ألم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ع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2010-170D-44F5-ABF2-20EE65980FB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Scan2000008"/>
          <p:cNvPicPr/>
          <p:nvPr/>
        </p:nvPicPr>
        <p:blipFill>
          <a:blip r:embed="rId1"/>
          <a:srcRect l="49393" t="73661" r="10584" b="0"/>
          <a:stretch/>
        </p:blipFill>
        <p:spPr>
          <a:xfrm>
            <a:off x="2195640" y="981000"/>
            <a:ext cx="5184720" cy="4765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211640" y="5805360"/>
            <a:ext cx="1727280" cy="94716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سرطان الف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526-E2FD-43F2-9C8B-4C2768297B6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الطفح الفموي الفط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قع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بيضاء منتش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لم – حرقة في اللسان – طعم غريب في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حدث في كل الأماكن لكن بشكل أساس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لسان – سقف الحنك – الشفاه والخد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حيانا يشتكي المريض من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فقدان الشه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151E-006C-4FAF-9B90-5AB76E00EA8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أسباب التقرحات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960" y="2214720"/>
            <a:ext cx="8229600" cy="200016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لرضوض – الإنتانات – التحسس لبعض الأد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عارض لمرض خطير مث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043A-ACE6-4EB2-9194-B8CCB0F5040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الطفح الفموي الفط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Candida-2"/>
          <p:cNvPicPr/>
          <p:nvPr/>
        </p:nvPicPr>
        <p:blipFill>
          <a:blip r:embed="rId1"/>
          <a:stretch/>
        </p:blipFill>
        <p:spPr>
          <a:xfrm>
            <a:off x="1071720" y="1500120"/>
            <a:ext cx="7715160" cy="514368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CFC-B42F-4F65-A312-E0304CA04CB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Scan2000008"/>
          <p:cNvPicPr/>
          <p:nvPr/>
        </p:nvPicPr>
        <p:blipFill>
          <a:blip r:embed="rId1"/>
          <a:srcRect l="52922" t="36374" r="15288" b="34559"/>
          <a:stretch/>
        </p:blipFill>
        <p:spPr>
          <a:xfrm>
            <a:off x="1187280" y="476280"/>
            <a:ext cx="6553440" cy="5105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1547640" y="5780160"/>
            <a:ext cx="5977080" cy="52056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داء المبيضات البي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93D3-A781-4D2B-8509-BACB3FA396F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004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نيستاتين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يعتب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أما المضاد الفطري: </a:t>
            </a: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ميكونازول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فيعتبرمن أدوية ا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C486-7083-4745-889B-76E8DCBCB4F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aktazol</a:t>
            </a:r>
            <a:r>
              <a:rPr b="1" i="1" lang="ar-SY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ral gel (Dom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conazole 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مكن تطبيق كمية من الجل بواسطة </a:t>
            </a:r>
            <a:r>
              <a:rPr b="1" lang="ar-SY" sz="2800" spc="-1" strike="noStrike">
                <a:solidFill>
                  <a:srgbClr val="ff0000"/>
                </a:solidFill>
                <a:latin typeface="Arial"/>
              </a:rPr>
              <a:t>أصبع نظيف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لى المنطقة المص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ما في حال كانت الإصابة منتشرة كثيرا فتستخدم كمية تعادل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ملعقة كبير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تطبق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رات في اليوم للبالغين والأطفال فوق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 ومرتين يومياً ل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الرضع وا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ة :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مل مرتين في الي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E329-53DF-405B-A67B-8F7849D01E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نصح المريض بالاحتفاظ بالجل في الفم أطول فترة ممكنة لزيادة زمن التم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جب متابعة العلاج لمدة يومين بعد اختفاء الأعرا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يتداخل الميكونازول مع العديد من الأدوية وبشكل أساسي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الوارفارين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 حيث يزداد تركيز الوارفارين الدم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مكن أن يسبب الغثيان والإقي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يجب تجنبه عموما في الح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508-201A-4D9E-9162-34A055C7BD4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5712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costatine oral susp (Uniphar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sta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مستحضرات شبيهة للشهباء وبركات وقنواتي وميديكو وفارماسير وآسيا( بعضها يوجد على شكل نقط فموية وكذلك مضغوطات ملبس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معلق فمو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للأطفال والكبار ملعقة صغير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قط فموية: للرضع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يجب أن يترك الدواء في الفم لبعض الوقت قبل أن يبل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27FB-8BB6-4A21-A50A-C0EE978D03F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Scan2000008"/>
          <p:cNvPicPr/>
          <p:nvPr/>
        </p:nvPicPr>
        <p:blipFill>
          <a:blip r:embed="rId1"/>
          <a:srcRect l="52922" t="36374" r="15288" b="34559"/>
          <a:stretch/>
        </p:blipFill>
        <p:spPr>
          <a:xfrm>
            <a:off x="0" y="1197000"/>
            <a:ext cx="4680000" cy="364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can2000008"/>
          <p:cNvPicPr/>
          <p:nvPr/>
        </p:nvPicPr>
        <p:blipFill>
          <a:blip r:embed="rId2"/>
          <a:srcRect l="49393" t="73661" r="10584" b="0"/>
          <a:stretch/>
        </p:blipFill>
        <p:spPr>
          <a:xfrm>
            <a:off x="4788000" y="1166760"/>
            <a:ext cx="3743280" cy="38466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5E2-2C55-4886-8596-3768BCDCA11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متى تجب الإحالة إلى الطبيب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مرار التقرح لأكثر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ساب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قدان وزن مراف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ذا حدث التقرح في أمكنة أخرى من الج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شك في وجود أثر جانبي للدو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سه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ذا لم يحدث تحسن بعد أسبوع من العل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751-2595-4896-8360-4D61D32037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تهاب اللثة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ingivit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سبب التهاب اللثة </a:t>
            </a: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هو بناء طبقة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البلا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laque</a:t>
            </a: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 بشكل متزايد على الأسن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يمكن تجنب ذلك من خلال التنظيف المنتظم ل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A0F-75D7-4955-820D-1032C576BF8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B88-2623-48F0-B268-E560473304C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عنصر نائب للمحتوى 3" descr="9348.jpg"/>
          <p:cNvPicPr/>
          <p:nvPr/>
        </p:nvPicPr>
        <p:blipFill>
          <a:blip r:embed="rId1"/>
          <a:stretch/>
        </p:blipFill>
        <p:spPr>
          <a:xfrm>
            <a:off x="1095480" y="928800"/>
            <a:ext cx="657216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775640" cy="468144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DD2-E710-43A9-85B7-B00F3ADFED7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191-A140-4FFB-8711-29399551C4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عنصر نائب للمحتوى 3" descr="toothdiagram.gif"/>
          <p:cNvPicPr/>
          <p:nvPr/>
        </p:nvPicPr>
        <p:blipFill>
          <a:blip r:embed="rId1"/>
          <a:stretch/>
        </p:blipFill>
        <p:spPr>
          <a:xfrm>
            <a:off x="1476360" y="857160"/>
            <a:ext cx="5857920" cy="52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عوامل المؤهبة لالتهاب اللث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1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رض السك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دخ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غذية السي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الاهتمام بالنظافة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انعات الحمل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لو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7CB6-F3A5-4201-B6DD-FCC8B35DC8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وصول إلى تشخيص تفري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تطور التهاب اللثة بشكل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غير ملفت للنظ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أنه يحدث بلا أعراض أو أ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أن يسأل الصيدلي المريض عن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طريقة تنظيف الأسنا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ذلك تكرار الزيارة لطبيب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10C2-329A-43BF-97BB-7A3F43D83C4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713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آلية تنظيف الأسن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التنظيف المبالغ فيه للأسنان قد يسبب نزيف أو تراجع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استخدام فرشاة أسنان آ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نزيف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دوث نزيف من غير رض أو سبب واضح يستدعي الإحال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3F6-015B-4718-BE60-9BCAF3625CD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تهاب اللثة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givit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مظاهر السريرية لالتهاب اللث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ورم واحمرار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زيف في حالة الضغط البسيط على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تشاهد طبقة البلا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qu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لى الأسنان التي يصعب الوصول إلي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رائحة كريهة ل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207-7977-4B03-945E-3B741D112A8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عنصر نائب للمحتوى 3" descr="bad-breath.jpg"/>
          <p:cNvPicPr/>
          <p:nvPr/>
        </p:nvPicPr>
        <p:blipFill>
          <a:blip r:embed="rId1"/>
          <a:stretch/>
        </p:blipFill>
        <p:spPr>
          <a:xfrm>
            <a:off x="2143080" y="1981080"/>
            <a:ext cx="4929120" cy="437220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40DF-BADA-4700-B660-6052DB01103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م هو المصدر الأساس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قد يكون هناك أسباب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00"/>
                </a:solidFill>
                <a:uFillTx/>
                <a:latin typeface="Arial"/>
              </a:rPr>
              <a:t>الفم</a:t>
            </a:r>
            <a:r>
              <a:rPr b="1" lang="ar-SY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بكتير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قص الأكسجين في الفم أثناء النوم (الحل تنظيف الأسنان  بالفرشاة – الطعام – المضمض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C98-0BD5-41FB-9F8D-3BA7BF7F46A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جفاف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م أثناء النوم (الحل تنظيف الأسنان بالفرشاة – الطعام – المضمضة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عض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طعم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البصل – الثوم 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حول - التدخ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E2FC-87BD-4708-8A8C-CCF290B6F0B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التهاب اللثة وتشكل الجيوب اللث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5-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لسان: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% من أسباب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230-50A3-4F7E-99DB-56BE4808151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نف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جي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لوزات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(سبب ثانو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معدة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(سبب غير شائ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أمراض جهازية: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لسكر – أمراض كلوية – إصابات الجهاز التنفسي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3E50-B210-4F5D-8C56-739758E871A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357120" y="542916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مريض قد يصف حدوث تقرح بشكل دائم والذي قد بدأ منذ الصغر ويستمرفي معاودة الظهور حتى ال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غالباً ما توجد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قصة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عائ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1357200" y="981000"/>
            <a:ext cx="6239160" cy="434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653-E0E1-42E4-8220-A6CAE321450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تشخي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عنصر نائب للمحتوى 3" descr="halitosis1.jpg"/>
          <p:cNvPicPr/>
          <p:nvPr/>
        </p:nvPicPr>
        <p:blipFill>
          <a:blip r:embed="rId1"/>
          <a:stretch/>
        </p:blipFill>
        <p:spPr>
          <a:xfrm>
            <a:off x="969840" y="2317680"/>
            <a:ext cx="7459920" cy="396900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A8D6-C4BB-4F62-A91A-E0376D7FA08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علاج</a:t>
            </a: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ظيف اللسان (جهاز خا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اول طعام خالي من البصل والث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اول علكة خالية من الس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عمال المستحضرات الفموية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ناية بنظافة الفم و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979-83BC-4B7B-ADE5-6426EFD96A1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حالات التي يجب استبعاد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856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تنكس دواعم السن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iodontosis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1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الة متقدمة من 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فس أعراض التهاب اللثة لكن المريض سيعاني م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نزيف تلق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مشاكل في التذ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رائحة فم 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قد يعاني المريض من فقدان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لا بد من الإحال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27E4-336C-4FE0-B196-176345F170E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عنصر نائب للمحتوى 3" descr="gingivitis.jpg"/>
          <p:cNvPicPr/>
          <p:nvPr/>
        </p:nvPicPr>
        <p:blipFill>
          <a:blip r:embed="rId1"/>
          <a:stretch/>
        </p:blipFill>
        <p:spPr>
          <a:xfrm>
            <a:off x="928800" y="928800"/>
            <a:ext cx="7215120" cy="471492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A41-5E27-48CC-A829-73237280900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6329-EA64-46C6-ACC8-9B05624A0CD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6040" y="54468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نزيف التلق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عنصر نائب للمحتوى 3" descr="gingivitis2.jpg"/>
          <p:cNvPicPr/>
          <p:nvPr/>
        </p:nvPicPr>
        <p:blipFill>
          <a:blip r:embed="rId1"/>
          <a:stretch/>
        </p:blipFill>
        <p:spPr>
          <a:xfrm>
            <a:off x="1500120" y="2286000"/>
            <a:ext cx="60008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تراجع الل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عنصر نائب للمحتوى 3" descr="GING1.jpg"/>
          <p:cNvPicPr/>
          <p:nvPr/>
        </p:nvPicPr>
        <p:blipFill>
          <a:blip r:embed="rId1"/>
          <a:stretch/>
        </p:blipFill>
        <p:spPr>
          <a:xfrm>
            <a:off x="1928880" y="2000160"/>
            <a:ext cx="5143320" cy="321480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7E6-8BFA-4770-8A0C-A57F177F045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فقدان الأسن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عنصر نائب للمحتوى 3" descr="laughing_man.jpg"/>
          <p:cNvPicPr/>
          <p:nvPr/>
        </p:nvPicPr>
        <p:blipFill>
          <a:blip r:embed="rId1"/>
          <a:stretch/>
        </p:blipFill>
        <p:spPr>
          <a:xfrm>
            <a:off x="2500200" y="1643040"/>
            <a:ext cx="3786480" cy="474840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ECC-AB49-4AE5-BD6F-8A35F6AC9FF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تشخي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عنصر نائب للمحتوى 5" descr="breath-BAD.gif"/>
          <p:cNvPicPr/>
          <p:nvPr/>
        </p:nvPicPr>
        <p:blipFill>
          <a:blip r:embed="rId1"/>
          <a:stretch/>
        </p:blipFill>
        <p:spPr>
          <a:xfrm>
            <a:off x="1571760" y="2071800"/>
            <a:ext cx="6000480" cy="421164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7DD-28C2-445E-A0D4-5D826B4759F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نزيف التلق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هناك العديد من الأمراض التي تسبب النزيف التلقائي للث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لوكيمي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كون هناك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أعراض مرافق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عب شديد – ضعف عام – أعراض جهازية كالح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بد من الإحالة مباشر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38B9-A628-4625-8D68-3E9A9DD7468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- نزيف اللثة المسبب من قبل الأد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الهيبا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الوارفا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مضادات الالتهاب غير الستيروئيد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76A-9AAD-4A82-9177-DFD01C742A6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428760" y="60278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قرح القلاعي الأصغري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شائع عند النساء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كثر وفي الفترة العمرية (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سن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019F-12A1-4BC5-AAB2-53ACCF4D25E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- أدوية تسبب (فرط تنسج اللثة) تورم الل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فينيتوئ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سيكلوسبو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نيفيديب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8E9-C4A0-4AAD-873D-6D3F337B0A5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علاج التهاب ال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ناية بالنظافة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ريش الأسنان بالطريقة الصحيح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عمال الخيوط السنية بعد تفريش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خدام مستحضرات العناية ب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783-80AC-4E4D-8041-8346F2E215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C023-495D-4098-8801-AB27802C546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صورة 3" descr="brush_teeth.jpg"/>
          <p:cNvPicPr/>
          <p:nvPr/>
        </p:nvPicPr>
        <p:blipFill>
          <a:blip r:embed="rId1"/>
          <a:stretch/>
        </p:blipFill>
        <p:spPr>
          <a:xfrm>
            <a:off x="1176480" y="1285920"/>
            <a:ext cx="725328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5FA-DEB5-4CDA-B8AC-0DD53A91F69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عنصر نائب للمحتوى 3" descr="de7_dental_health_tips.jpg"/>
          <p:cNvPicPr/>
          <p:nvPr/>
        </p:nvPicPr>
        <p:blipFill>
          <a:blip r:embed="rId1"/>
          <a:stretch/>
        </p:blipFill>
        <p:spPr>
          <a:xfrm>
            <a:off x="1042920" y="1000080"/>
            <a:ext cx="707256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616-3C07-4A91-89F1-FF581D6900B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عنصر نائب للمحتوى 3" descr="cleaning_flossing.gif"/>
          <p:cNvPicPr/>
          <p:nvPr/>
        </p:nvPicPr>
        <p:blipFill>
          <a:blip r:embed="rId1"/>
          <a:stretch/>
        </p:blipFill>
        <p:spPr>
          <a:xfrm>
            <a:off x="7763040" y="223848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335" name="صورة 4" descr="flossing.jpg"/>
          <p:cNvPicPr/>
          <p:nvPr/>
        </p:nvPicPr>
        <p:blipFill>
          <a:blip r:embed="rId2"/>
          <a:stretch/>
        </p:blipFill>
        <p:spPr>
          <a:xfrm>
            <a:off x="357120" y="157176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36" name="صورة 5" descr="flossing1.jpg"/>
          <p:cNvPicPr/>
          <p:nvPr/>
        </p:nvPicPr>
        <p:blipFill>
          <a:blip r:embed="rId3"/>
          <a:stretch/>
        </p:blipFill>
        <p:spPr>
          <a:xfrm>
            <a:off x="4786200" y="642960"/>
            <a:ext cx="3562560" cy="3181320"/>
          </a:xfrm>
          <a:prstGeom prst="rect">
            <a:avLst/>
          </a:prstGeom>
          <a:ln w="0">
            <a:noFill/>
          </a:ln>
        </p:spPr>
      </p:pic>
      <p:pic>
        <p:nvPicPr>
          <p:cNvPr id="337" name="صورة 6" descr="flossing_en-1.jpg"/>
          <p:cNvPicPr/>
          <p:nvPr/>
        </p:nvPicPr>
        <p:blipFill>
          <a:blip r:embed="rId4"/>
          <a:stretch/>
        </p:blipFill>
        <p:spPr>
          <a:xfrm>
            <a:off x="4071960" y="4000680"/>
            <a:ext cx="2730600" cy="203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مستحضرات المستخد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16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تميز كل المستحضرات الفموية المستخدمة تقريبا بعدم حدوث أية تفاعلات أو تداخلات دوائية ما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عدا البوفيدون أيود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أثيرات الجانبية بس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استخدامها من قبل كل المرض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خدم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دقيقة ثم يتم إخراجها من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F69-F92E-4182-B41C-BC7E7B48AC8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مكن أن يسبب استخدامه المتكرر حدوث تبقعات بنية للأسن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ستعمل الغسول مرتين باليوم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في الفم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دقيقة ويستمر باستعماله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اعة من زوال الأعر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ا يستخدم لدى ا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126-E1FF-4F85-9FE8-0B37D08B3E0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itol Antiseptic mouthri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hexidine 0.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عمل مركزا من غير تمديد بعد تنظيف الأسنان بالفرش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لأ نصف الغطاء ويترك في الف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صباحاً ومساءً مع الغرغ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ستعمل للأطفال دون الساد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عاد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العبوة بعد الاستعمال إلى الكرتونة لحماية المواد الفعالة من تأثير الض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316-1A0E-40ED-8B9C-AEF2A5BFFB7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xine (mouthwa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hexidine gluc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نع تكوين بلاك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علاج والوقاية من 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علاج تقرحات وقلاع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1CA-AF4D-4CED-98A7-575413975B1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1835280" y="446076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ينصح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بتمديد الغسول بنسبة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% 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بالماء قبل الاستخدام في حال حدوث إزع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ي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مرتين أ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حدث خدر بس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09A-EC5D-4749-BB8C-44903016083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C12-F623-4659-ACBC-3B664E46129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1280" y="5589720"/>
            <a:ext cx="8604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عدد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طبيعة التقرح: القطر أصغر من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ملم – يظهر كمركز أبيض أو مصفر مع حواف حمراء محي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عنصر نائب للمحتوى 3" descr="laser-teeth-whitening.jpg"/>
          <p:cNvPicPr/>
          <p:nvPr/>
        </p:nvPicPr>
        <p:blipFill>
          <a:blip r:embed="rId1"/>
          <a:stretch/>
        </p:blipFill>
        <p:spPr>
          <a:xfrm>
            <a:off x="382680" y="907920"/>
            <a:ext cx="8292960" cy="52070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6AA-F394-4118-A701-C9B51E3C8E8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عنصر نائب للمحتوى 3" descr="tooth whitening.jpg"/>
          <p:cNvPicPr/>
          <p:nvPr/>
        </p:nvPicPr>
        <p:blipFill>
          <a:blip r:embed="rId1"/>
          <a:stretch/>
        </p:blipFill>
        <p:spPr>
          <a:xfrm>
            <a:off x="720720" y="1000080"/>
            <a:ext cx="7280280" cy="486720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029-5E00-4F6C-BF5A-A7FF7D7D34B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B43-B86B-4248-B875-C59F95DEBBB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عنصر نائب للمحتوى 3" descr="teeth_whitener.jpg"/>
          <p:cNvPicPr/>
          <p:nvPr/>
        </p:nvPicPr>
        <p:blipFill>
          <a:blip r:embed="rId1"/>
          <a:stretch/>
        </p:blipFill>
        <p:spPr>
          <a:xfrm>
            <a:off x="1258920" y="692280"/>
            <a:ext cx="6337440" cy="553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vidon io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ي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ألا تستخدم لفترة تزيد على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تجنب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ستخدام هذا المستحضر في 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حالة الحمل – الإرضاع – المرضى الذين يعانون من مشاكل في الغدة الدر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4E6-2770-4A42-A20F-A79C520CAC1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ex (gargle solution) Sh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dium Fluoride – Menthol – Triclosan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مطهر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و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ستخدام: الوقاية من التهاب اللثة و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2C4-FA00-4353-9482-BCB44644256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septic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oral solution) Ibn 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dium Borate – Phenol – Menthol -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طهر في التهابات الفم والأغشية المخاطية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تهاب اللثة، بعد قلع الأسنان والعمليات الجراحية، 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492-281E-4901-99A0-C05DBAC3541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henoseptic (oral solution) 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rax– Phenol – Menthol – Sodium Bi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طهر في التهابات الفم والأغشية المخاطيةوالتهاب اللثة، بعد قلع الأسنان والعمليات الجراحية، 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CF5-E730-47A0-AA7F-8E8200CA20D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ogencyl (mouthwash,toothpas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hol – Provitamin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خفف من احتقان ونزف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ع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 بعد تنظيف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لأ نصف الغطاء بالمحلول ويترك في الف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ثم المضمضة ثم يط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غسل الفم بع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421-32F0-4BC1-A7F3-5144250AAB8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785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esticol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(toothpas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ثاني كربونات الصوديوم – طرطرات البوتاسيوم والصوديوم – غليسي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خدم للوقاية والمعالجة من تحسس عنق الأسنان و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ات وتبدلات ونزوف اللثة المرافقة للح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قلاع – الجروح الناشئة عن الأسنان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كشف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890-6BE6-463F-81D5-BDB894EB4CA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مضادات النخو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لوريدات: هناك الفلور الجهازي والفلور الموض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فلور الجهاز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اه الشر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تحضرات : نقط فموية وذلك ابتداء من عم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شه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النسبة للأطفال الأكبر سناً: أقرا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C6C-28AA-4DB8-B1FB-CE1AEE3C3DA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5E1-04DE-4B39-A900-4C2E83D6F1B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9640" y="59245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أماكن المعتادة هي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حواف اللسان – داخل الشفاه والخد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مضادات النخ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فلور الموضع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exa-Flour (sol) 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Flouride- chlorhexidine gluc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FF82-804E-4F43-9296-A4C6063C6C0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dium 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Fluoride 2.2 mg – 1.1 mg – 0.55 mg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تجنب تناول الطعام أو الشراب أو غسل الفم لمدة 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 دقي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تجنب بلع المستح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7d"/>
                </a:solidFill>
                <a:latin typeface="Arial"/>
              </a:rPr>
              <a:t>معاجين الأسنان الحاوية على الفل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9E77-39B8-46E4-B2E6-0D122F2F322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5:36:48Z</dcterms:created>
  <dc:creator/>
  <dc:description/>
  <dc:language>en-US</dc:language>
  <cp:lastModifiedBy>user</cp:lastModifiedBy>
  <dcterms:modified xsi:type="dcterms:W3CDTF">2014-10-18T18:11:31Z</dcterms:modified>
  <cp:revision>771</cp:revision>
  <dc:subject/>
  <dc:title>الشريحة 1</dc:title>
</cp:coreProperties>
</file>