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90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89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91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4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91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90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10.png" ContentType="image/png"/>
  <Override PartName="/ppt/media/image5.jpeg" ContentType="image/jpeg"/>
  <Override PartName="/ppt/media/image26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7.png" ContentType="image/png"/>
  <Override PartName="/ppt/media/image15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24.jpeg" ContentType="image/jpeg"/>
  <Override PartName="/ppt/media/image3.jpeg" ContentType="image/jpeg"/>
  <Override PartName="/ppt/media/image4.jpeg" ContentType="image/jpeg"/>
  <Override PartName="/ppt/media/image2.png" ContentType="image/png"/>
  <Override PartName="/ppt/media/image2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91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Y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Y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FCDD5-E3CD-4438-8AC1-FFCE05B121AB}" type="slidenum">
              <a:rPr b="0" lang="ar-SY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89.xml.rels><?xml version="1.0" encoding="UTF-8"?>
<Relationships xmlns="http://schemas.openxmlformats.org/package/2006/relationships"><Relationship Id="rId1" Type="http://schemas.openxmlformats.org/officeDocument/2006/relationships/slide" Target="../slides/slide89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_rels/notesSlide91.xml.rels><?xml version="1.0" encoding="UTF-8"?>
<Relationships xmlns="http://schemas.openxmlformats.org/package/2006/relationships"><Relationship Id="rId1" Type="http://schemas.openxmlformats.org/officeDocument/2006/relationships/slide" Target="../slides/slide91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5CBD9-399B-4E42-B7E3-C723773E077E}" type="slidenum">
              <a:rPr b="0" lang="ar-S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4CA18-2BDE-4F91-9D19-D8CC24712822}" type="slidenum">
              <a:rPr b="0" lang="ar-S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2104C-2B68-4E49-9F8F-2CDC46F58B66}" type="slidenum">
              <a:rPr b="0" lang="ar-S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524EC-63E0-4319-BAB4-E8D98A9248BB}" type="slidenum">
              <a:rPr b="0" lang="ar-S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35D1C-CFFB-4970-9AF9-094A84284DBB}" type="slidenum">
              <a:rPr b="0" lang="ar-S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2FB16-214D-487C-8329-E1C8492E4C7E}" type="slidenum">
              <a:rPr b="0" lang="ar-S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B9AA5-CCEB-4B96-A4BB-27E7E274108E}" type="slidenum">
              <a:rPr b="0" lang="ar-S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24759-F1FC-4605-8576-A7251CD75892}" type="slidenum">
              <a:rPr b="0" lang="ar-S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8C53E-1C4B-4BEB-9EC6-C12224B0A67E}" type="slidenum">
              <a:rPr b="0" lang="ar-S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AEFD1-F14D-4389-8FE6-DBA66B5132A3}" type="slidenum">
              <a:rPr b="0" lang="ar-S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56029-CBCB-4AAE-B511-DFE739F55FF6}" type="slidenum">
              <a:rPr b="0" lang="ar-S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91F1B-4B8C-43C2-B0F2-4C123D9B0E27}" type="slidenum">
              <a:rPr b="0" lang="ar-S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C9EAA-0D3F-4544-B741-09AA546E3453}" type="slidenum">
              <a:rPr b="0" lang="ar-S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71A7F-D7F0-472A-A925-64D3A5669A22}" type="slidenum">
              <a:rPr b="0" lang="ar-S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F66AC-1820-401C-BD5F-D225A7D8417A}" type="slidenum">
              <a:rPr b="0" lang="ar-S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8D90A-8B6A-4894-824E-8EBD148422EE}" type="slidenum">
              <a:rPr b="0" lang="ar-S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4F132-1DEC-4731-BCB5-D80233D1385D}" type="slidenum">
              <a:rPr b="0" lang="ar-S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0ECB6-4B1B-4016-A713-A7DC82EDD325}" type="slidenum">
              <a:rPr b="0" lang="ar-S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4BDEE-4A6A-4686-9D31-05A2AA06EB4B}" type="slidenum">
              <a:rPr b="0" lang="ar-S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E8D7C-4D0A-43BA-ACE9-0E9A8AA96CF3}" type="slidenum">
              <a:rPr b="0" lang="ar-S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FC7B2-DD6A-4BD0-9CED-CF0912F6ED55}" type="slidenum">
              <a:rPr b="0" lang="ar-S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968B6-978F-40EE-99EB-5A6FE496EA70}" type="slidenum">
              <a:rPr b="0" lang="ar-S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A0562-61B0-4012-B142-3C38D82B463B}" type="slidenum">
              <a:rPr b="0" lang="ar-S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1DDDC-29E9-45C4-BB29-6CB966B750D4}" type="slidenum">
              <a:rPr b="0" lang="ar-S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C230A-13CE-4768-9CDB-66580913678E}" type="slidenum">
              <a:rPr b="0" lang="ar-S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3441D-A652-423F-8D52-BCF317AD907B}" type="slidenum">
              <a:rPr b="0" lang="ar-S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36114-B03B-4510-BCA9-A552D8C139FF}" type="slidenum">
              <a:rPr b="0" lang="ar-S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0166E-9478-425D-BA1A-1889FF6FD4D7}" type="slidenum">
              <a:rPr b="0" lang="ar-S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A405D-78E5-4E37-B1E0-B784A660160A}" type="slidenum">
              <a:rPr b="0" lang="ar-S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ABBEA-62B6-465F-8199-DA589E683E42}" type="slidenum">
              <a:rPr b="0" lang="ar-S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5C7A1-BA34-4B94-B7DD-D48BBDB4F783}" type="slidenum">
              <a:rPr b="0" lang="ar-S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B61E1-B67B-474D-9871-6A37899D51A1}" type="slidenum">
              <a:rPr b="0" lang="ar-S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A8CC5-491F-4F92-A6DE-1E52396C2FCD}" type="slidenum">
              <a:rPr b="0" lang="ar-S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06EFC-6B42-44A5-95DE-A504CEF69793}" type="slidenum">
              <a:rPr b="0" lang="ar-S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D96BA-606B-44BE-AFF7-46A2458E2B56}" type="slidenum">
              <a:rPr b="0" lang="ar-S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80B2C-4E28-46A6-A2BF-8E4CDFC691FF}" type="slidenum">
              <a:rPr b="0" lang="ar-S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167AA-0D06-4122-8BC5-B0A885DDB89E}" type="slidenum">
              <a:rPr b="0" lang="ar-S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7BE43-303F-4F45-873F-F57626C97D57}" type="slidenum">
              <a:rPr b="0" lang="ar-S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AB104-999E-483D-B00D-A1C692F0A02F}" type="slidenum">
              <a:rPr b="0" lang="ar-S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67C16-5FDC-4EDA-9AD5-DC8BCB19D4F1}" type="slidenum">
              <a:rPr b="0" lang="ar-S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A674C-DE4F-4CF0-94E9-9E94A3646C1A}" type="slidenum">
              <a:rPr b="0" lang="ar-S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6E994-4788-46E9-8484-3489FF27404C}" type="slidenum">
              <a:rPr b="0" lang="ar-S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AE967-D998-4835-B7A9-273A35A2CE96}" type="slidenum">
              <a:rPr b="0" lang="ar-S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45EE5-4DE3-4C18-967F-0D7368DCBD62}" type="slidenum">
              <a:rPr b="0" lang="ar-S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3A2C4-20C1-4603-8415-B031E6D2D59D}" type="slidenum">
              <a:rPr b="0" lang="ar-S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F4AD5-51F7-416C-B21D-8A14EA14EACC}" type="slidenum">
              <a:rPr b="0" lang="ar-S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E3152-0457-46F0-960C-01A02C1A11DE}" type="slidenum">
              <a:rPr b="0" lang="ar-S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E2730-E362-4DAB-82B2-5C56747ADCB2}" type="slidenum">
              <a:rPr b="0" lang="ar-S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8DB86-295E-4649-A506-CEAF54D30E62}" type="slidenum">
              <a:rPr b="0" lang="ar-S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A0461-C76B-4ABE-AE2D-C8A61E4133A6}" type="slidenum">
              <a:rPr b="0" lang="ar-S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B07BB-7084-4354-98F7-BDB1F49771D4}" type="slidenum">
              <a:rPr b="0" lang="ar-S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55568-99ED-4EE1-BCC6-4C20D059EB5B}" type="slidenum">
              <a:rPr b="0" lang="ar-S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C50B8-554F-4AFB-B5C1-A8D0F772CE91}" type="slidenum">
              <a:rPr b="0" lang="ar-S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1991E-1FE5-41D5-AC2F-AA7C11178E77}" type="slidenum">
              <a:rPr b="0" lang="ar-S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8F099-53BB-45FA-9B14-90246C64EC02}" type="slidenum">
              <a:rPr b="0" lang="ar-S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B2724-1A11-4A35-96D7-63401D902DF1}" type="slidenum">
              <a:rPr b="0" lang="ar-S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A7014-E2ED-4E5B-8620-D07AC5E1337F}" type="slidenum">
              <a:rPr b="0" lang="ar-S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F5B39-C6EF-452B-B5DC-D00D9BD9E9C1}" type="slidenum">
              <a:rPr b="0" lang="ar-S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2E817-BCED-4423-9C9E-59CE3F371BF3}" type="slidenum">
              <a:rPr b="0" lang="ar-S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103D5-18FB-4BEB-A744-98452A544894}" type="slidenum">
              <a:rPr b="0" lang="ar-S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180DA-71CD-494D-9402-C661B15BFAA9}" type="slidenum">
              <a:rPr b="0" lang="ar-S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306BD-39F2-4155-8397-7278250318CC}" type="slidenum">
              <a:rPr b="0" lang="ar-S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7A8E2-9C65-41A6-AC4B-3EDE3DAB102B}" type="slidenum">
              <a:rPr b="0" lang="ar-S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7D55A-7354-428D-A2F3-071CB5A2C427}" type="slidenum">
              <a:rPr b="0" lang="ar-S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2AF78-6814-41DF-858A-4992E36D6F7A}" type="slidenum">
              <a:rPr b="0" lang="ar-S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1442D-8CA7-4D45-BF66-52C83000F5E8}" type="slidenum">
              <a:rPr b="0" lang="ar-S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E6703-AF8C-44FE-A9A8-81F7C4ADF8D3}" type="slidenum">
              <a:rPr b="0" lang="ar-S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14B05-37A6-45E4-B9B5-143DE1B69D9E}" type="slidenum">
              <a:rPr b="0" lang="ar-S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F5A47-C963-413C-8D36-06173FB494D9}" type="slidenum">
              <a:rPr b="0" lang="ar-S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36CDA-D2F3-49AE-A248-A72130639E0C}" type="slidenum">
              <a:rPr b="0" lang="ar-S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23CFF-D49D-499A-88FC-D69B99B9CBB4}" type="slidenum">
              <a:rPr b="0" lang="ar-S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67CBC-2A1B-4284-B0F0-C45DADF2ACB2}" type="slidenum">
              <a:rPr b="0" lang="ar-S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DBBFF-3A11-4ACC-BD06-8311E7716270}" type="slidenum">
              <a:rPr b="0" lang="ar-S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71633-94E3-4534-8408-34643E168558}" type="slidenum">
              <a:rPr b="0" lang="ar-S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9CAB8-3ACD-4A7D-BD43-11FC53E331E7}" type="slidenum">
              <a:rPr b="0" lang="ar-S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B8130-6743-4BF8-A4E4-4C35C4150FBF}" type="slidenum">
              <a:rPr b="0" lang="ar-S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1E708-7025-42CE-8DB7-D241568473F4}" type="slidenum">
              <a:rPr b="0" lang="ar-S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5F979-40D5-4D22-929B-95F6E3D5AB99}" type="slidenum">
              <a:rPr b="0" lang="ar-S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111BC-7D9B-4F21-9321-1173757A0D20}" type="slidenum">
              <a:rPr b="0" lang="ar-S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725DC-DA7F-4B52-B9DD-94B8F9CA70FA}" type="slidenum">
              <a:rPr b="0" lang="ar-S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0898B-B64D-47D3-A1AF-123FA2E8AFF4}" type="slidenum">
              <a:rPr b="0" lang="ar-S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FDF9D-EAEE-4843-BCA6-618126A4AF2A}" type="slidenum">
              <a:rPr b="0" lang="ar-S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DE053-CAF7-4A20-A1E2-F2E8F6964317}" type="slidenum">
              <a:rPr b="0" lang="ar-S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A34D0-8622-4CAD-B07E-86B3C1058C4B}" type="slidenum">
              <a:rPr b="0" lang="ar-S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B4E79-74FB-4986-B7F4-9E2FC84DAD33}" type="slidenum">
              <a:rPr b="0" lang="ar-S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3949A-52B0-41C5-B2E8-7E5312E46CF0}" type="slidenum">
              <a:rPr b="0" lang="ar-S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760F2-0D37-4C57-81DC-26816A66A2D6}" type="slidenum">
              <a:rPr b="0" lang="ar-S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09B44-26FD-4F1C-BB4D-1E4FDC0F89B9}" type="slidenum">
              <a:rPr b="0" lang="ar-S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10900-892D-45B4-8EFF-7793F9AB86B4}" type="slidenum">
              <a:rPr b="0" lang="ar-S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D421CB-81CC-4822-A052-2246C1DBB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2D2864-C4B1-4A48-86ED-46C78F92B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9636A9-7B3D-43BB-9F62-604852171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E15C43-D50F-4D3A-909C-224E4A7DB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7841E-062D-4E57-A8F6-48805BE9E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F7399-6CB4-4E3D-9AC4-FC78507B8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7FD87-ECB6-4BFF-B63A-2E32BE993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62660-FB51-4833-9334-275D053AF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F1C98-3E7A-4EC9-847A-1DFAB332B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1A282-86A1-448D-B288-0ADE4DFFB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567B3-A990-4C2D-850D-239C8ECB9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17E704-2856-4DF9-BBE7-0A6BE69E4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CD2B7-C724-407C-A6D6-5FC781253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413F8-8948-467F-B403-59DF07504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A8247-9931-4595-A396-C2AE2A4D1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43813-60C3-4206-AB19-DE72763D2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CA7FE-1C46-4B06-A0C3-F25250431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F557C5-0D75-4CCC-B21E-2F87AA1A5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E07678-5C3F-4DBA-9460-F68F297AA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1518B8-E5BA-461D-BECB-24EBC8AA9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A63C76-BDA5-4942-8C91-CF6A474E2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380A2E-30AA-44B6-9BDB-D07461A85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26E065-DB35-47CE-BC63-B161F50E5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A3D617-7F7F-443E-9AB3-8C3D6CEFB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8C206-3DD4-4F57-8355-6B1CC6C4EB71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58656-52E3-4533-847E-705619B6F955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0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6000" spc="-1" strike="noStrike">
                <a:solidFill>
                  <a:srgbClr val="ffffff"/>
                </a:solidFill>
                <a:latin typeface="Arial"/>
              </a:rPr>
              <a:t>بعض الأمراض الفموية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400" spc="-1" strike="noStrike">
                <a:solidFill>
                  <a:srgbClr val="000000"/>
                </a:solidFill>
                <a:latin typeface="Arial"/>
              </a:rPr>
              <a:t>المحاضرة الخامسة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400" spc="-1" strike="noStrike">
                <a:solidFill>
                  <a:srgbClr val="000000"/>
                </a:solidFill>
                <a:latin typeface="Arial"/>
              </a:rPr>
              <a:t>2014/2015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2878B-65EE-483A-81B4-8000B2A25BED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1B209-7664-4139-B0D1-F3203E7774B8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6"/>
          <p:cNvSpPr/>
          <p:nvPr/>
        </p:nvSpPr>
        <p:spPr>
          <a:xfrm>
            <a:off x="539640" y="5924520"/>
            <a:ext cx="806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600" spc="-1" strike="noStrike">
                <a:solidFill>
                  <a:srgbClr val="ff0000"/>
                </a:solidFill>
                <a:latin typeface="Arial"/>
              </a:rPr>
              <a:t>تشفى عادة في أقل من أسبو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8" descr="Scan2000006"/>
          <p:cNvPicPr/>
          <p:nvPr/>
        </p:nvPicPr>
        <p:blipFill>
          <a:blip r:embed="rId1"/>
          <a:srcRect l="5880" t="55474" r="57626" b="23643"/>
          <a:stretch/>
        </p:blipFill>
        <p:spPr>
          <a:xfrm>
            <a:off x="900000" y="981000"/>
            <a:ext cx="6696360" cy="466416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7"/>
          <p:cNvSpPr/>
          <p:nvPr/>
        </p:nvSpPr>
        <p:spPr>
          <a:xfrm>
            <a:off x="3203640" y="620640"/>
            <a:ext cx="3024000" cy="52056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or aphto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9360">
            <a:solidFill>
              <a:srgbClr val="0000cc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4400" spc="-1" strike="noStrike">
                <a:solidFill>
                  <a:srgbClr val="000000"/>
                </a:solidFill>
                <a:latin typeface="Arial"/>
              </a:rPr>
              <a:t>أ</a:t>
            </a:r>
            <a:r>
              <a:rPr b="1" lang="ar-SY" sz="4400" spc="-1" strike="noStrike">
                <a:solidFill>
                  <a:srgbClr val="c00000"/>
                </a:solidFill>
                <a:latin typeface="Arial"/>
              </a:rPr>
              <a:t>سباب القلاع الأصغر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6"/>
          <p:cNvSpPr/>
          <p:nvPr/>
        </p:nvSpPr>
        <p:spPr>
          <a:xfrm>
            <a:off x="500040" y="2357280"/>
            <a:ext cx="8064360" cy="51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600" spc="-1" strike="noStrike">
                <a:solidFill>
                  <a:srgbClr val="ff0000"/>
                </a:solidFill>
                <a:latin typeface="Arial"/>
              </a:rPr>
              <a:t>نقص الحديد – الفولات – الزنك – فيتامين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B12</a:t>
            </a:r>
            <a:r>
              <a:rPr b="0" lang="ar-SY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ar-SY" sz="3600" spc="-1" strike="noStrike">
                <a:solidFill>
                  <a:srgbClr val="000000"/>
                </a:solidFill>
                <a:latin typeface="Arial"/>
              </a:rPr>
              <a:t>يمكن أن يحدث </a:t>
            </a:r>
            <a:r>
              <a:rPr b="0" lang="ar-SY" sz="3600" spc="-1" strike="noStrike">
                <a:solidFill>
                  <a:srgbClr val="1818ff"/>
                </a:solidFill>
                <a:latin typeface="Arial"/>
              </a:rPr>
              <a:t>التهاب اللسان وزوايا الف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600" spc="-1" strike="noStrike">
                <a:solidFill>
                  <a:srgbClr val="000000"/>
                </a:solidFill>
                <a:latin typeface="Arial"/>
              </a:rPr>
              <a:t>أحيانا </a:t>
            </a:r>
            <a:r>
              <a:rPr b="0" lang="ar-SY" sz="3600" spc="-1" strike="noStrike">
                <a:solidFill>
                  <a:srgbClr val="ff0000"/>
                </a:solidFill>
                <a:latin typeface="Arial"/>
              </a:rPr>
              <a:t>الطعام </a:t>
            </a:r>
            <a:r>
              <a:rPr b="0" lang="ar-SY" sz="3600" spc="-1" strike="noStrike">
                <a:solidFill>
                  <a:srgbClr val="000000"/>
                </a:solidFill>
                <a:latin typeface="Arial"/>
              </a:rPr>
              <a:t>هو المسب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88B4A-4D29-446F-BCD2-AC82996BD44D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6"/>
          <p:cNvSpPr/>
          <p:nvPr/>
        </p:nvSpPr>
        <p:spPr>
          <a:xfrm>
            <a:off x="500040" y="1285920"/>
            <a:ext cx="8064360" cy="1922040"/>
          </a:xfrm>
          <a:prstGeom prst="rect">
            <a:avLst/>
          </a:prstGeom>
          <a:noFill/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4000" spc="-1" strike="noStrike">
                <a:solidFill>
                  <a:srgbClr val="000000"/>
                </a:solidFill>
                <a:latin typeface="Arial"/>
              </a:rPr>
              <a:t>ظهور هذه التقرحات يمكن أن يكون تاليا </a:t>
            </a:r>
            <a:r>
              <a:rPr b="0" lang="ar-SY" sz="4000" spc="-1" strike="noStrike">
                <a:solidFill>
                  <a:srgbClr val="ff0000"/>
                </a:solidFill>
                <a:latin typeface="Arial"/>
              </a:rPr>
              <a:t>لر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6"/>
          <p:cNvSpPr/>
          <p:nvPr/>
        </p:nvSpPr>
        <p:spPr>
          <a:xfrm>
            <a:off x="500040" y="2884320"/>
            <a:ext cx="8064360" cy="1922040"/>
          </a:xfrm>
          <a:prstGeom prst="rect">
            <a:avLst/>
          </a:prstGeom>
          <a:noFill/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000" spc="-1" strike="noStrike">
                <a:solidFill>
                  <a:srgbClr val="ff0000"/>
                </a:solidFill>
                <a:latin typeface="Arial"/>
              </a:rPr>
              <a:t>أطقم الأسنان</a:t>
            </a:r>
            <a:r>
              <a:rPr b="0" lang="ar-SY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ar-SY" sz="4000" spc="-1" strike="noStrike">
                <a:solidFill>
                  <a:srgbClr val="000000"/>
                </a:solidFill>
                <a:latin typeface="Arial"/>
              </a:rPr>
              <a:t>غير الملائمة يمكن أن تسبب التقر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5286240" y="4699080"/>
            <a:ext cx="3216240" cy="1922040"/>
          </a:xfrm>
          <a:prstGeom prst="rect">
            <a:avLst/>
          </a:prstGeom>
          <a:noFill/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000" spc="-1" strike="noStrike">
                <a:solidFill>
                  <a:srgbClr val="ff0000"/>
                </a:solidFill>
                <a:latin typeface="Arial"/>
              </a:rPr>
              <a:t>شائع عند النسا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33168-0534-4B3E-A78B-CEB228E45B4B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6"/>
          <p:cNvSpPr/>
          <p:nvPr/>
        </p:nvSpPr>
        <p:spPr>
          <a:xfrm>
            <a:off x="571680" y="2357280"/>
            <a:ext cx="8064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600" spc="-1" strike="noStrike">
                <a:solidFill>
                  <a:srgbClr val="ff0000"/>
                </a:solidFill>
                <a:latin typeface="Arial"/>
              </a:rPr>
              <a:t>الإجهاد والعوامل العاطفية </a:t>
            </a:r>
            <a:r>
              <a:rPr b="0" lang="ar-SY" sz="3600" spc="-1" strike="noStrike">
                <a:solidFill>
                  <a:srgbClr val="000000"/>
                </a:solidFill>
                <a:latin typeface="Arial"/>
              </a:rPr>
              <a:t>في العمل والبيت يمكن أن تسرع تكرار أو تؤخر الشفاء لكنها </a:t>
            </a:r>
            <a:r>
              <a:rPr b="0" lang="ar-SY" sz="3600" spc="-1" strike="noStrike">
                <a:solidFill>
                  <a:srgbClr val="c00000"/>
                </a:solidFill>
                <a:latin typeface="Arial"/>
              </a:rPr>
              <a:t>ليست العامل الأساسي المسبب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2C113-AE94-44D5-8604-7A6B2338E2F0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6"/>
          <p:cNvSpPr/>
          <p:nvPr/>
        </p:nvSpPr>
        <p:spPr>
          <a:xfrm>
            <a:off x="642960" y="2571840"/>
            <a:ext cx="8064360" cy="1191240"/>
          </a:xfrm>
          <a:prstGeom prst="rect">
            <a:avLst/>
          </a:prstGeom>
          <a:solidFill>
            <a:srgbClr val="181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600" spc="-1" strike="noStrike">
                <a:solidFill>
                  <a:srgbClr val="ffff00"/>
                </a:solidFill>
                <a:latin typeface="Arial"/>
              </a:rPr>
              <a:t>ويبقى سبب التقرح الأصغري غير واضح!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01499-B8A4-47FB-B813-441FF2CF09F3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6"/>
          <p:cNvSpPr/>
          <p:nvPr/>
        </p:nvSpPr>
        <p:spPr>
          <a:xfrm>
            <a:off x="3708360" y="1413000"/>
            <a:ext cx="4824360" cy="56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>
                <a:solidFill>
                  <a:srgbClr val="ff0000"/>
                </a:solidFill>
                <a:latin typeface="Arial"/>
              </a:rPr>
              <a:t>القلاع الأكبر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Major Aphtous</a:t>
            </a:r>
            <a:r>
              <a:rPr b="1" lang="ar-SY" sz="24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c00000"/>
                </a:solidFill>
                <a:latin typeface="Arial"/>
              </a:rPr>
              <a:t>أقل شيوعا من النوع الأصغر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000000"/>
                </a:solidFill>
                <a:latin typeface="Arial"/>
              </a:rPr>
              <a:t>– أحيانا تكون </a:t>
            </a:r>
            <a:r>
              <a:rPr b="0" lang="ar-SY" sz="2400" spc="-1" strike="noStrike">
                <a:solidFill>
                  <a:srgbClr val="ff0000"/>
                </a:solidFill>
                <a:latin typeface="Arial"/>
              </a:rPr>
              <a:t>أكبر من </a:t>
            </a:r>
            <a:r>
              <a:rPr b="0" lang="ar-SY" sz="24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ar-SY" sz="2400" spc="-1" strike="noStrike">
                <a:solidFill>
                  <a:srgbClr val="ff0000"/>
                </a:solidFill>
                <a:latin typeface="Arial"/>
              </a:rPr>
              <a:t> سم </a:t>
            </a:r>
            <a:r>
              <a:rPr b="0" lang="ar-SY" sz="2400" spc="-1" strike="noStrike">
                <a:solidFill>
                  <a:srgbClr val="000000"/>
                </a:solidFill>
                <a:latin typeface="Arial"/>
              </a:rPr>
              <a:t>حيث يمكن أن يصل قطرها إلى </a:t>
            </a:r>
            <a:r>
              <a:rPr b="0" lang="ar-SY" sz="24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0" lang="ar-SY" sz="2400" spc="-1" strike="noStrike">
                <a:solidFill>
                  <a:srgbClr val="ff0000"/>
                </a:solidFill>
                <a:latin typeface="Arial"/>
              </a:rPr>
              <a:t> س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000000"/>
                </a:solidFill>
                <a:latin typeface="Arial"/>
              </a:rPr>
              <a:t>– يمكن أن يصل عددها إلى </a:t>
            </a:r>
            <a:r>
              <a:rPr b="0" lang="ar-SY" sz="2400" spc="-1" strike="noStrike">
                <a:solidFill>
                  <a:srgbClr val="ff0000"/>
                </a:solidFill>
                <a:latin typeface="Arial"/>
              </a:rPr>
              <a:t>عشرة</a:t>
            </a:r>
            <a:r>
              <a:rPr b="0" lang="ar-SY" sz="2400" spc="-1" strike="noStrike">
                <a:solidFill>
                  <a:srgbClr val="000000"/>
                </a:solidFill>
                <a:latin typeface="Arial"/>
              </a:rPr>
              <a:t> تقريبا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000000"/>
                </a:solidFill>
                <a:latin typeface="Arial"/>
              </a:rPr>
              <a:t>- الأماكن (الشفاه – الخدود – اللسان – البلعوم – سقف الحنك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7" descr="Scan2000006"/>
          <p:cNvPicPr/>
          <p:nvPr/>
        </p:nvPicPr>
        <p:blipFill>
          <a:blip r:embed="rId1"/>
          <a:srcRect l="42337" t="58202" r="18817" b="16368"/>
          <a:stretch/>
        </p:blipFill>
        <p:spPr>
          <a:xfrm>
            <a:off x="0" y="907920"/>
            <a:ext cx="3995640" cy="4033800"/>
          </a:xfrm>
          <a:prstGeom prst="rect">
            <a:avLst/>
          </a:prstGeom>
          <a:ln w="0">
            <a:noFill/>
          </a:ln>
        </p:spPr>
      </p:pic>
      <p:sp>
        <p:nvSpPr>
          <p:cNvPr id="16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F97FF-E62B-4926-B2A8-748D4D5A62D8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4" descr="major images"/>
          <p:cNvPicPr/>
          <p:nvPr/>
        </p:nvPicPr>
        <p:blipFill>
          <a:blip r:embed="rId1"/>
          <a:stretch/>
        </p:blipFill>
        <p:spPr>
          <a:xfrm>
            <a:off x="2484360" y="1052640"/>
            <a:ext cx="5545080" cy="3240000"/>
          </a:xfrm>
          <a:prstGeom prst="rect">
            <a:avLst/>
          </a:prstGeom>
          <a:ln w="9360">
            <a:solidFill>
              <a:srgbClr val="00007d"/>
            </a:solidFill>
            <a:miter/>
          </a:ln>
        </p:spPr>
      </p:pic>
      <p:sp>
        <p:nvSpPr>
          <p:cNvPr id="166" name="Text Box 5"/>
          <p:cNvSpPr/>
          <p:nvPr/>
        </p:nvSpPr>
        <p:spPr>
          <a:xfrm>
            <a:off x="3635280" y="692280"/>
            <a:ext cx="2376720" cy="45972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jor apht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6"/>
          <p:cNvSpPr/>
          <p:nvPr/>
        </p:nvSpPr>
        <p:spPr>
          <a:xfrm>
            <a:off x="468360" y="4694400"/>
            <a:ext cx="8137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أكثر شيوعا عند الذين يعانون من </a:t>
            </a:r>
            <a:r>
              <a:rPr b="0" lang="ar-SY" sz="3200" spc="-1" strike="noStrike">
                <a:solidFill>
                  <a:srgbClr val="ff0000"/>
                </a:solidFill>
                <a:latin typeface="Arial"/>
              </a:rPr>
              <a:t>التهاب الكولون التقرحي وكذلك داء كرو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تشفى خلال 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يو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C9400-B6FB-4BF5-9C11-6CB2FD4291C2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4" descr="sciubba_fig2"/>
          <p:cNvPicPr/>
          <p:nvPr/>
        </p:nvPicPr>
        <p:blipFill>
          <a:blip r:embed="rId1"/>
          <a:stretch/>
        </p:blipFill>
        <p:spPr>
          <a:xfrm>
            <a:off x="1258920" y="1239840"/>
            <a:ext cx="5942160" cy="418932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627280" y="6093000"/>
            <a:ext cx="36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jor apht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A190A-3477-428F-949C-0DAECD8DD640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714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400" spc="-1" strike="noStrike">
                <a:solidFill>
                  <a:srgbClr val="ff0000"/>
                </a:solidFill>
                <a:latin typeface="Arial"/>
              </a:rPr>
              <a:t>التقرح الفموي الفيروسي</a:t>
            </a:r>
            <a:br>
              <a:rPr sz="4400"/>
            </a:br>
            <a:r>
              <a:rPr b="1" lang="ar-SY" sz="4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Herpetiform Ulcer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4" descr="sciubba_fig3"/>
          <p:cNvPicPr/>
          <p:nvPr/>
        </p:nvPicPr>
        <p:blipFill>
          <a:blip r:embed="rId1"/>
          <a:srcRect l="0" t="0" r="0" b="20426"/>
          <a:stretch/>
        </p:blipFill>
        <p:spPr>
          <a:xfrm>
            <a:off x="2000160" y="1857240"/>
            <a:ext cx="5400720" cy="388476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6"/>
          <p:cNvSpPr/>
          <p:nvPr/>
        </p:nvSpPr>
        <p:spPr>
          <a:xfrm>
            <a:off x="785880" y="6000840"/>
            <a:ext cx="7402320" cy="1068840"/>
          </a:xfrm>
          <a:prstGeom prst="rect">
            <a:avLst/>
          </a:prstGeom>
          <a:noFill/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200" spc="-1" strike="noStrike">
                <a:solidFill>
                  <a:srgbClr val="ff0000"/>
                </a:solidFill>
                <a:latin typeface="Arial"/>
              </a:rPr>
              <a:t>بالإضافة للأماكن السابقة تصيب: قاعدة الفم واللث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E6A22-DE8E-4A12-8484-9E5CC78A60CD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5"/>
          <p:cNvSpPr/>
          <p:nvPr/>
        </p:nvSpPr>
        <p:spPr>
          <a:xfrm>
            <a:off x="755640" y="2565360"/>
            <a:ext cx="1655640" cy="368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rpetis ulc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6"/>
          <p:cNvSpPr/>
          <p:nvPr/>
        </p:nvSpPr>
        <p:spPr>
          <a:xfrm>
            <a:off x="395280" y="5635800"/>
            <a:ext cx="8137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تظهر تقرحات جديدة قبل شفاء الأولى لذلك يعتقد المرضى أن </a:t>
            </a:r>
            <a:r>
              <a:rPr b="1" lang="ar-SY" sz="3200" spc="-1" strike="noStrike">
                <a:solidFill>
                  <a:srgbClr val="ff0000"/>
                </a:solidFill>
                <a:latin typeface="Arial"/>
              </a:rPr>
              <a:t>التقرحات مستمرة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7" descr="Scan2000007"/>
          <p:cNvPicPr/>
          <p:nvPr/>
        </p:nvPicPr>
        <p:blipFill>
          <a:blip r:embed="rId1"/>
          <a:srcRect l="15288" t="13640" r="43513" b="60021"/>
          <a:stretch/>
        </p:blipFill>
        <p:spPr>
          <a:xfrm>
            <a:off x="2484360" y="692280"/>
            <a:ext cx="5545080" cy="4583160"/>
          </a:xfrm>
          <a:prstGeom prst="rect">
            <a:avLst/>
          </a:prstGeom>
          <a:ln w="0">
            <a:noFill/>
          </a:ln>
        </p:spPr>
      </p:pic>
      <p:sp>
        <p:nvSpPr>
          <p:cNvPr id="179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E48B2-BEE8-43C9-8A1D-5D5F1DF85F53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9360">
            <a:solidFill>
              <a:srgbClr val="00007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600" spc="-1" strike="noStrike">
                <a:solidFill>
                  <a:srgbClr val="ff0000"/>
                </a:solidFill>
                <a:latin typeface="Arial"/>
              </a:rPr>
              <a:t>تدبير التقرحات الفموية</a:t>
            </a:r>
            <a:br>
              <a:rPr sz="3600"/>
            </a:br>
            <a:r>
              <a:rPr b="0" lang="ar-SY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Management</a:t>
            </a:r>
            <a:r>
              <a:rPr b="0" lang="ar-SY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of Mouth Ulc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5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التقرحات الفموية </a:t>
            </a:r>
            <a:r>
              <a:rPr b="1" lang="ar-SY" sz="3200" spc="-1" strike="noStrike">
                <a:solidFill>
                  <a:srgbClr val="ff0000"/>
                </a:solidFill>
                <a:latin typeface="Arial"/>
              </a:rPr>
              <a:t>شائعة جدا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7" descr="Scan2000006"/>
          <p:cNvPicPr/>
          <p:nvPr/>
        </p:nvPicPr>
        <p:blipFill>
          <a:blip r:embed="rId1"/>
          <a:srcRect l="5880" t="55474" r="57626" b="23643"/>
          <a:stretch/>
        </p:blipFill>
        <p:spPr>
          <a:xfrm>
            <a:off x="928800" y="3214800"/>
            <a:ext cx="5715000" cy="3357360"/>
          </a:xfrm>
          <a:prstGeom prst="rect">
            <a:avLst/>
          </a:prstGeom>
          <a:ln w="0">
            <a:noFill/>
          </a:ln>
        </p:spPr>
      </p:pic>
      <p:sp>
        <p:nvSpPr>
          <p:cNvPr id="119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4DD10-6BF5-4DCC-8864-BBA160F1CFA1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Major aphtous - Herpetiform ulc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000" spc="-1" strike="noStrike">
                <a:solidFill>
                  <a:srgbClr val="7030a0"/>
                </a:solidFill>
                <a:latin typeface="Arial"/>
              </a:rPr>
              <a:t>ألم شديد – فقدان وزن؟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3DD7B-9FD3-41C2-BD74-D4545C849981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457200" y="1285560"/>
            <a:ext cx="822960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في حال كون السبب هو </a:t>
            </a:r>
            <a:r>
              <a:rPr b="1" lang="ar-SY" sz="3200" spc="-1" strike="noStrike">
                <a:solidFill>
                  <a:srgbClr val="ff0066"/>
                </a:solidFill>
                <a:latin typeface="Arial"/>
              </a:rPr>
              <a:t>مرض آخر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r" rtl="1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حدوث التقرح في </a:t>
            </a:r>
            <a:r>
              <a:rPr b="1" lang="ar-SY" sz="3200" spc="-1" strike="noStrike">
                <a:solidFill>
                  <a:srgbClr val="ff0066"/>
                </a:solidFill>
                <a:latin typeface="Arial"/>
              </a:rPr>
              <a:t>مناطق أخرى 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مثل المهبل – الفرج 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r" rtl="1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أحيانا تصاحب التقرحات الفموية مع </a:t>
            </a:r>
            <a:r>
              <a:rPr b="1" lang="ar-SY" sz="3200" spc="-1" strike="noStrike">
                <a:solidFill>
                  <a:srgbClr val="ff0066"/>
                </a:solidFill>
                <a:latin typeface="Arial"/>
              </a:rPr>
              <a:t>التهابات الأمعاء – آلام كولون – إسهالات متكرر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r" rtl="1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في هذه الحالات يجب أن ننصح المريض باستشارة الطبي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1ED47-3E07-4AF6-AD05-883DE228882B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التقرحات الفموية قد تسببها </a:t>
            </a:r>
            <a:r>
              <a:rPr b="1" lang="ar-SY" sz="3200" spc="-1" strike="noStrike">
                <a:solidFill>
                  <a:srgbClr val="ff0000"/>
                </a:solidFill>
                <a:latin typeface="Arial"/>
              </a:rPr>
              <a:t>بعض الأدوية 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كتأثير جانبي لها مثل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200" spc="-1" strike="noStrike">
                <a:solidFill>
                  <a:srgbClr val="ff0000"/>
                </a:solidFill>
                <a:latin typeface="Arial"/>
              </a:rPr>
              <a:t>الأسبرين</a:t>
            </a:r>
            <a:r>
              <a:rPr b="1" lang="ar-SY" sz="3200" spc="-1" strike="noStrike">
                <a:solidFill>
                  <a:srgbClr val="000000"/>
                </a:solidFill>
                <a:latin typeface="Arial"/>
              </a:rPr>
              <a:t> وغيرها من مضادات الالتهاب غير الستيروئيد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200" spc="-1" strike="noStrike">
                <a:solidFill>
                  <a:srgbClr val="ff0000"/>
                </a:solidFill>
                <a:latin typeface="Arial"/>
              </a:rPr>
              <a:t> الأدوية المضادة للسرطان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200" spc="-1" strike="noStrike">
                <a:solidFill>
                  <a:srgbClr val="ff0000"/>
                </a:solidFill>
                <a:latin typeface="Arial"/>
              </a:rPr>
              <a:t>السلفاسالازين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200" spc="-1" strike="noStrike">
                <a:solidFill>
                  <a:srgbClr val="ff0000"/>
                </a:solidFill>
                <a:latin typeface="Arial"/>
              </a:rPr>
              <a:t>العلاج بالأشعة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135FA-4E7A-46F9-8A69-65667FF0D3B5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7d"/>
            </a:solidFill>
            <a:miter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Management</a:t>
            </a:r>
            <a:br>
              <a:rPr sz="4000"/>
            </a:br>
            <a:r>
              <a:rPr b="0" lang="ar-SY" sz="4000" spc="-1" strike="noStrike">
                <a:solidFill>
                  <a:srgbClr val="ff0000"/>
                </a:solidFill>
                <a:latin typeface="Arial"/>
              </a:rPr>
              <a:t>العلاج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600" spc="-1" strike="noStrike">
                <a:solidFill>
                  <a:srgbClr val="000000"/>
                </a:solidFill>
                <a:latin typeface="Arial"/>
              </a:rPr>
              <a:t>وصف الأدوية التي  </a:t>
            </a:r>
            <a:r>
              <a:rPr b="1" lang="ar-SY" sz="3600" spc="-1" strike="noStrike">
                <a:solidFill>
                  <a:srgbClr val="7030a0"/>
                </a:solidFill>
                <a:latin typeface="Arial"/>
              </a:rPr>
              <a:t>تخفف الألم وتقصر الزمن الازم للشفا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600" spc="-1" strike="noStrike">
                <a:solidFill>
                  <a:srgbClr val="ff0000"/>
                </a:solidFill>
                <a:latin typeface="Arial"/>
              </a:rPr>
              <a:t> المطهرات – كورتيزون – مخدرات موضعية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A5CA4-2141-40D9-8299-C2FB9905657A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7d"/>
            </a:solidFill>
            <a:miter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Management</a:t>
            </a:r>
            <a:br>
              <a:rPr sz="4000"/>
            </a:br>
            <a:r>
              <a:rPr b="0" lang="ar-SY" sz="4000" spc="-1" strike="noStrike">
                <a:solidFill>
                  <a:srgbClr val="ff0000"/>
                </a:solidFill>
                <a:latin typeface="Arial"/>
              </a:rPr>
              <a:t>العلاج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000" spc="-1" strike="noStrike">
                <a:solidFill>
                  <a:srgbClr val="7030a0"/>
                </a:solidFill>
                <a:latin typeface="Arial"/>
              </a:rPr>
              <a:t>الجيلات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000" spc="-1" strike="noStrike">
                <a:solidFill>
                  <a:srgbClr val="7030a0"/>
                </a:solidFill>
                <a:latin typeface="Arial"/>
              </a:rPr>
              <a:t>الغسولات الفموي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96ED2-8854-42BF-8241-B0A1A7794CAE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457200" y="83664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hlorhexidine gluconate mouthwa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r" rtl="1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600" spc="-1" strike="noStrike">
                <a:solidFill>
                  <a:srgbClr val="000000"/>
                </a:solidFill>
                <a:latin typeface="Arial"/>
              </a:rPr>
              <a:t>يخفف مدة وشدة التقر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r" rtl="1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600" spc="-1" strike="noStrike">
                <a:solidFill>
                  <a:srgbClr val="000000"/>
                </a:solidFill>
                <a:latin typeface="Arial"/>
              </a:rPr>
              <a:t>السبب الرئيسي لاستخدام مضادات البكتيريا في التقرحات الفموية </a:t>
            </a:r>
            <a:r>
              <a:rPr b="1" lang="ar-SY" sz="3600" spc="-1" strike="noStrike">
                <a:solidFill>
                  <a:srgbClr val="ff0000"/>
                </a:solidFill>
                <a:latin typeface="Arial"/>
              </a:rPr>
              <a:t>الانتانات الجرثومية الثانوية</a:t>
            </a:r>
            <a:r>
              <a:rPr b="0" lang="ar-SY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ar-SY" sz="3600" spc="-1" strike="noStrike">
                <a:solidFill>
                  <a:srgbClr val="000000"/>
                </a:solidFill>
                <a:latin typeface="Arial"/>
              </a:rPr>
              <a:t>التي تحدث كثيراً والتي تزيد الألم وتؤخر الشفا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r" rtl="1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r" rtl="1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600" spc="-1" strike="noStrike">
                <a:solidFill>
                  <a:srgbClr val="c00000"/>
                </a:solidFill>
                <a:latin typeface="Arial"/>
              </a:rPr>
              <a:t>الكلورهيكسيدين يساعد على منع حدوث هذه الإنتانات لكنه لا يمنع تكرار الاصاب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E827A-54D2-4FBA-8F8C-977A977737E0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285840" y="836640"/>
            <a:ext cx="8400960" cy="50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hlorhexidine gluconate mouthwa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r" rtl="1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يمكن أن يسبب استخدامه المتكرر </a:t>
            </a:r>
            <a:r>
              <a:rPr b="1" lang="ar-SY" sz="3200" spc="-1" strike="noStrike">
                <a:solidFill>
                  <a:srgbClr val="ff0000"/>
                </a:solidFill>
                <a:latin typeface="Arial"/>
              </a:rPr>
              <a:t>حدوث تبقعات بنية للأسنان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r" rtl="1"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Arial"/>
              </a:rPr>
              <a:t>يستعمل الغسول </a:t>
            </a:r>
            <a:r>
              <a:rPr b="0" lang="ar-SY" sz="2800" spc="-1" strike="noStrike">
                <a:solidFill>
                  <a:srgbClr val="ff0000"/>
                </a:solidFill>
                <a:latin typeface="Arial"/>
              </a:rPr>
              <a:t>مرتين باليوم </a:t>
            </a:r>
            <a:r>
              <a:rPr b="0" lang="ar-SY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ar-SY" sz="2800" spc="-1" strike="noStrike">
                <a:solidFill>
                  <a:srgbClr val="000000"/>
                </a:solidFill>
                <a:latin typeface="Arial"/>
              </a:rPr>
              <a:t> مل في الفم </a:t>
            </a:r>
            <a:r>
              <a:rPr b="0" lang="ar-SY" sz="2800" spc="-1" strike="noStrike">
                <a:solidFill>
                  <a:srgbClr val="ff0000"/>
                </a:solidFill>
                <a:latin typeface="Arial"/>
              </a:rPr>
              <a:t>لمدة </a:t>
            </a:r>
            <a:r>
              <a:rPr b="0" lang="ar-SY" sz="2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ar-SY" sz="2800" spc="-1" strike="noStrike">
                <a:solidFill>
                  <a:srgbClr val="ff0000"/>
                </a:solidFill>
                <a:latin typeface="Arial"/>
              </a:rPr>
              <a:t> دقيقة </a:t>
            </a:r>
            <a:r>
              <a:rPr b="0" lang="ar-SY" sz="2800" spc="-1" strike="noStrike">
                <a:solidFill>
                  <a:srgbClr val="000000"/>
                </a:solidFill>
                <a:latin typeface="Arial"/>
              </a:rPr>
              <a:t>ويستمر باستعماله لمدة </a:t>
            </a:r>
            <a:r>
              <a:rPr b="0" lang="ar-SY" sz="2800" spc="-1" strike="noStrike">
                <a:solidFill>
                  <a:srgbClr val="000000"/>
                </a:solidFill>
                <a:latin typeface="Arial"/>
              </a:rPr>
              <a:t>48</a:t>
            </a:r>
            <a:r>
              <a:rPr b="0" lang="ar-SY" sz="2800" spc="-1" strike="noStrike">
                <a:solidFill>
                  <a:srgbClr val="000000"/>
                </a:solidFill>
                <a:latin typeface="Arial"/>
              </a:rPr>
              <a:t> ساعة من زوال الأعرا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r" rtl="1"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Arial"/>
              </a:rPr>
              <a:t>لا يستخدم لدى الأطفال </a:t>
            </a:r>
            <a:r>
              <a:rPr b="0" lang="ar-SY" sz="2800" spc="-1" strike="noStrike">
                <a:solidFill>
                  <a:srgbClr val="ff0000"/>
                </a:solidFill>
                <a:latin typeface="Arial"/>
              </a:rPr>
              <a:t>تحت </a:t>
            </a:r>
            <a:r>
              <a:rPr b="0" lang="ar-SY" sz="2800" spc="-1" strike="noStrike">
                <a:solidFill>
                  <a:srgbClr val="ff0000"/>
                </a:solidFill>
                <a:latin typeface="Arial"/>
              </a:rPr>
              <a:t>6</a:t>
            </a:r>
            <a:r>
              <a:rPr b="0" lang="ar-SY" sz="2800" spc="-1" strike="noStrike">
                <a:solidFill>
                  <a:srgbClr val="ff0000"/>
                </a:solidFill>
                <a:latin typeface="Arial"/>
              </a:rPr>
              <a:t> سنوا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74B51-AECC-41E0-9F73-E3191CBE6D8F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400" spc="-1" strike="noStrike">
                <a:solidFill>
                  <a:srgbClr val="0000e5"/>
                </a:solidFill>
                <a:latin typeface="Arial"/>
              </a:rPr>
              <a:t>الستيروئيدات القشرية الموضعية</a:t>
            </a:r>
            <a:r>
              <a:rPr b="1" lang="ar-SY" sz="4400" spc="-1" strike="noStrike">
                <a:solidFill>
                  <a:srgbClr val="0000e5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-360" y="1980720"/>
            <a:ext cx="90010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r" rtl="1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200" spc="-1" strike="noStrike">
                <a:solidFill>
                  <a:srgbClr val="ff0000"/>
                </a:solidFill>
                <a:latin typeface="Arial"/>
              </a:rPr>
              <a:t>الهيدروكورتيزون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:  بشكل حبيبات *حبة واحدة 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مرات في اليوم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r" rtl="1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ff0000"/>
                </a:solidFill>
                <a:latin typeface="Arial"/>
              </a:rPr>
              <a:t>و</a:t>
            </a:r>
            <a:r>
              <a:rPr b="1" lang="ar-SY" sz="3200" spc="-1" strike="noStrike">
                <a:solidFill>
                  <a:srgbClr val="ff0000"/>
                </a:solidFill>
                <a:latin typeface="Arial"/>
              </a:rPr>
              <a:t>التريامسينولون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بشكل معجون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r" rtl="1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لا ينصح باستخدامها في حال وجود </a:t>
            </a:r>
            <a:r>
              <a:rPr b="1" lang="ar-SY" sz="3200" spc="-1" strike="noStrike">
                <a:solidFill>
                  <a:srgbClr val="7030a0"/>
                </a:solidFill>
                <a:latin typeface="Arial"/>
              </a:rPr>
              <a:t>إصابات فطرية فمو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FB5C7-4745-4C21-BD52-15E004BB91DD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Kenalog in ORABASE  paste (Unipharma)</a:t>
            </a:r>
            <a:br>
              <a:rPr sz="3200"/>
            </a:br>
            <a:r>
              <a:rPr b="1" i="1" lang="ar-SY" sz="2400" spc="-1" strike="noStrike">
                <a:solidFill>
                  <a:srgbClr val="000000"/>
                </a:solidFill>
                <a:latin typeface="Arial"/>
              </a:rPr>
              <a:t>مستحضرات شبيهة لشركة دومنا وابن الهيث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تركيبه :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Y" sz="3200" spc="-1" strike="noStrike">
                <a:solidFill>
                  <a:srgbClr val="ff0000"/>
                </a:solidFill>
                <a:latin typeface="Arial"/>
              </a:rPr>
              <a:t>تريامسينولون أسيتونيد </a:t>
            </a:r>
            <a:r>
              <a:rPr b="0" lang="ar-SY" sz="3200" spc="-1" strike="noStrike">
                <a:solidFill>
                  <a:srgbClr val="ff0000"/>
                </a:solidFill>
                <a:latin typeface="Arial"/>
              </a:rPr>
              <a:t>0.1</a:t>
            </a:r>
            <a:r>
              <a:rPr b="0" lang="ar-SY" sz="3200" spc="-1" strike="noStrike">
                <a:solidFill>
                  <a:srgbClr val="ff0000"/>
                </a:solidFill>
                <a:latin typeface="Arial"/>
              </a:rPr>
              <a:t> 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تفرش(توزع) كمية قليلة من المعجون على المنطقة المصابة من غير أن تفر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يفضل استخدامه قبل النو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يمكن أن يستخدم من 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مرات يوميا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E3228-AB3C-4E56-804E-062643DB7C58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 algn="r" rtl="1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200" spc="-1" strike="noStrike">
                <a:solidFill>
                  <a:srgbClr val="ff0000"/>
                </a:solidFill>
                <a:latin typeface="Arial"/>
              </a:rPr>
              <a:t>مسكنات الألم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r" rtl="1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r" rtl="1">
              <a:lnSpc>
                <a:spcPct val="8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600" spc="-1" strike="noStrike">
                <a:solidFill>
                  <a:srgbClr val="ff0000"/>
                </a:solidFill>
                <a:latin typeface="Arial"/>
              </a:rPr>
              <a:t>البنزيدامين</a:t>
            </a:r>
            <a:r>
              <a:rPr b="0" lang="ar-SY" sz="3600" spc="-1" strike="noStrike">
                <a:solidFill>
                  <a:srgbClr val="000000"/>
                </a:solidFill>
                <a:latin typeface="Arial"/>
              </a:rPr>
              <a:t>: غسول فموي أو إرذا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r" rtl="1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r" rtl="1">
              <a:lnSpc>
                <a:spcPct val="8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600" spc="-1" strike="noStrike">
                <a:solidFill>
                  <a:srgbClr val="ff0000"/>
                </a:solidFill>
                <a:latin typeface="Arial"/>
              </a:rPr>
              <a:t>كولين ساليسيلات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r" rtl="1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r" rtl="1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600" spc="-1" strike="noStrike">
                <a:solidFill>
                  <a:srgbClr val="000000"/>
                </a:solidFill>
                <a:latin typeface="Arial"/>
              </a:rPr>
              <a:t>كلاهما ذات تأثير قصير ويستعملان في الحالات المؤلمة جدا من التقرح القلاعي الأكب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r" rtl="1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82546-A91C-42EC-BB94-8516173110F8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9360">
            <a:solidFill>
              <a:srgbClr val="00007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600" spc="-1" strike="noStrike">
                <a:solidFill>
                  <a:srgbClr val="ff0000"/>
                </a:solidFill>
                <a:latin typeface="Arial"/>
              </a:rPr>
              <a:t>تدبير التقرحات الفموية</a:t>
            </a:r>
            <a:br>
              <a:rPr sz="3600"/>
            </a:br>
            <a:r>
              <a:rPr b="0" lang="ar-SY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Management</a:t>
            </a:r>
            <a:r>
              <a:rPr b="0" lang="ar-SY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 of Mouth Ulc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4"/>
          <p:cNvSpPr/>
          <p:nvPr/>
        </p:nvSpPr>
        <p:spPr>
          <a:xfrm>
            <a:off x="3214800" y="2214720"/>
            <a:ext cx="2857320" cy="1312920"/>
          </a:xfrm>
          <a:prstGeom prst="rect">
            <a:avLst/>
          </a:prstGeom>
          <a:solidFill>
            <a:srgbClr val="1818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000" spc="-1" strike="noStrike">
                <a:solidFill>
                  <a:srgbClr val="ffff00"/>
                </a:solidFill>
                <a:latin typeface="Arial"/>
              </a:rPr>
              <a:t>القلاع الأصغر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3286080" y="3500280"/>
            <a:ext cx="2857680" cy="1312920"/>
          </a:xfrm>
          <a:prstGeom prst="rect">
            <a:avLst/>
          </a:prstGeom>
          <a:solidFill>
            <a:srgbClr val="1818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000" spc="-1" strike="noStrike">
                <a:solidFill>
                  <a:srgbClr val="ffff00"/>
                </a:solidFill>
                <a:latin typeface="Arial"/>
              </a:rPr>
              <a:t>والقلاع الأكبر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6"/>
          <p:cNvSpPr/>
          <p:nvPr/>
        </p:nvSpPr>
        <p:spPr>
          <a:xfrm>
            <a:off x="2000160" y="4857840"/>
            <a:ext cx="5214960" cy="1312920"/>
          </a:xfrm>
          <a:prstGeom prst="rect">
            <a:avLst/>
          </a:prstGeom>
          <a:solidFill>
            <a:srgbClr val="181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000" spc="-1" strike="noStrike">
                <a:solidFill>
                  <a:srgbClr val="ffff00"/>
                </a:solidFill>
                <a:latin typeface="Arial"/>
              </a:rPr>
              <a:t>والتقرحات الحلئية (الفيروسية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lide Number Placeholder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50A20-7CEC-40A9-B2A3-3149D9807D33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457200" y="1499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De-Flam</a:t>
            </a:r>
            <a:r>
              <a:rPr b="1" i="1" lang="ar-SY" sz="3200" spc="-1" strike="noStrike">
                <a:solidFill>
                  <a:srgbClr val="ff0000"/>
                </a:solidFill>
                <a:latin typeface="Arial"/>
              </a:rPr>
              <a:t> (</a:t>
            </a:r>
            <a:r>
              <a:rPr b="1" i="1" lang="ar-SY" sz="3200" spc="-1" strike="noStrike">
                <a:solidFill>
                  <a:srgbClr val="ff0000"/>
                </a:solidFill>
                <a:latin typeface="Arial"/>
              </a:rPr>
              <a:t>السعد</a:t>
            </a:r>
            <a:r>
              <a:rPr b="1" i="1" lang="ar-SY" sz="3200" spc="-1" strike="noStrike">
                <a:solidFill>
                  <a:srgbClr val="ff0000"/>
                </a:solidFill>
                <a:latin typeface="Arial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enzydamine HCl 0.1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- يشطف الفم ب 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مل كل 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1.5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ساعات باليو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- يمكن أن يحدث النمل – الوخز اللس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- لا يجوز استخدامها للأطفال تحت ال 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سن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- يمكن أن يمدد بالماء في حال حدوث الاصطبا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1BCC8-41E7-4905-97DE-E36E03C45E1D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Local anaesthetics (e.g. lidocaine and benzocain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are effective in producing temporary pain reli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pplication of the preparation may be done when necessa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3A158-82DD-4646-A191-B4916F9C4A1C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Orofar</a:t>
            </a:r>
            <a:r>
              <a:rPr b="0" i="1" lang="ar-SY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(Novartis,MPI) mouthwa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nzoxonium chlorid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docaine HC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c00000"/>
                </a:solidFill>
                <a:latin typeface="Arial"/>
              </a:rPr>
              <a:t>مستحضر شبيه لشركة أوبري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alg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يغسل الفم ب 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مل لمدة 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60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ثانية مرتين أو أكثر في اليوم بعد الوجبا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r" rtl="1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الأطفال فوق 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سنوات 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م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37604-65A9-4A3F-99CB-7AD708560FB0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500040" y="928440"/>
            <a:ext cx="82296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Piravix (Arak)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oral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5e"/>
                </a:solidFill>
                <a:latin typeface="Arial"/>
              </a:rPr>
              <a:t>Rhubarb Extract and Salicylic ac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يستخدم لعلاج التهابات الغشاء المخاطي للفم – الحلق – واللثة الملتهب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التركيب </a:t>
            </a:r>
            <a:r>
              <a:rPr b="0" lang="ar-SY" sz="3200" spc="-1" strike="noStrike">
                <a:solidFill>
                  <a:srgbClr val="ff0000"/>
                </a:solidFill>
                <a:latin typeface="Arial"/>
              </a:rPr>
              <a:t>حمض الساليسيليك وغليكوزيد الأنتراكينون 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المستخرجة من نبات الراوند الصين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يطبق بواسطة الفرشاة عدة مرات يومياً على الأغشية الملتهب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c00000"/>
                </a:solidFill>
                <a:latin typeface="Arial"/>
              </a:rPr>
              <a:t>يجب عدم غسل الفم مباشرة بعد الاستعما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75242-3E42-4798-8FCD-B8E8B621AB81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500"/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hubalvex G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licylic acid 1% - Rhubarb extract 5% glycer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Arial"/>
              </a:rPr>
              <a:t>يوضع القليل من الجيل على المنطقة المصابة وتمسد قليلاً بلط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Arial"/>
              </a:rPr>
              <a:t>تكرر العملية </a:t>
            </a:r>
            <a:r>
              <a:rPr b="0" lang="ar-SY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ar-SY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ar-SY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ar-SY" sz="2800" spc="-1" strike="noStrike">
                <a:solidFill>
                  <a:srgbClr val="000000"/>
                </a:solidFill>
                <a:latin typeface="Arial"/>
              </a:rPr>
              <a:t> مرات يوميا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57DF7-7FCB-4680-B343-AB7ADA8F5B56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7d"/>
            </a:solidFill>
            <a:miter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4400" spc="-1" strike="noStrike">
                <a:solidFill>
                  <a:srgbClr val="000000"/>
                </a:solidFill>
                <a:latin typeface="Arial"/>
              </a:rPr>
              <a:t>علاج التقرح الفيروس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ciclov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00000"/>
                </a:solidFill>
                <a:latin typeface="Arial"/>
              </a:rPr>
              <a:t>Cycloviran</a:t>
            </a:r>
            <a:r>
              <a:rPr b="1" i="1" lang="ar-SY" sz="3200" spc="-1" strike="noStrike">
                <a:solidFill>
                  <a:srgbClr val="c00000"/>
                </a:solidFill>
                <a:latin typeface="Arial"/>
              </a:rPr>
              <a:t>بحري</a:t>
            </a:r>
            <a:r>
              <a:rPr b="1" i="1" lang="ar-SY" sz="3200" spc="-1" strike="noStrike">
                <a:solidFill>
                  <a:srgbClr val="c00000"/>
                </a:solidFill>
                <a:latin typeface="Arial"/>
              </a:rPr>
              <a:t>) </a:t>
            </a:r>
            <a:r>
              <a:rPr b="1" i="1" lang="en-US" sz="3200" spc="-1" strike="noStrike">
                <a:solidFill>
                  <a:srgbClr val="c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Aciclovir 200 mg Capl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Aciclovir 200 mg l 5 ml Sus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r" rtl="1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الجرعة 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200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ملغ 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مرات في اليوم لمدة 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أيام وجرعة الطفل (تحت السنتين) هي نصف جرعة البال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E8C2D-8B83-4F9C-A337-AAFFD893B19E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4" descr="Scan2000006"/>
          <p:cNvPicPr/>
          <p:nvPr/>
        </p:nvPicPr>
        <p:blipFill>
          <a:blip r:embed="rId1"/>
          <a:srcRect l="5880" t="55474" r="57626" b="23643"/>
          <a:stretch/>
        </p:blipFill>
        <p:spPr>
          <a:xfrm>
            <a:off x="4572000" y="981000"/>
            <a:ext cx="4032360" cy="280836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5" descr="Scan2000007"/>
          <p:cNvPicPr/>
          <p:nvPr/>
        </p:nvPicPr>
        <p:blipFill>
          <a:blip r:embed="rId2"/>
          <a:srcRect l="15288" t="42743" r="42337" b="23643"/>
          <a:stretch/>
        </p:blipFill>
        <p:spPr>
          <a:xfrm>
            <a:off x="539640" y="476280"/>
            <a:ext cx="3745080" cy="340200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6" descr="Scan2000007"/>
          <p:cNvPicPr/>
          <p:nvPr/>
        </p:nvPicPr>
        <p:blipFill>
          <a:blip r:embed="rId3"/>
          <a:srcRect l="15288" t="20006" r="43513" b="60021"/>
          <a:stretch/>
        </p:blipFill>
        <p:spPr>
          <a:xfrm>
            <a:off x="395280" y="4221000"/>
            <a:ext cx="3529080" cy="221148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7" descr="sciubba_fig2"/>
          <p:cNvPicPr/>
          <p:nvPr/>
        </p:nvPicPr>
        <p:blipFill>
          <a:blip r:embed="rId4"/>
          <a:stretch/>
        </p:blipFill>
        <p:spPr>
          <a:xfrm>
            <a:off x="4716360" y="3933720"/>
            <a:ext cx="3527640" cy="2668680"/>
          </a:xfrm>
          <a:prstGeom prst="rect">
            <a:avLst/>
          </a:prstGeom>
          <a:ln w="0">
            <a:noFill/>
          </a:ln>
        </p:spPr>
      </p:pic>
      <p:sp>
        <p:nvSpPr>
          <p:cNvPr id="223" name="Slide Number Placeholder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7BA08-69ED-4300-9892-495BB61C7A5F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3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8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57120"/>
            <a:ext cx="8229600" cy="13716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7d"/>
            </a:solidFill>
            <a:miter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5400" spc="-1" strike="noStrike">
                <a:solidFill>
                  <a:srgbClr val="000000"/>
                </a:solidFill>
                <a:latin typeface="Arial"/>
              </a:rPr>
              <a:t>سرطان الفم 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Oral Canc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51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ar-SY" sz="2400" spc="-1" strike="noStrike">
                <a:solidFill>
                  <a:srgbClr val="000000"/>
                </a:solidFill>
                <a:latin typeface="Arial"/>
              </a:rPr>
              <a:t>أي تقرح في الفم يستمر لمدة </a:t>
            </a:r>
            <a:r>
              <a:rPr b="1" lang="ar-SY" sz="2400" spc="-1" strike="noStrike">
                <a:solidFill>
                  <a:srgbClr val="c00000"/>
                </a:solidFill>
                <a:latin typeface="Arial"/>
              </a:rPr>
              <a:t>أطول من </a:t>
            </a:r>
            <a:r>
              <a:rPr b="1" lang="ar-SY" sz="2400" spc="-1" strike="noStrike">
                <a:solidFill>
                  <a:srgbClr val="c00000"/>
                </a:solidFill>
                <a:latin typeface="Arial"/>
              </a:rPr>
              <a:t>3</a:t>
            </a:r>
            <a:r>
              <a:rPr b="1" lang="ar-SY" sz="2400" spc="-1" strike="noStrike">
                <a:solidFill>
                  <a:srgbClr val="c00000"/>
                </a:solidFill>
                <a:latin typeface="Arial"/>
              </a:rPr>
              <a:t> أسابيع</a:t>
            </a:r>
            <a:r>
              <a:rPr b="0" lang="ar-SY" sz="2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ar-SY" sz="2400" spc="-1" strike="noStrike">
                <a:solidFill>
                  <a:srgbClr val="000000"/>
                </a:solidFill>
                <a:latin typeface="Arial"/>
              </a:rPr>
              <a:t>يتطلب إحالة فورية إلى طبيب الأسنان أو إلى الطبيب لأنه قد يشير إلى مرض خطير مثل سرطان الف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000000"/>
                </a:solidFill>
                <a:latin typeface="Arial"/>
              </a:rPr>
              <a:t>المواقع تتضمن بشكل أساسي </a:t>
            </a:r>
            <a:r>
              <a:rPr b="1" lang="ar-SY" sz="2400" spc="-1" strike="noStrike">
                <a:solidFill>
                  <a:srgbClr val="ff0000"/>
                </a:solidFill>
                <a:latin typeface="Arial"/>
              </a:rPr>
              <a:t>أرضية اللسان أو الخ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000000"/>
                </a:solidFill>
                <a:latin typeface="Arial"/>
              </a:rPr>
              <a:t>سرطان الفم أكثر شيوعا </a:t>
            </a:r>
            <a:r>
              <a:rPr b="1" lang="ar-SY" sz="2400" spc="-1" strike="noStrike">
                <a:solidFill>
                  <a:srgbClr val="ff0000"/>
                </a:solidFill>
                <a:latin typeface="Arial"/>
              </a:rPr>
              <a:t>عند المدخنين</a:t>
            </a:r>
            <a:r>
              <a:rPr b="0" lang="ar-SY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ar-SY" sz="2400" spc="-1" strike="noStrike">
                <a:solidFill>
                  <a:srgbClr val="000000"/>
                </a:solidFill>
                <a:latin typeface="Arial"/>
              </a:rPr>
              <a:t>من غير المدخني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>
                <a:solidFill>
                  <a:srgbClr val="ff0000"/>
                </a:solidFill>
                <a:latin typeface="Arial"/>
              </a:rPr>
              <a:t>أكثر شيوعا عند الرجال</a:t>
            </a:r>
            <a:r>
              <a:rPr b="0" lang="ar-SY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ar-SY" sz="2400" spc="-1" strike="noStrike">
                <a:solidFill>
                  <a:srgbClr val="000000"/>
                </a:solidFill>
                <a:latin typeface="Arial"/>
              </a:rPr>
              <a:t>خاصة فوق ال </a:t>
            </a:r>
            <a:r>
              <a:rPr b="0" lang="ar-SY" sz="2400" spc="-1" strike="noStrike">
                <a:solidFill>
                  <a:srgbClr val="000000"/>
                </a:solidFill>
                <a:latin typeface="Arial"/>
              </a:rPr>
              <a:t>40</a:t>
            </a:r>
            <a:r>
              <a:rPr b="0" lang="ar-SY" sz="2400" spc="-1" strike="noStrike">
                <a:solidFill>
                  <a:srgbClr val="000000"/>
                </a:solidFill>
                <a:latin typeface="Arial"/>
              </a:rPr>
              <a:t> سن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>
                <a:solidFill>
                  <a:srgbClr val="ff0000"/>
                </a:solidFill>
                <a:latin typeface="Arial"/>
              </a:rPr>
              <a:t>لا يحدث ألم</a:t>
            </a:r>
            <a:r>
              <a:rPr b="0" lang="ar-SY" sz="2400" spc="-1" strike="noStrike">
                <a:solidFill>
                  <a:srgbClr val="ff0000"/>
                </a:solidFill>
                <a:latin typeface="Arial"/>
              </a:rPr>
              <a:t> عاد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9B89F-6EFA-4180-B541-4AFA7EF28F23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4" descr="Scan2000008"/>
          <p:cNvPicPr/>
          <p:nvPr/>
        </p:nvPicPr>
        <p:blipFill>
          <a:blip r:embed="rId1"/>
          <a:srcRect l="49393" t="73661" r="10584" b="0"/>
          <a:stretch/>
        </p:blipFill>
        <p:spPr>
          <a:xfrm>
            <a:off x="2195640" y="981000"/>
            <a:ext cx="5184720" cy="4765680"/>
          </a:xfrm>
          <a:prstGeom prst="rect">
            <a:avLst/>
          </a:prstGeom>
          <a:ln w="0">
            <a:noFill/>
          </a:ln>
        </p:spPr>
      </p:pic>
      <p:sp>
        <p:nvSpPr>
          <p:cNvPr id="228" name="Text Box 5"/>
          <p:cNvSpPr/>
          <p:nvPr/>
        </p:nvSpPr>
        <p:spPr>
          <a:xfrm>
            <a:off x="4211640" y="5805360"/>
            <a:ext cx="1727280" cy="947160"/>
          </a:xfrm>
          <a:prstGeom prst="rect">
            <a:avLst/>
          </a:prstGeom>
          <a:noFill/>
          <a:ln w="93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Arial"/>
              </a:rPr>
              <a:t>سرطان الف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E50F0-556E-459C-B096-FFC3369EE684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7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5400" spc="-1" strike="noStrike">
                <a:solidFill>
                  <a:srgbClr val="000000"/>
                </a:solidFill>
                <a:latin typeface="Arial"/>
              </a:rPr>
              <a:t>الطفح الفموي الفطري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09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r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بقع </a:t>
            </a:r>
            <a:r>
              <a:rPr b="0" lang="ar-SY" sz="3200" spc="-1" strike="noStrike">
                <a:solidFill>
                  <a:srgbClr val="c00000"/>
                </a:solidFill>
                <a:latin typeface="Arial"/>
              </a:rPr>
              <a:t>بيضاء منتشر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ألم – حرقة في اللسان – طعم غريب في الف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تحدث في كل الأماكن لكن بشكل أساسي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اللسان – سقف الحنك – الشفاه والخدو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أحيانا يشتكي المريض من </a:t>
            </a:r>
            <a:r>
              <a:rPr b="0" lang="ar-SY" sz="3200" spc="-1" strike="noStrike">
                <a:solidFill>
                  <a:srgbClr val="c00000"/>
                </a:solidFill>
                <a:latin typeface="Arial"/>
              </a:rPr>
              <a:t>فقدان الشه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AE1A8-23D2-4971-A471-88A2B3FFC126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4400" spc="-1" strike="noStrike">
                <a:solidFill>
                  <a:srgbClr val="ff0000"/>
                </a:solidFill>
                <a:latin typeface="Arial"/>
              </a:rPr>
              <a:t>أسباب التقرحات</a:t>
            </a:r>
            <a:r>
              <a:rPr b="0" lang="ar-SY" sz="44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42960" y="2214720"/>
            <a:ext cx="8229600" cy="2000160"/>
          </a:xfrm>
          <a:prstGeom prst="rect">
            <a:avLst/>
          </a:prstGeom>
          <a:noFill/>
          <a:ln w="9360">
            <a:solidFill>
              <a:srgbClr val="00005e"/>
            </a:solidFill>
            <a:miter/>
          </a:ln>
        </p:spPr>
        <p:txBody>
          <a:bodyPr anchor="t">
            <a:normAutofit fontScale="86000"/>
          </a:bodyPr>
          <a:p>
            <a:pPr marL="294840" indent="-294840" algn="r" rtl="1">
              <a:lnSpc>
                <a:spcPct val="15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200" spc="-1" strike="noStrike">
                <a:solidFill>
                  <a:srgbClr val="000000"/>
                </a:solidFill>
                <a:latin typeface="Arial"/>
              </a:rPr>
              <a:t>الرضوض – الإنتانات – التحسس لبعض الأدوي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r" rtl="1">
              <a:lnSpc>
                <a:spcPct val="15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200" spc="-1" strike="noStrike">
                <a:solidFill>
                  <a:srgbClr val="000000"/>
                </a:solidFill>
                <a:latin typeface="Arial"/>
              </a:rPr>
              <a:t>عارض لمرض خطير مثل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rcino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10652-BFB8-4788-84E7-EA7FC1CA2B68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858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4400" spc="-1" strike="noStrike">
                <a:solidFill>
                  <a:srgbClr val="000000"/>
                </a:solidFill>
                <a:latin typeface="Arial"/>
              </a:rPr>
              <a:t>الطفح الفموي الفطر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4" descr="Candida-2"/>
          <p:cNvPicPr/>
          <p:nvPr/>
        </p:nvPicPr>
        <p:blipFill>
          <a:blip r:embed="rId1"/>
          <a:stretch/>
        </p:blipFill>
        <p:spPr>
          <a:xfrm>
            <a:off x="1071720" y="1500120"/>
            <a:ext cx="7715160" cy="5143680"/>
          </a:xfrm>
          <a:prstGeom prst="rect">
            <a:avLst/>
          </a:prstGeom>
          <a:ln w="0">
            <a:noFill/>
          </a:ln>
        </p:spPr>
      </p:pic>
      <p:sp>
        <p:nvSpPr>
          <p:cNvPr id="23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82B01-E598-47B0-8746-BD05F5557BC8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4" descr="Scan2000008"/>
          <p:cNvPicPr/>
          <p:nvPr/>
        </p:nvPicPr>
        <p:blipFill>
          <a:blip r:embed="rId1"/>
          <a:srcRect l="52922" t="36374" r="15288" b="34559"/>
          <a:stretch/>
        </p:blipFill>
        <p:spPr>
          <a:xfrm>
            <a:off x="1187280" y="476280"/>
            <a:ext cx="6553440" cy="5105520"/>
          </a:xfrm>
          <a:prstGeom prst="rect">
            <a:avLst/>
          </a:prstGeom>
          <a:ln w="0">
            <a:noFill/>
          </a:ln>
        </p:spPr>
      </p:pic>
      <p:sp>
        <p:nvSpPr>
          <p:cNvPr id="239" name="Text Box 5"/>
          <p:cNvSpPr/>
          <p:nvPr/>
        </p:nvSpPr>
        <p:spPr>
          <a:xfrm>
            <a:off x="1547640" y="5780160"/>
            <a:ext cx="5977080" cy="520560"/>
          </a:xfrm>
          <a:prstGeom prst="rect">
            <a:avLst/>
          </a:prstGeom>
          <a:noFill/>
          <a:ln w="93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Arial"/>
              </a:rPr>
              <a:t>داء المبيضات البيض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dida albic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65E62-5700-4FA5-B9AC-5F19D56F1A25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7d"/>
            </a:solidFill>
            <a:miter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6600" spc="-1" strike="noStrike">
                <a:solidFill>
                  <a:srgbClr val="000000"/>
                </a:solidFill>
                <a:latin typeface="Arial"/>
              </a:rPr>
              <a:t>العلاج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500040" y="1928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r" rtl="1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r" rtl="1">
              <a:lnSpc>
                <a:spcPct val="15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600" spc="-1" strike="noStrike">
                <a:solidFill>
                  <a:srgbClr val="ff0000"/>
                </a:solidFill>
                <a:latin typeface="Arial"/>
              </a:rPr>
              <a:t>النيستاتين</a:t>
            </a:r>
            <a:r>
              <a:rPr b="0" lang="ar-SY" sz="3600" spc="-1" strike="noStrike">
                <a:solidFill>
                  <a:srgbClr val="000000"/>
                </a:solidFill>
                <a:latin typeface="Arial"/>
              </a:rPr>
              <a:t> يعتبر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O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 rtl="1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r" rtl="1">
              <a:lnSpc>
                <a:spcPct val="15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600" spc="-1" strike="noStrike">
                <a:solidFill>
                  <a:srgbClr val="000000"/>
                </a:solidFill>
                <a:latin typeface="Arial"/>
              </a:rPr>
              <a:t>أما المضاد الفطري: </a:t>
            </a:r>
            <a:r>
              <a:rPr b="1" lang="ar-SY" sz="3600" spc="-1" strike="noStrike">
                <a:solidFill>
                  <a:srgbClr val="ff0000"/>
                </a:solidFill>
                <a:latin typeface="Arial"/>
              </a:rPr>
              <a:t>الميكونازول</a:t>
            </a:r>
            <a:r>
              <a:rPr b="0" lang="ar-SY" sz="3600" spc="-1" strike="noStrike">
                <a:solidFill>
                  <a:srgbClr val="000000"/>
                </a:solidFill>
                <a:latin typeface="Arial"/>
              </a:rPr>
              <a:t> فيعتبرمن أدوية ال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T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 rtl="1">
              <a:lnSpc>
                <a:spcPct val="15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8222E-EEF8-4113-9F56-2A9F114EDB99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7d"/>
            </a:solidFill>
            <a:miter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6600" spc="-1" strike="noStrike">
                <a:solidFill>
                  <a:srgbClr val="000000"/>
                </a:solidFill>
                <a:latin typeface="Arial"/>
              </a:rPr>
              <a:t>العلاج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49976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Daktazol</a:t>
            </a:r>
            <a:r>
              <a:rPr b="1" i="1" lang="ar-SY" sz="36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oral gel (Domin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Miconazole 2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Arial"/>
              </a:rPr>
              <a:t>يمكن تطبيق كمية من الجل بواسطة </a:t>
            </a:r>
            <a:r>
              <a:rPr b="1" lang="ar-SY" sz="2800" spc="-1" strike="noStrike">
                <a:solidFill>
                  <a:srgbClr val="ff0000"/>
                </a:solidFill>
                <a:latin typeface="Arial"/>
              </a:rPr>
              <a:t>أصبع نظيف </a:t>
            </a:r>
            <a:r>
              <a:rPr b="0" lang="ar-SY" sz="2800" spc="-1" strike="noStrike">
                <a:solidFill>
                  <a:srgbClr val="000000"/>
                </a:solidFill>
                <a:latin typeface="Arial"/>
              </a:rPr>
              <a:t>على المنطقة المصاب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Arial"/>
              </a:rPr>
              <a:t>أما في حال كانت الإصابة منتشرة كثيرا فتستخدم كمية تعادل </a:t>
            </a:r>
            <a:r>
              <a:rPr b="1" lang="ar-SY" sz="2800" spc="-1" strike="noStrike">
                <a:solidFill>
                  <a:srgbClr val="000000"/>
                </a:solidFill>
                <a:latin typeface="Arial"/>
              </a:rPr>
              <a:t>ملعقة كبيرة </a:t>
            </a:r>
            <a:r>
              <a:rPr b="0" lang="ar-SY" sz="2800" spc="-1" strike="noStrike">
                <a:solidFill>
                  <a:srgbClr val="000000"/>
                </a:solidFill>
                <a:latin typeface="Arial"/>
              </a:rPr>
              <a:t>تطبق </a:t>
            </a:r>
            <a:r>
              <a:rPr b="0" lang="ar-SY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ar-SY" sz="2800" spc="-1" strike="noStrike">
                <a:solidFill>
                  <a:srgbClr val="000000"/>
                </a:solidFill>
                <a:latin typeface="Arial"/>
              </a:rPr>
              <a:t> مرات في اليوم للبالغين والأطفال فوق </a:t>
            </a:r>
            <a:r>
              <a:rPr b="0" lang="ar-SY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ar-SY" sz="2800" spc="-1" strike="noStrike">
                <a:solidFill>
                  <a:srgbClr val="000000"/>
                </a:solidFill>
                <a:latin typeface="Arial"/>
              </a:rPr>
              <a:t> سنوات ومرتين يومياً للأطفال تحت </a:t>
            </a:r>
            <a:r>
              <a:rPr b="0" lang="ar-SY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ar-SY" sz="2800" spc="-1" strike="noStrike">
                <a:solidFill>
                  <a:srgbClr val="000000"/>
                </a:solidFill>
                <a:latin typeface="Arial"/>
              </a:rPr>
              <a:t> سنوا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Arial"/>
              </a:rPr>
              <a:t>الرضع والأطفال تحت </a:t>
            </a:r>
            <a:r>
              <a:rPr b="0" lang="ar-SY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ar-SY" sz="2800" spc="-1" strike="noStrike">
                <a:solidFill>
                  <a:srgbClr val="000000"/>
                </a:solidFill>
                <a:latin typeface="Arial"/>
              </a:rPr>
              <a:t> سنة : </a:t>
            </a:r>
            <a:r>
              <a:rPr b="0" lang="ar-SY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ar-SY" sz="2800" spc="-1" strike="noStrike">
                <a:solidFill>
                  <a:srgbClr val="000000"/>
                </a:solidFill>
                <a:latin typeface="Arial"/>
              </a:rPr>
              <a:t> مل مل مرتين في اليو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3A96F-E416-4944-8CA4-B73F1F4E3A7D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7d"/>
            </a:solidFill>
            <a:miter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6600" spc="-1" strike="noStrike">
                <a:solidFill>
                  <a:srgbClr val="000000"/>
                </a:solidFill>
                <a:latin typeface="Arial"/>
              </a:rPr>
              <a:t>العلاج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r" rtl="1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000000"/>
                </a:solidFill>
                <a:latin typeface="Arial"/>
              </a:rPr>
              <a:t>ينصح المريض بالاحتفاظ بالجل في الفم أطول فترة ممكنة لزيادة زمن التما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r" rtl="1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000000"/>
                </a:solidFill>
                <a:latin typeface="Arial"/>
              </a:rPr>
              <a:t>يجب متابعة العلاج لمدة يومين بعد اختفاء الأعرا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r" rtl="1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>
                <a:solidFill>
                  <a:srgbClr val="000000"/>
                </a:solidFill>
                <a:latin typeface="Arial"/>
              </a:rPr>
              <a:t>يتداخل الميكونازول مع العديد من الأدوية وبشكل أساسي </a:t>
            </a:r>
            <a:r>
              <a:rPr b="1" lang="ar-SY" sz="2400" spc="-1" strike="noStrike">
                <a:solidFill>
                  <a:srgbClr val="ff0000"/>
                </a:solidFill>
                <a:latin typeface="Arial"/>
              </a:rPr>
              <a:t>الوارفارين</a:t>
            </a:r>
            <a:r>
              <a:rPr b="1" lang="ar-SY" sz="2400" spc="-1" strike="noStrike">
                <a:solidFill>
                  <a:srgbClr val="000000"/>
                </a:solidFill>
                <a:latin typeface="Arial"/>
              </a:rPr>
              <a:t> حيث يزداد تركيز الوارفارين الدمو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r" rtl="1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000000"/>
                </a:solidFill>
                <a:latin typeface="Arial"/>
              </a:rPr>
              <a:t>يمكن أن يسبب الغثيان والإقيا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r" rtl="1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c00000"/>
                </a:solidFill>
                <a:latin typeface="Arial"/>
              </a:rPr>
              <a:t>يجب تجنبه عموما في الحم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9FC23-C38A-4CCE-904D-8D7A134664AC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 txBox="1"/>
          <p:nvPr/>
        </p:nvSpPr>
        <p:spPr>
          <a:xfrm>
            <a:off x="357120" y="135684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Mycostatine oral susp (Unipharm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ystat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>
                <a:solidFill>
                  <a:srgbClr val="000000"/>
                </a:solidFill>
                <a:latin typeface="Arial"/>
              </a:rPr>
              <a:t>مستحضرات شبيهة للشهباء وبركات وقنواتي وميديكو وفارماسير وآسيا( بعضها يوجد على شكل نقط فموية وكذلك مضغوطات ملبسة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 algn="r" rtl="1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ff0000"/>
                </a:solidFill>
                <a:latin typeface="Arial"/>
              </a:rPr>
              <a:t>معلق فموي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: للأطفال والكبار ملعقة صغيرة 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مرات في اليو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 algn="r" rtl="1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نقط فموية: للرضع 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مل 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مرات يوميا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 algn="r" rtl="1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Y" sz="3200" spc="-1" strike="noStrike">
                <a:solidFill>
                  <a:srgbClr val="ff0000"/>
                </a:solidFill>
                <a:latin typeface="Arial"/>
              </a:rPr>
              <a:t>يجب أن يترك الدواء في الفم لبعض الوقت قبل أن يبل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9A8FB-35B0-4D35-B1E2-5373E6BEAE5B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4" descr="Scan2000008"/>
          <p:cNvPicPr/>
          <p:nvPr/>
        </p:nvPicPr>
        <p:blipFill>
          <a:blip r:embed="rId1"/>
          <a:srcRect l="52922" t="36374" r="15288" b="34559"/>
          <a:stretch/>
        </p:blipFill>
        <p:spPr>
          <a:xfrm>
            <a:off x="0" y="1197000"/>
            <a:ext cx="4680000" cy="364644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5" descr="Scan2000008"/>
          <p:cNvPicPr/>
          <p:nvPr/>
        </p:nvPicPr>
        <p:blipFill>
          <a:blip r:embed="rId2"/>
          <a:srcRect l="49393" t="73661" r="10584" b="0"/>
          <a:stretch/>
        </p:blipFill>
        <p:spPr>
          <a:xfrm>
            <a:off x="4788000" y="1166760"/>
            <a:ext cx="3743280" cy="3846600"/>
          </a:xfrm>
          <a:prstGeom prst="rect">
            <a:avLst/>
          </a:prstGeom>
          <a:ln w="0">
            <a:noFill/>
          </a:ln>
        </p:spPr>
      </p:pic>
      <p:sp>
        <p:nvSpPr>
          <p:cNvPr id="25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95D3E-258C-4094-97B9-425066DBA6CB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0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7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5400" spc="-1" strike="noStrike">
                <a:solidFill>
                  <a:srgbClr val="000000"/>
                </a:solidFill>
                <a:latin typeface="Arial"/>
              </a:rPr>
              <a:t>متى تجب الإحالة إلى الطبيب 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استمرار التقرح لأكثر من 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أسابي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فقدان وزن مراف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إذا حدث التقرح في أمكنة أخرى من الجس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الشك في وجود أثر جانبي للدوا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الاسها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إذا لم يحدث تحسن بعد أسبوع من العلا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78144-E099-4BC0-AD8B-8121D851E31C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9360">
            <a:solidFill>
              <a:srgbClr val="00005e"/>
            </a:solidFill>
            <a:miter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5400" spc="-1" strike="noStrike">
                <a:solidFill>
                  <a:srgbClr val="ff0000"/>
                </a:solidFill>
                <a:latin typeface="Arial"/>
              </a:rPr>
              <a:t>التهاب اللثة 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Gingiviti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r" rtl="1">
              <a:lnSpc>
                <a:spcPct val="15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ff0000"/>
                </a:solidFill>
                <a:latin typeface="Arial"/>
              </a:rPr>
              <a:t>سبب التهاب اللثة </a:t>
            </a:r>
            <a:r>
              <a:rPr b="0" lang="ar-SY" sz="3200" spc="-1" strike="noStrike">
                <a:solidFill>
                  <a:srgbClr val="262626"/>
                </a:solidFill>
                <a:latin typeface="Arial"/>
              </a:rPr>
              <a:t>هو بناء طبقة </a:t>
            </a:r>
            <a:r>
              <a:rPr b="0" lang="ar-SY" sz="3200" spc="-1" strike="noStrike">
                <a:solidFill>
                  <a:srgbClr val="c00000"/>
                </a:solidFill>
                <a:latin typeface="Arial"/>
              </a:rPr>
              <a:t>البلاك </a:t>
            </a: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plaque</a:t>
            </a:r>
            <a:r>
              <a:rPr b="0" lang="ar-SY" sz="3200" spc="-1" strike="noStrike">
                <a:solidFill>
                  <a:srgbClr val="262626"/>
                </a:solidFill>
                <a:latin typeface="Arial"/>
              </a:rPr>
              <a:t> بشكل متزايد على الأسنان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 rtl="1">
              <a:lnSpc>
                <a:spcPct val="15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 rtl="1">
              <a:lnSpc>
                <a:spcPct val="15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262626"/>
                </a:solidFill>
                <a:latin typeface="Arial"/>
              </a:rPr>
              <a:t>يمكن تجنب ذلك من خلال التنظيف المنتظم للأسنا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 rtl="1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 rtl="1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010A2-6B1B-44BF-88A4-D44DFA3EDAA4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181D6-70CA-4A55-93D9-D840C7A7A675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عنصر نائب للمحتوى 3" descr="9348.jpg"/>
          <p:cNvPicPr/>
          <p:nvPr/>
        </p:nvPicPr>
        <p:blipFill>
          <a:blip r:embed="rId1"/>
          <a:stretch/>
        </p:blipFill>
        <p:spPr>
          <a:xfrm>
            <a:off x="1095480" y="928800"/>
            <a:ext cx="6572160" cy="52862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4" descr=""/>
          <p:cNvPicPr/>
          <p:nvPr/>
        </p:nvPicPr>
        <p:blipFill>
          <a:blip r:embed="rId1"/>
          <a:stretch/>
        </p:blipFill>
        <p:spPr>
          <a:xfrm>
            <a:off x="468360" y="1484280"/>
            <a:ext cx="7775640" cy="4681440"/>
          </a:xfrm>
          <a:prstGeom prst="rect">
            <a:avLst/>
          </a:prstGeom>
          <a:ln w="0">
            <a:noFill/>
          </a:ln>
        </p:spPr>
      </p:pic>
      <p:sp>
        <p:nvSpPr>
          <p:cNvPr id="130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CDAC4-613A-4B9C-B39C-BB76590EAB2E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F7C36-6B89-4D42-A280-5FE4AA40D2E4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عنصر نائب للمحتوى 3" descr="toothdiagram.gif"/>
          <p:cNvPicPr/>
          <p:nvPr/>
        </p:nvPicPr>
        <p:blipFill>
          <a:blip r:embed="rId1"/>
          <a:stretch/>
        </p:blipFill>
        <p:spPr>
          <a:xfrm>
            <a:off x="1476360" y="857160"/>
            <a:ext cx="5857920" cy="52149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9360">
            <a:solidFill>
              <a:srgbClr val="00005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5400" spc="-1" strike="noStrike">
                <a:solidFill>
                  <a:srgbClr val="ff0000"/>
                </a:solidFill>
                <a:latin typeface="Arial"/>
              </a:rPr>
              <a:t>العوامل المؤهبة لالتهاب اللثة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211428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r" rtl="1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مرض السكر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r" rtl="1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التدخي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r" rtl="1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التغذية السيئ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r" rtl="1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عدم الاهتمام بالنظافة الفمو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r" rtl="1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الحم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r" rtl="1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مانعات الحمل الفمو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r" rtl="1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البلو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522B3-9326-456A-8683-8C12FB88383C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9360">
            <a:solidFill>
              <a:srgbClr val="00005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400" spc="-1" strike="noStrike">
                <a:solidFill>
                  <a:srgbClr val="ff0000"/>
                </a:solidFill>
                <a:latin typeface="Arial"/>
              </a:rPr>
              <a:t>الوصول إلى تشخيص تفريق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r" rtl="1">
              <a:lnSpc>
                <a:spcPct val="15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يتطور التهاب اللثة بشكل </a:t>
            </a:r>
            <a:r>
              <a:rPr b="0" lang="ar-SY" sz="3200" spc="-1" strike="noStrike">
                <a:solidFill>
                  <a:srgbClr val="ff0000"/>
                </a:solidFill>
                <a:latin typeface="Arial"/>
              </a:rPr>
              <a:t>غير ملفت للنظر 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لأنه يحدث بلا أعراض أو أل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r" rtl="1">
              <a:lnSpc>
                <a:spcPct val="15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r" rtl="1">
              <a:lnSpc>
                <a:spcPct val="15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يجب أن يسأل الصيدلي المريض عن </a:t>
            </a:r>
            <a:r>
              <a:rPr b="0" lang="ar-SY" sz="3200" spc="-1" strike="noStrike">
                <a:solidFill>
                  <a:srgbClr val="ff0000"/>
                </a:solidFill>
                <a:latin typeface="Arial"/>
              </a:rPr>
              <a:t>طريقة تنظيف الأسنان 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كذلك تكرار الزيارة لطبيب الأسنا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543FA-BEBC-4E3D-8C71-2B9BE54D5CD6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 txBox="1"/>
          <p:nvPr/>
        </p:nvSpPr>
        <p:spPr>
          <a:xfrm>
            <a:off x="457200" y="71388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-267480" algn="r" rtl="1">
              <a:lnSpc>
                <a:spcPct val="15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ff0000"/>
                </a:solidFill>
                <a:latin typeface="Arial"/>
              </a:rPr>
              <a:t>آلية تنظيف الأسنان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 algn="r" rtl="1">
              <a:lnSpc>
                <a:spcPct val="15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إن التنظيف المبالغ فيه للأسنان قد يسبب نزيف أو تراجع اللث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 algn="r" rtl="1">
              <a:lnSpc>
                <a:spcPct val="15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يمكن استخدام فرشاة أسنان آل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 algn="r" rtl="1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 algn="r" rtl="1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ff0000"/>
                </a:solidFill>
                <a:latin typeface="Arial"/>
              </a:rPr>
              <a:t>نزيف اللث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 algn="r" rtl="1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حدوث نزيف من غير رض أو سبب واضح يستدعي الإحالة إلى الطبي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3B7CC-15BE-4D40-AE13-88913FD6E558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3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9360">
            <a:solidFill>
              <a:srgbClr val="00005e"/>
            </a:solidFill>
            <a:miter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800" spc="-1" strike="noStrike">
                <a:solidFill>
                  <a:srgbClr val="ff0000"/>
                </a:solidFill>
                <a:latin typeface="Arial"/>
              </a:rPr>
              <a:t>التهاب اللثة 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Gingiviti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 algn="r" rtl="1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ff0000"/>
                </a:solidFill>
                <a:latin typeface="Arial"/>
              </a:rPr>
              <a:t>المظاهر السريرية لالتهاب اللثة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 algn="r" rtl="1">
              <a:lnSpc>
                <a:spcPct val="15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تورم واحمرار اللث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 algn="r" rtl="1">
              <a:lnSpc>
                <a:spcPct val="15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نزيف في حالة الضغط البسيط على اللث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 algn="r" rtl="1">
              <a:lnSpc>
                <a:spcPct val="15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قد تشاهد طبقة البلاك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que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على الأسنان التي يصعب الوصول إليه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 algn="r" rtl="1">
              <a:lnSpc>
                <a:spcPct val="15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رائحة كريهة للف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 algn="r" rtl="1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D3094-90F3-4D46-8534-CB2C0B054590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9360">
            <a:solidFill>
              <a:srgbClr val="1818ff"/>
            </a:solidFill>
            <a:miter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400" spc="-1" strike="noStrike">
                <a:solidFill>
                  <a:srgbClr val="ff0000"/>
                </a:solidFill>
                <a:latin typeface="Arial"/>
              </a:rPr>
              <a:t>رائحة الفم الكريهة 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Halito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عنصر نائب للمحتوى 3" descr="bad-breath.jpg"/>
          <p:cNvPicPr/>
          <p:nvPr/>
        </p:nvPicPr>
        <p:blipFill>
          <a:blip r:embed="rId1"/>
          <a:stretch/>
        </p:blipFill>
        <p:spPr>
          <a:xfrm>
            <a:off x="2143080" y="1981080"/>
            <a:ext cx="4929120" cy="4372200"/>
          </a:xfrm>
          <a:prstGeom prst="rect">
            <a:avLst/>
          </a:prstGeom>
          <a:ln w="0">
            <a:noFill/>
          </a:ln>
        </p:spPr>
      </p:pic>
      <p:sp>
        <p:nvSpPr>
          <p:cNvPr id="28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E45C8-8ED6-4D0C-9E24-160DBD6C97BD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0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9360">
            <a:solidFill>
              <a:srgbClr val="1818ff"/>
            </a:solidFill>
            <a:miter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400" spc="-1" strike="noStrike">
                <a:solidFill>
                  <a:srgbClr val="ff0000"/>
                </a:solidFill>
                <a:latin typeface="Arial"/>
              </a:rPr>
              <a:t>رائحة الفم الكريهة 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Halito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الفم هو المصدر الأساسي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وقد يكون هناك أسباب أخر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r" rtl="1">
              <a:lnSpc>
                <a:spcPct val="15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200" spc="-1" strike="noStrike" u="sng">
                <a:solidFill>
                  <a:srgbClr val="ff0000"/>
                </a:solidFill>
                <a:uFillTx/>
                <a:latin typeface="Arial"/>
              </a:rPr>
              <a:t>الفم</a:t>
            </a:r>
            <a:r>
              <a:rPr b="1" lang="ar-SY" sz="32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r" rtl="1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ar-SY" sz="3200" spc="-1" strike="noStrike">
                <a:solidFill>
                  <a:srgbClr val="ff0000"/>
                </a:solidFill>
                <a:latin typeface="Arial"/>
              </a:rPr>
              <a:t>- البكتيري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r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نقص الأكسجين في الفم أثناء النوم (الحل تنظيف الأسنان  بالفرشاة – الطعام – المضمضة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55D12-2878-4225-BB0B-0C2FE280A166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9360">
            <a:solidFill>
              <a:srgbClr val="1818ff"/>
            </a:solidFill>
            <a:miter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400" spc="-1" strike="noStrike">
                <a:solidFill>
                  <a:srgbClr val="ff0000"/>
                </a:solidFill>
                <a:latin typeface="Arial"/>
              </a:rPr>
              <a:t>أسباب رائحة الفم الكريهة 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Halito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200" spc="-1" strike="noStrike">
                <a:solidFill>
                  <a:srgbClr val="ff0000"/>
                </a:solidFill>
                <a:latin typeface="Arial"/>
              </a:rPr>
              <a:t>2- </a:t>
            </a:r>
            <a:r>
              <a:rPr b="1" lang="ar-SY" sz="3200" spc="-1" strike="noStrike">
                <a:solidFill>
                  <a:srgbClr val="ff0000"/>
                </a:solidFill>
                <a:latin typeface="Arial"/>
              </a:rPr>
              <a:t>جفاف 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الفم أثناء النوم (الحل تنظيف الأسنان بالفرشاة – الطعام – المضمضة)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3- 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بعض </a:t>
            </a:r>
            <a:r>
              <a:rPr b="1" lang="ar-SY" sz="3200" spc="-1" strike="noStrike">
                <a:solidFill>
                  <a:srgbClr val="ff0000"/>
                </a:solidFill>
                <a:latin typeface="Arial"/>
              </a:rPr>
              <a:t>الأطعمة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(البصل – الثوم )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الكحول - التدخي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D2BA9-76D1-4403-92E0-8B535AA9867E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9360">
            <a:solidFill>
              <a:srgbClr val="1818ff"/>
            </a:solidFill>
            <a:miter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400" spc="-1" strike="noStrike">
                <a:solidFill>
                  <a:srgbClr val="ff0000"/>
                </a:solidFill>
                <a:latin typeface="Arial"/>
              </a:rPr>
              <a:t>أسباب رائحة الفم الكريهة 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Halito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ar-SY" sz="32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0" lang="ar-SY" sz="3200" spc="-1" strike="noStrike">
                <a:solidFill>
                  <a:srgbClr val="ff0000"/>
                </a:solidFill>
                <a:latin typeface="Arial"/>
              </a:rPr>
              <a:t>-التهاب اللثة وتشكل الجيوب اللثو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ff0000"/>
                </a:solidFill>
                <a:latin typeface="Arial"/>
              </a:rPr>
              <a:t>5- </a:t>
            </a:r>
            <a:r>
              <a:rPr b="0" lang="ar-SY" sz="3200" spc="-1" strike="noStrike">
                <a:solidFill>
                  <a:srgbClr val="ff0000"/>
                </a:solidFill>
                <a:latin typeface="Arial"/>
              </a:rPr>
              <a:t>اللسان: </a:t>
            </a:r>
            <a:r>
              <a:rPr b="1" lang="ar-SY" sz="3200" spc="-1" strike="noStrike">
                <a:solidFill>
                  <a:srgbClr val="ff0000"/>
                </a:solidFill>
                <a:latin typeface="Arial"/>
              </a:rPr>
              <a:t>80</a:t>
            </a:r>
            <a:r>
              <a:rPr b="1" lang="ar-SY" sz="3200" spc="-1" strike="noStrike">
                <a:solidFill>
                  <a:srgbClr val="ff0000"/>
                </a:solidFill>
                <a:latin typeface="Arial"/>
              </a:rPr>
              <a:t> – </a:t>
            </a:r>
            <a:r>
              <a:rPr b="1" lang="ar-SY" sz="3200" spc="-1" strike="noStrike">
                <a:solidFill>
                  <a:srgbClr val="ff0000"/>
                </a:solidFill>
                <a:latin typeface="Arial"/>
              </a:rPr>
              <a:t>90</a:t>
            </a:r>
            <a:r>
              <a:rPr b="1" lang="ar-SY" sz="3200" spc="-1" strike="noStrike">
                <a:solidFill>
                  <a:srgbClr val="ff0000"/>
                </a:solidFill>
                <a:latin typeface="Arial"/>
              </a:rPr>
              <a:t>% من أسباب الروائح الكريه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15D0A-734E-4275-97A1-770C0E9B70B2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9" dur="500"/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9360">
            <a:solidFill>
              <a:srgbClr val="1818ff"/>
            </a:solidFill>
            <a:miter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400" spc="-1" strike="noStrike">
                <a:solidFill>
                  <a:srgbClr val="ff0000"/>
                </a:solidFill>
                <a:latin typeface="Arial"/>
              </a:rPr>
              <a:t>أسباب رائحة الفم الكريهة 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Halito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r" rtl="1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b</a:t>
            </a:r>
            <a:r>
              <a:rPr b="0" lang="ar-SY" sz="3200" spc="-1" strike="noStrike">
                <a:solidFill>
                  <a:srgbClr val="ff0000"/>
                </a:solidFill>
                <a:latin typeface="Arial"/>
              </a:rPr>
              <a:t>– </a:t>
            </a:r>
            <a:r>
              <a:rPr b="1" lang="ar-SY" sz="3200" spc="-1" strike="noStrike">
                <a:solidFill>
                  <a:srgbClr val="ff0000"/>
                </a:solidFill>
                <a:latin typeface="Arial"/>
              </a:rPr>
              <a:t>الأنف</a:t>
            </a:r>
            <a:r>
              <a:rPr b="0" lang="ar-SY" sz="3200" spc="-1" strike="noStrike">
                <a:solidFill>
                  <a:srgbClr val="ff0000"/>
                </a:solidFill>
                <a:latin typeface="Arial"/>
              </a:rPr>
              <a:t> : 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التهاب</a:t>
            </a:r>
            <a:r>
              <a:rPr b="0" lang="ar-SY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الجيو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r" rtl="1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ar-SY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ar-SY" sz="3200" spc="-1" strike="noStrike">
                <a:solidFill>
                  <a:srgbClr val="ff0000"/>
                </a:solidFill>
                <a:latin typeface="Arial"/>
              </a:rPr>
              <a:t>اللوزات</a:t>
            </a:r>
            <a:r>
              <a:rPr b="1" lang="ar-SY" sz="3200" spc="-1" strike="noStrike">
                <a:solidFill>
                  <a:srgbClr val="000000"/>
                </a:solidFill>
                <a:latin typeface="Arial"/>
              </a:rPr>
              <a:t> (سبب ثانوي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r" rtl="1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ar-SY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ar-SY" sz="3200" spc="-1" strike="noStrike">
                <a:solidFill>
                  <a:srgbClr val="ff0000"/>
                </a:solidFill>
                <a:latin typeface="Arial"/>
              </a:rPr>
              <a:t>المعدة</a:t>
            </a:r>
            <a:r>
              <a:rPr b="1" lang="ar-SY" sz="3200" spc="-1" strike="noStrike">
                <a:solidFill>
                  <a:srgbClr val="000000"/>
                </a:solidFill>
                <a:latin typeface="Arial"/>
              </a:rPr>
              <a:t> (سبب غير شائع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r" rtl="1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ar-SY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ar-SY" sz="3200" spc="-1" strike="noStrike">
                <a:solidFill>
                  <a:srgbClr val="ff0000"/>
                </a:solidFill>
                <a:latin typeface="Arial"/>
              </a:rPr>
              <a:t>أمراض جهازية: </a:t>
            </a:r>
            <a:r>
              <a:rPr b="1" lang="ar-SY" sz="3200" spc="-1" strike="noStrike">
                <a:solidFill>
                  <a:srgbClr val="000000"/>
                </a:solidFill>
                <a:latin typeface="Arial"/>
              </a:rPr>
              <a:t>السكر – أمراض كلوية – إصابات الجهاز التنفسي السفل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DA6D1-CBC2-4773-B210-5AAC737DAA13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" dur="500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1" dur="500"/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6" dur="500"/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6"/>
          <p:cNvSpPr/>
          <p:nvPr/>
        </p:nvSpPr>
        <p:spPr>
          <a:xfrm>
            <a:off x="357120" y="5429160"/>
            <a:ext cx="80647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000000"/>
                </a:solidFill>
                <a:latin typeface="Arial"/>
              </a:rPr>
              <a:t>المريض قد يصف حدوث تقرح بشكل دائم والذي قد بدأ منذ الصغر ويستمرفي معاودة الظهور حتى الآ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000000"/>
                </a:solidFill>
                <a:latin typeface="Arial"/>
              </a:rPr>
              <a:t>غالباً ما توجد </a:t>
            </a:r>
            <a:r>
              <a:rPr b="1" lang="ar-SY" sz="2400" spc="-1" strike="noStrike">
                <a:solidFill>
                  <a:srgbClr val="ff0000"/>
                </a:solidFill>
                <a:latin typeface="Arial"/>
              </a:rPr>
              <a:t>قصة</a:t>
            </a:r>
            <a:r>
              <a:rPr b="1" lang="ar-SY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Y" sz="2400" spc="-1" strike="noStrike">
                <a:solidFill>
                  <a:srgbClr val="ff0000"/>
                </a:solidFill>
                <a:latin typeface="Arial"/>
              </a:rPr>
              <a:t>عائلي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7" descr="Scan2000006"/>
          <p:cNvPicPr/>
          <p:nvPr/>
        </p:nvPicPr>
        <p:blipFill>
          <a:blip r:embed="rId1"/>
          <a:srcRect l="5880" t="55474" r="57626" b="23643"/>
          <a:stretch/>
        </p:blipFill>
        <p:spPr>
          <a:xfrm>
            <a:off x="1357200" y="981000"/>
            <a:ext cx="6239160" cy="434520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5"/>
          <p:cNvSpPr/>
          <p:nvPr/>
        </p:nvSpPr>
        <p:spPr>
          <a:xfrm>
            <a:off x="3203640" y="620640"/>
            <a:ext cx="3024000" cy="52056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or aphto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94D50-6AA5-4EDB-A1D1-589B03498D2C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9360">
            <a:solidFill>
              <a:srgbClr val="1818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5400" spc="-1" strike="noStrike">
                <a:solidFill>
                  <a:srgbClr val="ff0000"/>
                </a:solidFill>
                <a:latin typeface="Arial"/>
              </a:rPr>
              <a:t>التشخي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عنصر نائب للمحتوى 3" descr="halitosis1.jpg"/>
          <p:cNvPicPr/>
          <p:nvPr/>
        </p:nvPicPr>
        <p:blipFill>
          <a:blip r:embed="rId1"/>
          <a:stretch/>
        </p:blipFill>
        <p:spPr>
          <a:xfrm>
            <a:off x="969840" y="2317680"/>
            <a:ext cx="7459920" cy="3969000"/>
          </a:xfrm>
          <a:prstGeom prst="rect">
            <a:avLst/>
          </a:prstGeom>
          <a:ln w="0">
            <a:noFill/>
          </a:ln>
        </p:spPr>
      </p:pic>
      <p:sp>
        <p:nvSpPr>
          <p:cNvPr id="295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2FE30-97DC-45C6-8CC9-A2A2A6413669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0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3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9360">
            <a:solidFill>
              <a:srgbClr val="00005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5400" spc="-1" strike="noStrike">
                <a:solidFill>
                  <a:srgbClr val="ff0000"/>
                </a:solidFill>
                <a:latin typeface="Arial"/>
              </a:rPr>
              <a:t>العلاج</a:t>
            </a:r>
            <a:r>
              <a:rPr b="1" lang="ar-SY" sz="5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5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تنظيف اللسان (جهاز خاص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5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تناول طعام خالي من البصل والثو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5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تناول علكة خالية من السك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استعمال المستحضرات الفموية المناسب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العناية بنظافة الفم و الأسنا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C0DB9-F10D-4154-94E9-31660E0D4C22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0" dur="500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5" dur="500"/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0" dur="500"/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14200"/>
            <a:ext cx="8229600" cy="1371600"/>
          </a:xfrm>
          <a:prstGeom prst="rect">
            <a:avLst/>
          </a:prstGeom>
          <a:noFill/>
          <a:ln w="9360">
            <a:solidFill>
              <a:srgbClr val="00005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400" spc="-1" strike="noStrike">
                <a:solidFill>
                  <a:srgbClr val="ff0000"/>
                </a:solidFill>
                <a:latin typeface="Arial"/>
              </a:rPr>
              <a:t>الحالات التي يجب استبعادها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457200" y="185688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ar-SY" sz="32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1" lang="ar-SY" sz="3200" spc="-1" strike="noStrike">
                <a:solidFill>
                  <a:srgbClr val="ff0000"/>
                </a:solidFill>
                <a:latin typeface="Arial"/>
              </a:rPr>
              <a:t>تنكس دواعم السن</a:t>
            </a:r>
            <a:r>
              <a:rPr b="1" lang="ar-SY" sz="32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Periodontosis</a:t>
            </a:r>
            <a:r>
              <a:rPr b="1" lang="ar-SY" sz="3200" spc="-1" strike="noStrike">
                <a:solidFill>
                  <a:srgbClr val="ff0000"/>
                </a:solidFill>
                <a:latin typeface="Arial"/>
              </a:rPr>
              <a:t>1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حالة متقدمة من التهاب اللث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نفس أعراض التهاب اللثة لكن المريض سيعاني من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 algn="r" rtl="1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200" spc="-1" strike="noStrike">
                <a:solidFill>
                  <a:srgbClr val="00005e"/>
                </a:solidFill>
                <a:latin typeface="Arial"/>
              </a:rPr>
              <a:t>نزيف تلقائ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 algn="r" rtl="1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200" spc="-1" strike="noStrike">
                <a:solidFill>
                  <a:srgbClr val="00005e"/>
                </a:solidFill>
                <a:latin typeface="Arial"/>
              </a:rPr>
              <a:t>مشاكل في التذو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 algn="r" rtl="1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200" spc="-1" strike="noStrike">
                <a:solidFill>
                  <a:srgbClr val="00005e"/>
                </a:solidFill>
                <a:latin typeface="Arial"/>
              </a:rPr>
              <a:t>رائحة فم كريه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 algn="r" rtl="1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200" spc="-1" strike="noStrike">
                <a:solidFill>
                  <a:srgbClr val="00005e"/>
                </a:solidFill>
                <a:latin typeface="Arial"/>
              </a:rPr>
              <a:t>قد يعاني المريض من فقدان الأسنا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 algn="r" rtl="1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200" spc="-1" strike="noStrike">
                <a:solidFill>
                  <a:srgbClr val="00005e"/>
                </a:solidFill>
                <a:latin typeface="Arial"/>
              </a:rPr>
              <a:t>لا بد من الإحالة إلى الطبي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24C77-4F74-4B52-A3D8-3486BB071A30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7" dur="500"/>
                                        <p:tgtEl>
                                          <p:spTgt spid="3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0" dur="500"/>
                                        <p:tgtEl>
                                          <p:spTgt spid="3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3" dur="500"/>
                                        <p:tgtEl>
                                          <p:spTgt spid="3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6" dur="500"/>
                                        <p:tgtEl>
                                          <p:spTgt spid="3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9" dur="500"/>
                                        <p:tgtEl>
                                          <p:spTgt spid="3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عنصر نائب للمحتوى 3" descr="gingivitis.jpg"/>
          <p:cNvPicPr/>
          <p:nvPr/>
        </p:nvPicPr>
        <p:blipFill>
          <a:blip r:embed="rId1"/>
          <a:stretch/>
        </p:blipFill>
        <p:spPr>
          <a:xfrm>
            <a:off x="928800" y="928800"/>
            <a:ext cx="7215120" cy="4714920"/>
          </a:xfrm>
          <a:prstGeom prst="rect">
            <a:avLst/>
          </a:prstGeom>
          <a:ln w="0">
            <a:noFill/>
          </a:ln>
        </p:spPr>
      </p:pic>
      <p:sp>
        <p:nvSpPr>
          <p:cNvPr id="30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07258-2580-4E08-A6D4-7B3AA999B613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52EB1-8C39-498F-B4E0-B101404E0BCB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46040" y="544680"/>
            <a:ext cx="8229600" cy="1371600"/>
          </a:xfrm>
          <a:prstGeom prst="rect">
            <a:avLst/>
          </a:prstGeom>
          <a:noFill/>
          <a:ln w="9360">
            <a:solidFill>
              <a:srgbClr val="00007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800" spc="-1" strike="noStrike">
                <a:solidFill>
                  <a:srgbClr val="ff0000"/>
                </a:solidFill>
                <a:latin typeface="Arial"/>
              </a:rPr>
              <a:t>النزيف التلقائي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عنصر نائب للمحتوى 3" descr="gingivitis2.jpg"/>
          <p:cNvPicPr/>
          <p:nvPr/>
        </p:nvPicPr>
        <p:blipFill>
          <a:blip r:embed="rId1"/>
          <a:stretch/>
        </p:blipFill>
        <p:spPr>
          <a:xfrm>
            <a:off x="1500120" y="2286000"/>
            <a:ext cx="6000840" cy="40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4400" spc="-1" strike="noStrike">
                <a:solidFill>
                  <a:srgbClr val="000000"/>
                </a:solidFill>
                <a:latin typeface="Arial"/>
              </a:rPr>
              <a:t>تراجع اللث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عنصر نائب للمحتوى 3" descr="GING1.jpg"/>
          <p:cNvPicPr/>
          <p:nvPr/>
        </p:nvPicPr>
        <p:blipFill>
          <a:blip r:embed="rId1"/>
          <a:stretch/>
        </p:blipFill>
        <p:spPr>
          <a:xfrm>
            <a:off x="1928880" y="2000160"/>
            <a:ext cx="5143320" cy="3214800"/>
          </a:xfrm>
          <a:prstGeom prst="rect">
            <a:avLst/>
          </a:prstGeom>
          <a:ln w="0">
            <a:noFill/>
          </a:ln>
        </p:spPr>
      </p:pic>
      <p:sp>
        <p:nvSpPr>
          <p:cNvPr id="310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CC491-720F-4B1D-8E2B-5C21BC491480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4400" spc="-1" strike="noStrike">
                <a:solidFill>
                  <a:srgbClr val="ff0000"/>
                </a:solidFill>
                <a:latin typeface="Arial"/>
              </a:rPr>
              <a:t>فقدان الأسنا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عنصر نائب للمحتوى 3" descr="laughing_man.jpg"/>
          <p:cNvPicPr/>
          <p:nvPr/>
        </p:nvPicPr>
        <p:blipFill>
          <a:blip r:embed="rId1"/>
          <a:stretch/>
        </p:blipFill>
        <p:spPr>
          <a:xfrm>
            <a:off x="2500200" y="1643040"/>
            <a:ext cx="3786480" cy="4748400"/>
          </a:xfrm>
          <a:prstGeom prst="rect">
            <a:avLst/>
          </a:prstGeom>
          <a:ln w="0">
            <a:noFill/>
          </a:ln>
        </p:spPr>
      </p:pic>
      <p:sp>
        <p:nvSpPr>
          <p:cNvPr id="313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3AFEB-ACF7-4051-8D6A-B2C138728050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9360">
            <a:solidFill>
              <a:srgbClr val="1818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800" spc="-1" strike="noStrike">
                <a:solidFill>
                  <a:srgbClr val="ff0000"/>
                </a:solidFill>
                <a:latin typeface="Arial"/>
              </a:rPr>
              <a:t>التشخي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عنصر نائب للمحتوى 5" descr="breath-BAD.gif"/>
          <p:cNvPicPr/>
          <p:nvPr/>
        </p:nvPicPr>
        <p:blipFill>
          <a:blip r:embed="rId1"/>
          <a:stretch/>
        </p:blipFill>
        <p:spPr>
          <a:xfrm>
            <a:off x="1571760" y="2071800"/>
            <a:ext cx="6000480" cy="4211640"/>
          </a:xfrm>
          <a:prstGeom prst="rect">
            <a:avLst/>
          </a:prstGeom>
          <a:ln w="0">
            <a:noFill/>
          </a:ln>
        </p:spPr>
      </p:pic>
      <p:sp>
        <p:nvSpPr>
          <p:cNvPr id="316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1F785-567E-4583-A8B8-D2CC8342A783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0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6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9360">
            <a:solidFill>
              <a:srgbClr val="00007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400" spc="-1" strike="noStrike">
                <a:solidFill>
                  <a:srgbClr val="ff0000"/>
                </a:solidFill>
                <a:latin typeface="Arial"/>
              </a:rPr>
              <a:t>2- </a:t>
            </a:r>
            <a:r>
              <a:rPr b="1" lang="ar-SY" sz="4400" spc="-1" strike="noStrike">
                <a:solidFill>
                  <a:srgbClr val="ff0000"/>
                </a:solidFill>
                <a:latin typeface="Arial"/>
              </a:rPr>
              <a:t>النزيف التلقائ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هناك العديد من الأمراض التي تسبب النزيف التلقائي للثة مثل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r" rtl="1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اللوكيميا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ukem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r" rtl="1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تكون هناك </a:t>
            </a:r>
            <a:r>
              <a:rPr b="1" lang="ar-SY" sz="3200" spc="-1" strike="noStrike">
                <a:solidFill>
                  <a:srgbClr val="ff0000"/>
                </a:solidFill>
                <a:latin typeface="Arial"/>
              </a:rPr>
              <a:t>أعراض مرافقة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: تعب شديد – ضعف عام – أعراض جهازية كالحم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r" rtl="1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لا بد من الإحالة مباشرة إلى الطبي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C5A95-EB38-49F6-8974-1607A326AD0D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9360">
            <a:solidFill>
              <a:srgbClr val="00005e"/>
            </a:solidFill>
            <a:miter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4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ar-SY" sz="4400" spc="-1" strike="noStrike">
                <a:solidFill>
                  <a:srgbClr val="ff0000"/>
                </a:solidFill>
                <a:latin typeface="Arial"/>
              </a:rPr>
              <a:t>- نزيف اللثة المسبب من قبل الأدو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5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4000" spc="-1" strike="noStrike">
                <a:solidFill>
                  <a:srgbClr val="000000"/>
                </a:solidFill>
                <a:latin typeface="Arial"/>
              </a:rPr>
              <a:t>الهيباري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5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4000" spc="-1" strike="noStrike">
                <a:solidFill>
                  <a:srgbClr val="000000"/>
                </a:solidFill>
                <a:latin typeface="Arial"/>
              </a:rPr>
              <a:t>الوارفاري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5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4000" spc="-1" strike="noStrike">
                <a:solidFill>
                  <a:srgbClr val="000000"/>
                </a:solidFill>
                <a:latin typeface="Arial"/>
              </a:rPr>
              <a:t>مضادات الالتهاب غير الستيروئيدي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339D8-0275-40DB-AAF7-8081B4A7C191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6"/>
          <p:cNvSpPr/>
          <p:nvPr/>
        </p:nvSpPr>
        <p:spPr>
          <a:xfrm>
            <a:off x="428760" y="6027840"/>
            <a:ext cx="806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000000"/>
                </a:solidFill>
                <a:latin typeface="Arial"/>
              </a:rPr>
              <a:t>التقرح القلاعي الأصغري </a:t>
            </a:r>
            <a:r>
              <a:rPr b="0" lang="ar-SY" sz="2400" spc="-1" strike="noStrike">
                <a:solidFill>
                  <a:srgbClr val="ff0000"/>
                </a:solidFill>
                <a:latin typeface="Arial"/>
              </a:rPr>
              <a:t>شائع عند النساء </a:t>
            </a:r>
            <a:r>
              <a:rPr b="0" lang="ar-SY" sz="2400" spc="-1" strike="noStrike">
                <a:solidFill>
                  <a:srgbClr val="000000"/>
                </a:solidFill>
                <a:latin typeface="Arial"/>
              </a:rPr>
              <a:t>أكثر وفي الفترة العمرية (</a:t>
            </a:r>
            <a:r>
              <a:rPr b="0" lang="ar-SY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ar-SY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ar-SY" sz="2400" spc="-1" strike="noStrike">
                <a:solidFill>
                  <a:srgbClr val="000000"/>
                </a:solidFill>
                <a:latin typeface="Arial"/>
              </a:rPr>
              <a:t>40</a:t>
            </a:r>
            <a:r>
              <a:rPr b="0" lang="ar-SY" sz="2400" spc="-1" strike="noStrike">
                <a:solidFill>
                  <a:srgbClr val="000000"/>
                </a:solidFill>
                <a:latin typeface="Arial"/>
              </a:rPr>
              <a:t> سنة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7" descr="Scan2000006"/>
          <p:cNvPicPr/>
          <p:nvPr/>
        </p:nvPicPr>
        <p:blipFill>
          <a:blip r:embed="rId1"/>
          <a:srcRect l="5880" t="55474" r="57626" b="23643"/>
          <a:stretch/>
        </p:blipFill>
        <p:spPr>
          <a:xfrm>
            <a:off x="900000" y="981000"/>
            <a:ext cx="6696360" cy="466416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8"/>
          <p:cNvSpPr/>
          <p:nvPr/>
        </p:nvSpPr>
        <p:spPr>
          <a:xfrm>
            <a:off x="3203640" y="620640"/>
            <a:ext cx="3024000" cy="52056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or aphto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9D932-B162-46C6-B207-83A927C5B151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4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lang="ar-SY" sz="4400" spc="-1" strike="noStrike">
                <a:solidFill>
                  <a:srgbClr val="ff0000"/>
                </a:solidFill>
                <a:latin typeface="Arial"/>
              </a:rPr>
              <a:t>- أدوية تسبب (فرط تنسج اللثة) تورم اللث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5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600" spc="-1" strike="noStrike">
                <a:solidFill>
                  <a:srgbClr val="000000"/>
                </a:solidFill>
                <a:latin typeface="Arial"/>
              </a:rPr>
              <a:t>الفينيتوئي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5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600" spc="-1" strike="noStrike">
                <a:solidFill>
                  <a:srgbClr val="000000"/>
                </a:solidFill>
                <a:latin typeface="Arial"/>
              </a:rPr>
              <a:t>السيكلوسبوري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5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600" spc="-1" strike="noStrike">
                <a:solidFill>
                  <a:srgbClr val="000000"/>
                </a:solidFill>
                <a:latin typeface="Arial"/>
              </a:rPr>
              <a:t>النيفيديبي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FAAB1-9D33-4F17-8CA2-00F4219B3CE1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9360">
            <a:solidFill>
              <a:srgbClr val="00007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800" spc="-1" strike="noStrike">
                <a:solidFill>
                  <a:srgbClr val="ff0000"/>
                </a:solidFill>
                <a:latin typeface="Arial"/>
              </a:rPr>
              <a:t>علاج التهاب اللث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r" rtl="1">
              <a:lnSpc>
                <a:spcPct val="15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العناية بالنظافة الفمو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r" rtl="1">
              <a:lnSpc>
                <a:spcPct val="15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تفريش الأسنان بالطريقة الصحيحة 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مرات في اليو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r" rtl="1">
              <a:lnSpc>
                <a:spcPct val="15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استعمال الخيوط السنية بعد تفريش الأسنا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r" rtl="1">
              <a:lnSpc>
                <a:spcPct val="15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استخدام مستحضرات العناية بالف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F1BA2-4717-411F-BA10-515C60FAB019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51E51-C06D-4DF3-80B6-941FFF4634AA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0" name="صورة 3" descr="brush_teeth.jpg"/>
          <p:cNvPicPr/>
          <p:nvPr/>
        </p:nvPicPr>
        <p:blipFill>
          <a:blip r:embed="rId1"/>
          <a:stretch/>
        </p:blipFill>
        <p:spPr>
          <a:xfrm>
            <a:off x="1176480" y="1285920"/>
            <a:ext cx="7253280" cy="43578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0F30F-9212-4CEF-A145-EB2439515C81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عنصر نائب للمحتوى 3" descr="de7_dental_health_tips.jpg"/>
          <p:cNvPicPr/>
          <p:nvPr/>
        </p:nvPicPr>
        <p:blipFill>
          <a:blip r:embed="rId1"/>
          <a:stretch/>
        </p:blipFill>
        <p:spPr>
          <a:xfrm>
            <a:off x="1042920" y="1000080"/>
            <a:ext cx="7072560" cy="52149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6F6BB-FC08-4F7A-B4E4-FB753E529FD2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عنصر نائب للمحتوى 3" descr="cleaning_flossing.gif"/>
          <p:cNvPicPr/>
          <p:nvPr/>
        </p:nvPicPr>
        <p:blipFill>
          <a:blip r:embed="rId1"/>
          <a:stretch/>
        </p:blipFill>
        <p:spPr>
          <a:xfrm>
            <a:off x="7763040" y="2238480"/>
            <a:ext cx="1380960" cy="1380960"/>
          </a:xfrm>
          <a:prstGeom prst="rect">
            <a:avLst/>
          </a:prstGeom>
          <a:ln w="0">
            <a:noFill/>
          </a:ln>
        </p:spPr>
      </p:pic>
      <p:pic>
        <p:nvPicPr>
          <p:cNvPr id="335" name="صورة 4" descr="flossing.jpg"/>
          <p:cNvPicPr/>
          <p:nvPr/>
        </p:nvPicPr>
        <p:blipFill>
          <a:blip r:embed="rId2"/>
          <a:stretch/>
        </p:blipFill>
        <p:spPr>
          <a:xfrm>
            <a:off x="357120" y="1571760"/>
            <a:ext cx="4381560" cy="2857320"/>
          </a:xfrm>
          <a:prstGeom prst="rect">
            <a:avLst/>
          </a:prstGeom>
          <a:ln w="0">
            <a:noFill/>
          </a:ln>
        </p:spPr>
      </p:pic>
      <p:pic>
        <p:nvPicPr>
          <p:cNvPr id="336" name="صورة 5" descr="flossing1.jpg"/>
          <p:cNvPicPr/>
          <p:nvPr/>
        </p:nvPicPr>
        <p:blipFill>
          <a:blip r:embed="rId3"/>
          <a:stretch/>
        </p:blipFill>
        <p:spPr>
          <a:xfrm>
            <a:off x="4786200" y="642960"/>
            <a:ext cx="3562560" cy="3181320"/>
          </a:xfrm>
          <a:prstGeom prst="rect">
            <a:avLst/>
          </a:prstGeom>
          <a:ln w="0">
            <a:noFill/>
          </a:ln>
        </p:spPr>
      </p:pic>
      <p:pic>
        <p:nvPicPr>
          <p:cNvPr id="337" name="صورة 6" descr="flossing_en-1.jpg"/>
          <p:cNvPicPr/>
          <p:nvPr/>
        </p:nvPicPr>
        <p:blipFill>
          <a:blip r:embed="rId4"/>
          <a:stretch/>
        </p:blipFill>
        <p:spPr>
          <a:xfrm>
            <a:off x="4071960" y="4000680"/>
            <a:ext cx="2730600" cy="20365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400" spc="-1" strike="noStrike">
                <a:solidFill>
                  <a:srgbClr val="ff0000"/>
                </a:solidFill>
                <a:latin typeface="Arial"/>
              </a:rPr>
              <a:t>المستحضرات المستخدم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457200" y="191628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 algn="r" rtl="1">
              <a:lnSpc>
                <a:spcPct val="15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تتميز كل المستحضرات الفموية المستخدمة تقريبا بعدم حدوث أية تفاعلات أو تداخلات دوائية ما </a:t>
            </a:r>
            <a:r>
              <a:rPr b="0" lang="ar-SY" sz="3200" spc="-1" strike="noStrike">
                <a:solidFill>
                  <a:srgbClr val="ff0000"/>
                </a:solidFill>
                <a:latin typeface="Arial"/>
              </a:rPr>
              <a:t>عدا البوفيدون أيودي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r" rtl="1">
              <a:lnSpc>
                <a:spcPct val="15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التأثيرات الجانبية بسيط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r" rtl="1">
              <a:lnSpc>
                <a:spcPct val="15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يمكن استخدامها من قبل كل المرض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r" rtl="1">
              <a:lnSpc>
                <a:spcPct val="15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تستخدم من 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ثانية – 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دقيقة ثم يتم إخراجها من الف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1E5DC-22B0-4AB3-9D17-231E29BE9BC2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/>
          </p:nvPr>
        </p:nvSpPr>
        <p:spPr>
          <a:xfrm>
            <a:off x="457200" y="83664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hlorhexidine gluconate mouthwa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Arial"/>
              </a:rPr>
              <a:t>يمكن أن يسبب استخدامه المتكرر حدوث تبقعات بنية للأسنان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Arial"/>
              </a:rPr>
              <a:t>يستعمل الغسول مرتين باليوم </a:t>
            </a:r>
            <a:r>
              <a:rPr b="0" lang="ar-SY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ar-SY" sz="2800" spc="-1" strike="noStrike">
                <a:solidFill>
                  <a:srgbClr val="000000"/>
                </a:solidFill>
                <a:latin typeface="Arial"/>
              </a:rPr>
              <a:t> مل في الفم لمدة </a:t>
            </a:r>
            <a:r>
              <a:rPr b="0" lang="ar-SY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ar-SY" sz="2800" spc="-1" strike="noStrike">
                <a:solidFill>
                  <a:srgbClr val="000000"/>
                </a:solidFill>
                <a:latin typeface="Arial"/>
              </a:rPr>
              <a:t> دقيقة ويستمر باستعماله لمدة </a:t>
            </a:r>
            <a:r>
              <a:rPr b="0" lang="ar-SY" sz="2800" spc="-1" strike="noStrike">
                <a:solidFill>
                  <a:srgbClr val="000000"/>
                </a:solidFill>
                <a:latin typeface="Arial"/>
              </a:rPr>
              <a:t>48</a:t>
            </a:r>
            <a:r>
              <a:rPr b="0" lang="ar-SY" sz="2800" spc="-1" strike="noStrike">
                <a:solidFill>
                  <a:srgbClr val="000000"/>
                </a:solidFill>
                <a:latin typeface="Arial"/>
              </a:rPr>
              <a:t> ساعة من زوال الأعرا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Arial"/>
              </a:rPr>
              <a:t>لا يستخدم لدى الأطفال تحت </a:t>
            </a:r>
            <a:r>
              <a:rPr b="0" lang="ar-SY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ar-SY" sz="2800" spc="-1" strike="noStrike">
                <a:solidFill>
                  <a:srgbClr val="000000"/>
                </a:solidFill>
                <a:latin typeface="Arial"/>
              </a:rPr>
              <a:t> سنوا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DEF06-1FB5-46FC-AB76-0ADCC2EDC4FB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ensitol Antiseptic mouthri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lorhexidine 0.12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يستعمل مركزا من غير تمديد بعد تنظيف الأسنان بالفرشا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يملأ نصف الغطاء ويترك في الفم لمدة 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ثانية صباحاً ومساءً مع الغرغر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لا يستعمل للأطفال دون السادس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تعاد </a:t>
            </a:r>
            <a:r>
              <a:rPr b="0" lang="ar-SY" sz="3200" spc="-1" strike="noStrike">
                <a:solidFill>
                  <a:srgbClr val="c00000"/>
                </a:solidFill>
                <a:latin typeface="Arial"/>
              </a:rPr>
              <a:t>العبوة بعد الاستعمال إلى الكرتونة لحماية المواد الفعالة من تأثير الضو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87A5C-78CF-4ACA-A537-CADA66808269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468360" y="9075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Oraxine (mouthwas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lorhexidine glucon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منع تكوين بلاك الأسنا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للعلاج والوقاية من التهاب اللث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لعلاج تقرحات وقلاع الف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47CA7-A1B5-40B0-B318-5FE04CA72C78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1"/>
          <p:cNvSpPr/>
          <p:nvPr/>
        </p:nvSpPr>
        <p:spPr>
          <a:xfrm>
            <a:off x="1835280" y="4460760"/>
            <a:ext cx="662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>
                <a:solidFill>
                  <a:srgbClr val="000000"/>
                </a:solidFill>
                <a:latin typeface="Arial"/>
              </a:rPr>
              <a:t>ينصح </a:t>
            </a:r>
            <a:r>
              <a:rPr b="1" lang="ar-SY" sz="2400" spc="-1" strike="noStrike">
                <a:solidFill>
                  <a:srgbClr val="ff0000"/>
                </a:solidFill>
                <a:latin typeface="Arial"/>
              </a:rPr>
              <a:t>بتمديد الغسول بنسبة </a:t>
            </a:r>
            <a:r>
              <a:rPr b="1" lang="ar-SY" sz="2400" spc="-1" strike="noStrike">
                <a:solidFill>
                  <a:srgbClr val="ff0000"/>
                </a:solidFill>
                <a:latin typeface="Arial"/>
              </a:rPr>
              <a:t>50</a:t>
            </a:r>
            <a:r>
              <a:rPr b="1" lang="ar-SY" sz="2400" spc="-1" strike="noStrike">
                <a:solidFill>
                  <a:srgbClr val="ff0000"/>
                </a:solidFill>
                <a:latin typeface="Arial"/>
              </a:rPr>
              <a:t>% </a:t>
            </a:r>
            <a:r>
              <a:rPr b="1" lang="ar-SY" sz="2400" spc="-1" strike="noStrike">
                <a:solidFill>
                  <a:srgbClr val="000000"/>
                </a:solidFill>
                <a:latin typeface="Arial"/>
              </a:rPr>
              <a:t>بالماء قبل الاستخدام في حال حدوث إزعاجا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Hydrogen Perox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البالغين والأطفال فوق 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سنوا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مل مرتين أو 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مرات يوميا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قد يحدث خدر بسي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5E5D8-928C-40E3-8D29-417079DB780B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424AA-F78F-49EC-99AB-C9984C96A699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6"/>
          <p:cNvSpPr/>
          <p:nvPr/>
        </p:nvSpPr>
        <p:spPr>
          <a:xfrm>
            <a:off x="71280" y="5589720"/>
            <a:ext cx="8604360" cy="14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000000"/>
                </a:solidFill>
                <a:latin typeface="Arial"/>
              </a:rPr>
              <a:t>العدد </a:t>
            </a:r>
            <a:r>
              <a:rPr b="0" lang="ar-SY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ar-SY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ar-SY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000000"/>
                </a:solidFill>
                <a:latin typeface="Arial"/>
              </a:rPr>
              <a:t>طبيعة التقرح: القطر أصغر من </a:t>
            </a:r>
            <a:r>
              <a:rPr b="0" lang="ar-SY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ar-SY" sz="2400" spc="-1" strike="noStrike">
                <a:solidFill>
                  <a:srgbClr val="000000"/>
                </a:solidFill>
                <a:latin typeface="Arial"/>
              </a:rPr>
              <a:t> ملم – يظهر كمركز أبيض أو مصفر مع حواف حمراء محيط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7" descr="Scan2000006"/>
          <p:cNvPicPr/>
          <p:nvPr/>
        </p:nvPicPr>
        <p:blipFill>
          <a:blip r:embed="rId1"/>
          <a:srcRect l="5880" t="55474" r="57626" b="23643"/>
          <a:stretch/>
        </p:blipFill>
        <p:spPr>
          <a:xfrm>
            <a:off x="900000" y="981000"/>
            <a:ext cx="6696360" cy="466416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8"/>
          <p:cNvSpPr/>
          <p:nvPr/>
        </p:nvSpPr>
        <p:spPr>
          <a:xfrm>
            <a:off x="3203640" y="620640"/>
            <a:ext cx="3024000" cy="52056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or aphto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عنصر نائب للمحتوى 3" descr="laser-teeth-whitening.jpg"/>
          <p:cNvPicPr/>
          <p:nvPr/>
        </p:nvPicPr>
        <p:blipFill>
          <a:blip r:embed="rId1"/>
          <a:stretch/>
        </p:blipFill>
        <p:spPr>
          <a:xfrm>
            <a:off x="382680" y="907920"/>
            <a:ext cx="8292960" cy="5207040"/>
          </a:xfrm>
          <a:prstGeom prst="rect">
            <a:avLst/>
          </a:prstGeom>
          <a:ln w="0">
            <a:noFill/>
          </a:ln>
        </p:spPr>
      </p:pic>
      <p:sp>
        <p:nvSpPr>
          <p:cNvPr id="351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A21BC-3680-4EA5-BA9F-4DAFBCB71B9B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3" name="عنصر نائب للمحتوى 3" descr="tooth whitening.jpg"/>
          <p:cNvPicPr/>
          <p:nvPr/>
        </p:nvPicPr>
        <p:blipFill>
          <a:blip r:embed="rId1"/>
          <a:stretch/>
        </p:blipFill>
        <p:spPr>
          <a:xfrm>
            <a:off x="720720" y="1000080"/>
            <a:ext cx="7280280" cy="4867200"/>
          </a:xfrm>
          <a:prstGeom prst="rect">
            <a:avLst/>
          </a:prstGeom>
          <a:ln w="0">
            <a:noFill/>
          </a:ln>
        </p:spPr>
      </p:pic>
      <p:sp>
        <p:nvSpPr>
          <p:cNvPr id="35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4594E-3DE7-4086-B2D9-6993A8B6683B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</p:transition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EA835-F705-412D-9804-A8FA0A562B9E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عنصر نائب للمحتوى 3" descr="teeth_whitener.jpg"/>
          <p:cNvPicPr/>
          <p:nvPr/>
        </p:nvPicPr>
        <p:blipFill>
          <a:blip r:embed="rId1"/>
          <a:stretch/>
        </p:blipFill>
        <p:spPr>
          <a:xfrm>
            <a:off x="1258920" y="692280"/>
            <a:ext cx="6337440" cy="55386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Povidon iod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 algn="r" rtl="1">
              <a:lnSpc>
                <a:spcPct val="15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البالغين والأطفال فوق 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سنوا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 algn="r" rtl="1">
              <a:lnSpc>
                <a:spcPct val="15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مل 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مرات في اليو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 algn="r" rtl="1">
              <a:lnSpc>
                <a:spcPct val="15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يجب ألا تستخدم لفترة تزيد على 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يو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 algn="r" rtl="1">
              <a:lnSpc>
                <a:spcPct val="15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200" spc="-1" strike="noStrike">
                <a:solidFill>
                  <a:srgbClr val="ff0000"/>
                </a:solidFill>
                <a:latin typeface="Arial"/>
              </a:rPr>
              <a:t>تجنب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استخدام هذا المستحضر في </a:t>
            </a:r>
            <a:r>
              <a:rPr b="1" lang="ar-SY" sz="3200" spc="-1" strike="noStrike">
                <a:solidFill>
                  <a:srgbClr val="c00000"/>
                </a:solidFill>
                <a:latin typeface="Arial"/>
              </a:rPr>
              <a:t>حالة الحمل – الإرضاع – المرضى الذين يعانون من مشاكل في الغدة الدرق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8A7D6-B62B-4107-BF04-76F39B8D1B2C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4400" spc="-1" strike="noStrike">
                <a:solidFill>
                  <a:srgbClr val="ff0000"/>
                </a:solidFill>
                <a:latin typeface="Arial"/>
              </a:rPr>
              <a:t>مستحضرات أخرى</a:t>
            </a:r>
            <a:r>
              <a:rPr b="0" lang="ar-SY" sz="4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Plex (gargle solution) Shef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odium Fluoride – Menthol – Triclosan</a:t>
            </a:r>
            <a:r>
              <a:rPr b="1" lang="ar-SY" sz="24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1" lang="ar-SY" sz="2400" spc="-1" strike="noStrike">
                <a:solidFill>
                  <a:srgbClr val="ff0000"/>
                </a:solidFill>
                <a:latin typeface="Arial"/>
              </a:rPr>
              <a:t>مطهر</a:t>
            </a:r>
            <a:r>
              <a:rPr b="1" lang="ar-SY" sz="2400" spc="-1" strike="noStrike">
                <a:solidFill>
                  <a:srgbClr val="ff0000"/>
                </a:solidFill>
                <a:latin typeface="Arial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البالغون والأطفال فوق 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سنوا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يغسل الفم ب 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مل 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مرات في اليو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الاستخدام: الوقاية من التهاب اللثة وإزالة الروائح الكريه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43FF9-BCC0-4119-93BC-BE79293EAF80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4400" spc="-1" strike="noStrike">
                <a:solidFill>
                  <a:srgbClr val="ff0000"/>
                </a:solidFill>
                <a:latin typeface="Arial"/>
              </a:rPr>
              <a:t>مستحضرات أخرى</a:t>
            </a:r>
            <a:r>
              <a:rPr b="0" lang="ar-SY" sz="4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inaseptic </a:t>
            </a: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(oral solution) Ibn s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odium Borate – Phenol – Menthol - Glyce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مطهر في التهابات الفم والأغشية المخاطية</a:t>
            </a:r>
            <a:r>
              <a:rPr b="0" lang="ar-L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والتهاب اللثة، بعد قلع الأسنان والعمليات الجراحية، إزالة الروائح الكريه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4-6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مرات في اليو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31592-D295-48AA-97CA-97858D1A6B48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d"/>
  </p:transition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4400" spc="-1" strike="noStrike">
                <a:solidFill>
                  <a:srgbClr val="ff0000"/>
                </a:solidFill>
                <a:latin typeface="Arial"/>
              </a:rPr>
              <a:t>مستحضرات أخرى</a:t>
            </a:r>
            <a:r>
              <a:rPr b="0" lang="ar-SY" sz="4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Phenoseptic (oral solution) Ara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Borax– Phenol – Menthol – Sodium Bicarbon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مطهر في التهابات الفم والأغشية المخاطيةوالتهاب اللثة، بعد قلع الأسنان والعمليات الجراحية، إزالة الروائح الكريه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4-6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مرات في اليو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BBF27-675B-42D3-954B-B9C754A16ABC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d"/>
  </p:transition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 txBox="1"/>
          <p:nvPr/>
        </p:nvSpPr>
        <p:spPr>
          <a:xfrm>
            <a:off x="457200" y="1285920"/>
            <a:ext cx="8229600" cy="523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Parogencyl (mouthwash,toothpast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ethol – Provitamin B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يخفف من احتقان ونزف اللث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يستعمل 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مرات في اليوم بعد تنظيف الأسنا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يملأ نصف الغطاء بالمحلول ويترك في الفم لمدة 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ثانية ثم المضمضة ثم يطر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لا يغسل الفم بعده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4ECE6-E3A5-4568-8585-1E15443756C8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 txBox="1"/>
          <p:nvPr/>
        </p:nvSpPr>
        <p:spPr>
          <a:xfrm>
            <a:off x="457200" y="785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-250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nesticol</a:t>
            </a:r>
            <a:r>
              <a:rPr b="1" lang="fr-FR" sz="3200" spc="-1" strike="noStrike">
                <a:solidFill>
                  <a:srgbClr val="ff0000"/>
                </a:solidFill>
                <a:latin typeface="Arial"/>
              </a:rPr>
              <a:t> (toothpast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 algn="r" rtl="1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200" spc="-1" strike="noStrike">
                <a:solidFill>
                  <a:srgbClr val="c00000"/>
                </a:solidFill>
                <a:latin typeface="Arial"/>
              </a:rPr>
              <a:t>ثاني كربونات الصوديوم – طرطرات البوتاسيوم والصوديوم – غليسيري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 algn="r" rtl="1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 algn="r" rtl="1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تستخدم للوقاية والمعالجة من تحسس عنق الأسنان والتهاب اللث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 algn="r" rtl="1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التهابات وتبدلات ونزوف اللثة المرافقة للحم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 algn="r" rtl="1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القلاع – الجروح الناشئة عن الأسنان الصناع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 algn="r" rtl="1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تكشف الأسنا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9B7D2-261D-4091-9340-4532B4D48008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5400" spc="-1" strike="noStrike">
                <a:solidFill>
                  <a:srgbClr val="ff0000"/>
                </a:solidFill>
                <a:latin typeface="Arial"/>
              </a:rPr>
              <a:t>مضادات النخور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 algn="r" rtl="1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الفلوريدات: هناك الفلور الجهازي والفلور الموضع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 algn="r" rtl="1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ar-SY" sz="3200" spc="-1" strike="noStrike">
                <a:solidFill>
                  <a:srgbClr val="ff0000"/>
                </a:solidFill>
                <a:latin typeface="Arial"/>
              </a:rPr>
              <a:t>- الفلور الجهازي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 algn="r" rtl="1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مياه الشر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 algn="r" rtl="1">
              <a:lnSpc>
                <a:spcPct val="15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مستحضرات : نقط فموية وذلك ابتداء من عمر 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أشهر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 algn="r" rtl="1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بالنسبة للأطفال الأكبر سناً: أقرا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B36E0-9D52-4DA8-9AF0-79113D5733E6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C12F8-F3EE-4C8B-AAB3-9818962BC407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6"/>
          <p:cNvSpPr/>
          <p:nvPr/>
        </p:nvSpPr>
        <p:spPr>
          <a:xfrm>
            <a:off x="539640" y="5924520"/>
            <a:ext cx="806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000000"/>
                </a:solidFill>
                <a:latin typeface="Arial"/>
              </a:rPr>
              <a:t>الأماكن المعتادة هي </a:t>
            </a:r>
            <a:r>
              <a:rPr b="0" lang="ar-SY" sz="2400" spc="-1" strike="noStrike">
                <a:solidFill>
                  <a:srgbClr val="ff0000"/>
                </a:solidFill>
                <a:latin typeface="Arial"/>
              </a:rPr>
              <a:t>حواف اللسان – داخل الشفاه والخدو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7" descr="Scan2000006"/>
          <p:cNvPicPr/>
          <p:nvPr/>
        </p:nvPicPr>
        <p:blipFill>
          <a:blip r:embed="rId1"/>
          <a:srcRect l="5880" t="55474" r="57626" b="23643"/>
          <a:stretch/>
        </p:blipFill>
        <p:spPr>
          <a:xfrm>
            <a:off x="900000" y="981000"/>
            <a:ext cx="6696360" cy="466416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8"/>
          <p:cNvSpPr/>
          <p:nvPr/>
        </p:nvSpPr>
        <p:spPr>
          <a:xfrm>
            <a:off x="3203640" y="620640"/>
            <a:ext cx="3024000" cy="52056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or aphto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800" spc="-1" strike="noStrike">
                <a:solidFill>
                  <a:srgbClr val="ff0000"/>
                </a:solidFill>
                <a:latin typeface="Arial"/>
              </a:rPr>
              <a:t>مضادات النخور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ar-SY" sz="3200" spc="-1" strike="noStrike">
                <a:solidFill>
                  <a:srgbClr val="ff0000"/>
                </a:solidFill>
                <a:latin typeface="Arial"/>
              </a:rPr>
              <a:t>- الفلور الموضعي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Hexa-Flour (sol) Ara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dium Flouride- chlorhexidine glucon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يغسل الفم ب 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مل 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مرات يوميا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67B8B-1EAF-4EA6-ADF4-CED4A3204E3B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395280" y="764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odium Fluor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dium Fluoride 2.2 mg – 1.1 mg – 0.55 mg tab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200" spc="-1" strike="noStrike">
                <a:solidFill>
                  <a:srgbClr val="c00000"/>
                </a:solidFill>
                <a:latin typeface="Arial"/>
              </a:rPr>
              <a:t>تجنب تناول الطعام أو الشراب أو غسل الفم لمدة </a:t>
            </a:r>
            <a:r>
              <a:rPr b="1" lang="ar-SY" sz="3200" spc="-1" strike="noStrike">
                <a:solidFill>
                  <a:srgbClr val="c00000"/>
                </a:solidFill>
                <a:latin typeface="Arial"/>
              </a:rPr>
              <a:t>15</a:t>
            </a:r>
            <a:r>
              <a:rPr b="1" lang="ar-SY" sz="3200" spc="-1" strike="noStrike">
                <a:solidFill>
                  <a:srgbClr val="c00000"/>
                </a:solidFill>
                <a:latin typeface="Arial"/>
              </a:rPr>
              <a:t> دقيق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200" spc="-1" strike="noStrike">
                <a:solidFill>
                  <a:srgbClr val="c00000"/>
                </a:solidFill>
                <a:latin typeface="Arial"/>
              </a:rPr>
              <a:t>تجنب بلع المستحض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000" spc="-1" strike="noStrike">
                <a:solidFill>
                  <a:srgbClr val="00007d"/>
                </a:solidFill>
                <a:latin typeface="Arial"/>
              </a:rPr>
              <a:t>معاجين الأسنان الحاوية على الفلو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BC733-2E9A-47A2-B6A1-EF95AC579947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05:36:48Z</dcterms:created>
  <dc:creator/>
  <dc:description/>
  <dc:language>en-US</dc:language>
  <cp:lastModifiedBy>user</cp:lastModifiedBy>
  <dcterms:modified xsi:type="dcterms:W3CDTF">2014-10-18T18:11:31Z</dcterms:modified>
  <cp:revision>771</cp:revision>
  <dc:subject/>
  <dc:title>الشريحة 1</dc:title>
</cp:coreProperties>
</file>