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6.jpeg" ContentType="image/jpeg"/>
  <Override PartName="/ppt/media/image4.jpeg" ContentType="image/jpeg"/>
  <Override PartName="/ppt/media/image21.gif" ContentType="image/gif"/>
  <Override PartName="/ppt/media/image19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20.gif" ContentType="image/gif"/>
  <Override PartName="/ppt/media/image18.gif" ContentType="image/gif"/>
  <Override PartName="/ppt/media/image13.jpeg" ContentType="image/jpeg"/>
  <Override PartName="/ppt/media/image1.jpeg" ContentType="image/jpeg"/>
  <Override PartName="/ppt/media/2%20Gebroeders%20Brouwer%20-%20Ich%20zeige%20dir%20mein%20paradis.wav" ContentType="audio/x-wav"/>
  <Override PartName="/ppt/media/image5.jpeg" ContentType="image/jpeg"/>
  <Override PartName="/ppt/media/image3.jpeg" ContentType="image/jpeg"/>
  <Override PartName="/ppt/media/image15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D0FF-1215-4A47-B888-69A05BA0D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15CA-7A6D-436E-BDB4-61F53B51F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AE96-4928-4C46-BD3B-1A08F1FB7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4D1E-57EE-44AF-8734-02A557BFF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B831-2A8E-4A3D-B180-7D5775ECA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19CF-4F9F-41B3-93B0-235E57F07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BBD7-2EBE-4F70-A96D-D0D8646C3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9AA8-50E1-4EE5-B3DB-C52654118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7B2C-B439-4919-AA78-CE086ED76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3DCF-7A7C-499A-827D-DC654CF5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9F94-25D3-4BF2-A908-A8D4C268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47D9-7694-428D-94B2-2A63D5EC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954F7-C3CD-4C33-B51D-B08643EE4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2%20Gebroeders%20Brouwer%20-%20Ich%20zeige%20dir%20mein%20paradi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image" Target="../media/image19.png"/><Relationship Id="rId4" Type="http://schemas.openxmlformats.org/officeDocument/2006/relationships/image" Target="../media/image20.gif"/><Relationship Id="rId5" Type="http://schemas.openxmlformats.org/officeDocument/2006/relationships/image" Target="../media/image20.gif"/><Relationship Id="rId6" Type="http://schemas.openxmlformats.org/officeDocument/2006/relationships/image" Target="../media/image21.gif"/><Relationship Id="rId7" Type="http://schemas.openxmlformats.org/officeDocument/2006/relationships/image" Target="../media/image21.gi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5"/>
          <p:cNvSpPr/>
          <p:nvPr/>
        </p:nvSpPr>
        <p:spPr>
          <a:xfrm>
            <a:off x="4932360" y="1197000"/>
            <a:ext cx="2519280" cy="5184720"/>
          </a:xfrm>
          <a:custGeom>
            <a:avLst/>
            <a:gdLst>
              <a:gd name="textAreaLeft" fmla="*/ 0 w 2519280"/>
              <a:gd name="textAreaRight" fmla="*/ 1767240 w 2519280"/>
              <a:gd name="textAreaTop" fmla="*/ 216000 h 5184720"/>
              <a:gd name="textAreaBottom" fmla="*/ 4968720 h 518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Lente1aa"/>
          <p:cNvPicPr/>
          <p:nvPr/>
        </p:nvPicPr>
        <p:blipFill>
          <a:blip r:embed="rId1"/>
          <a:stretch/>
        </p:blipFill>
        <p:spPr>
          <a:xfrm>
            <a:off x="3995640" y="1557360"/>
            <a:ext cx="2952720" cy="3621240"/>
          </a:xfrm>
          <a:prstGeom prst="rect">
            <a:avLst/>
          </a:prstGeom>
          <a:ln w="0">
            <a:noFill/>
          </a:ln>
        </p:spPr>
      </p:pic>
      <p:sp>
        <p:nvSpPr>
          <p:cNvPr id="45" name="AutoShape 14"/>
          <p:cNvSpPr/>
          <p:nvPr/>
        </p:nvSpPr>
        <p:spPr>
          <a:xfrm>
            <a:off x="539640" y="907920"/>
            <a:ext cx="3456000" cy="367344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arrington"/>
              </a:rPr>
              <a:t>Lieve lente sche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arrington"/>
              </a:rPr>
              <a:t>u ze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arrington"/>
              </a:rPr>
              <a:t>Vriendelijk voorj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arrington"/>
              </a:rPr>
              <a:t>kom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arrington"/>
              </a:rPr>
              <a:t>Strooi uw bloe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arrington"/>
              </a:rPr>
              <a:t>Allerwe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arrington"/>
              </a:rPr>
              <a:t>Breng 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arrington"/>
              </a:rPr>
              <a:t>gras en kru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arrington"/>
              </a:rPr>
              <a:t>weer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newsflash/>
    <p:sndAc>
      <p:stSnd>
        <p:snd r:embed="rId2" name="2%20Gebroeders%20Brouwer%20-%20Ich%20zeige%20dir%20mein%20paradi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ee00"/>
            </a:gs>
            <a:gs pos="100000">
              <a:srgbClr val="005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6" descr="3047_DSCN0909"/>
          <p:cNvPicPr/>
          <p:nvPr/>
        </p:nvPicPr>
        <p:blipFill>
          <a:blip r:embed="rId1"/>
          <a:stretch/>
        </p:blipFill>
        <p:spPr>
          <a:xfrm>
            <a:off x="1332000" y="1123920"/>
            <a:ext cx="2519280" cy="3241800"/>
          </a:xfrm>
          <a:prstGeom prst="rect">
            <a:avLst/>
          </a:prstGeom>
          <a:ln w="38160">
            <a:solidFill>
              <a:srgbClr val="f4ee00"/>
            </a:solidFill>
            <a:prstDash val="lgDash"/>
            <a:miter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508720" y="3357720"/>
            <a:ext cx="2857320" cy="19047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blipFill rotWithShape="0">
            <a:blip r:embed="rId3">
              <a:alphaModFix amt="48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ransition spd="slow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" dur="500" fill="hold"/>
                                        <p:tgtEl>
                                          <p:spTgt spid="1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250" autoRev="1" fill="hold"/>
                                        <p:tgtEl>
                                          <p:spTgt spid="1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525920"/>
          </a:xfrm>
          <a:prstGeom prst="rect">
            <a:avLst/>
          </a:prstGeom>
          <a:noFill/>
          <a:ln w="57240">
            <a:solidFill>
              <a:srgbClr val="000000"/>
            </a:solidFill>
            <a:prstDash val="lgDash"/>
            <a:miter/>
          </a:ln>
        </p:spPr>
        <p:txBody>
          <a:bodyPr lIns="118440" rIns="118440" tIns="75240" bIns="752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9"/>
          <p:cNvSpPr/>
          <p:nvPr/>
        </p:nvSpPr>
        <p:spPr>
          <a:xfrm>
            <a:off x="4932360" y="981000"/>
            <a:ext cx="2952720" cy="5400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1"/>
          <p:cNvSpPr/>
          <p:nvPr/>
        </p:nvSpPr>
        <p:spPr>
          <a:xfrm>
            <a:off x="4103640" y="0"/>
            <a:ext cx="5040360" cy="5761080"/>
          </a:xfrm>
          <a:prstGeom prst="flowChartInputOutpu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3" descr="Gele Roos"/>
          <p:cNvPicPr/>
          <p:nvPr/>
        </p:nvPicPr>
        <p:blipFill>
          <a:blip r:embed="rId1"/>
          <a:stretch/>
        </p:blipFill>
        <p:spPr>
          <a:xfrm>
            <a:off x="4932360" y="1268280"/>
            <a:ext cx="2879640" cy="414504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15"/>
          <p:cNvSpPr/>
          <p:nvPr/>
        </p:nvSpPr>
        <p:spPr>
          <a:xfrm>
            <a:off x="250920" y="189000"/>
            <a:ext cx="3960720" cy="6192720"/>
          </a:xfrm>
          <a:prstGeom prst="irregularSeal1">
            <a:avLst/>
          </a:prstGeom>
          <a:solidFill>
            <a:srgbClr val="000000"/>
          </a:solidFill>
          <a:ln w="28440">
            <a:solidFill>
              <a:srgbClr val="a50021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1d"/>
                </a:solidFill>
                <a:latin typeface="Harrington"/>
              </a:rPr>
              <a:t>Lekker warmpj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1d"/>
                </a:solidFill>
                <a:latin typeface="Harrington"/>
              </a:rPr>
              <a:t>sam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1d"/>
                </a:solidFill>
                <a:latin typeface="Harrington"/>
              </a:rPr>
              <a:t>In z’n  groene bladerj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1d"/>
                </a:solidFill>
                <a:latin typeface="Harrington"/>
              </a:rPr>
              <a:t>Stond een tulp z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1d"/>
                </a:solidFill>
                <a:latin typeface="Harrington"/>
              </a:rPr>
              <a:t>af te vrag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1d"/>
                </a:solidFill>
                <a:latin typeface="Harrington"/>
              </a:rPr>
              <a:t>of de L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1d"/>
                </a:solidFill>
                <a:latin typeface="Harrington"/>
              </a:rPr>
              <a:t>er al was 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0"/>
          <p:cNvSpPr/>
          <p:nvPr/>
        </p:nvSpPr>
        <p:spPr>
          <a:xfrm>
            <a:off x="179280" y="333360"/>
            <a:ext cx="3600720" cy="4248000"/>
          </a:xfrm>
          <a:prstGeom prst="verticalScroll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1" descr="Kopie van straat"/>
          <p:cNvPicPr/>
          <p:nvPr/>
        </p:nvPicPr>
        <p:blipFill>
          <a:blip r:embed="rId1"/>
          <a:stretch/>
        </p:blipFill>
        <p:spPr>
          <a:xfrm>
            <a:off x="826920" y="1123920"/>
            <a:ext cx="2232360" cy="30970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6" name="Oval 16"/>
          <p:cNvSpPr/>
          <p:nvPr/>
        </p:nvSpPr>
        <p:spPr>
          <a:xfrm rot="1030800">
            <a:off x="4140000" y="2420640"/>
            <a:ext cx="4679640" cy="2160360"/>
          </a:xfrm>
          <a:prstGeom prst="ellipse">
            <a:avLst/>
          </a:prstGeom>
          <a:gradFill rotWithShape="0">
            <a:gsLst>
              <a:gs pos="0">
                <a:srgbClr val="364666"/>
              </a:gs>
              <a:gs pos="50000">
                <a:srgbClr val="7598dd"/>
              </a:gs>
              <a:gs pos="100000">
                <a:srgbClr val="364666"/>
              </a:gs>
            </a:gsLst>
            <a:lin ang="436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Harrington"/>
              </a:rPr>
              <a:t>De winter is voorb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Harrington"/>
              </a:rPr>
              <a:t>de lente ko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Harrington"/>
              </a:rPr>
              <a:t>er a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Harrington"/>
              </a:rPr>
              <a:t>De dagen worden la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Harrington"/>
              </a:rPr>
              <a:t>De kou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Harrington"/>
              </a:rPr>
              <a:t>Weggega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14050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Harrington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Harrington"/>
              </a:rPr>
              <a:t>De bloempj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Harrington"/>
              </a:rPr>
              <a:t>Komen o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6"/>
          <p:cNvSpPr/>
          <p:nvPr/>
        </p:nvSpPr>
        <p:spPr>
          <a:xfrm>
            <a:off x="250920" y="260280"/>
            <a:ext cx="2376360" cy="2016360"/>
          </a:xfrm>
          <a:prstGeom prst="cube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Harrington"/>
              </a:rPr>
              <a:t>De bloempj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Harrington"/>
              </a:rPr>
              <a:t>Komen o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2695_DSCN6194"/>
          <p:cNvPicPr/>
          <p:nvPr/>
        </p:nvPicPr>
        <p:blipFill>
          <a:blip r:embed="rId1"/>
          <a:stretch/>
        </p:blipFill>
        <p:spPr>
          <a:xfrm>
            <a:off x="395280" y="836640"/>
            <a:ext cx="1584360" cy="1297080"/>
          </a:xfrm>
          <a:prstGeom prst="rect">
            <a:avLst/>
          </a:prstGeom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</p:pic>
      <p:sp>
        <p:nvSpPr>
          <p:cNvPr id="61" name="AutoShape 8"/>
          <p:cNvSpPr/>
          <p:nvPr/>
        </p:nvSpPr>
        <p:spPr>
          <a:xfrm>
            <a:off x="611280" y="3068640"/>
            <a:ext cx="2881080" cy="2089080"/>
          </a:xfrm>
          <a:prstGeom prst="cube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" descr="lentebloesem"/>
          <p:cNvPicPr/>
          <p:nvPr/>
        </p:nvPicPr>
        <p:blipFill>
          <a:blip r:embed="rId2"/>
          <a:stretch/>
        </p:blipFill>
        <p:spPr>
          <a:xfrm>
            <a:off x="826920" y="3716280"/>
            <a:ext cx="1873440" cy="129708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14"/>
          <p:cNvSpPr/>
          <p:nvPr/>
        </p:nvSpPr>
        <p:spPr>
          <a:xfrm>
            <a:off x="1116000" y="3141720"/>
            <a:ext cx="1871640" cy="43164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Harrington"/>
              </a:rPr>
              <a:t>De knopj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Harrington"/>
              </a:rPr>
              <a:t>komen u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5"/>
          <p:cNvSpPr/>
          <p:nvPr/>
        </p:nvSpPr>
        <p:spPr>
          <a:xfrm>
            <a:off x="684360" y="333360"/>
            <a:ext cx="1295280" cy="376200"/>
          </a:xfrm>
          <a:prstGeom prst="flowChartTerminator">
            <a:avLst/>
          </a:prstGeom>
          <a:solidFill>
            <a:srgbClr val="333333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Harrington"/>
              </a:rPr>
              <a:t>De bloempj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Harrington"/>
              </a:rPr>
              <a:t>komen o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21"/>
          <p:cNvSpPr/>
          <p:nvPr/>
        </p:nvSpPr>
        <p:spPr>
          <a:xfrm rot="1725000">
            <a:off x="3535200" y="484200"/>
            <a:ext cx="3414960" cy="2208240"/>
          </a:xfrm>
          <a:prstGeom prst="rtTriangl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3" descr="222222"/>
          <p:cNvPicPr/>
          <p:nvPr/>
        </p:nvPicPr>
        <p:blipFill>
          <a:blip r:embed="rId3"/>
          <a:stretch/>
        </p:blipFill>
        <p:spPr>
          <a:xfrm>
            <a:off x="3780000" y="476280"/>
            <a:ext cx="1655640" cy="2160720"/>
          </a:xfrm>
          <a:prstGeom prst="rect">
            <a:avLst/>
          </a:prstGeom>
          <a:ln w="9360">
            <a:solidFill>
              <a:srgbClr val="99cc00"/>
            </a:solidFill>
            <a:miter/>
          </a:ln>
        </p:spPr>
      </p:pic>
      <p:sp>
        <p:nvSpPr>
          <p:cNvPr id="67" name="AutoShape 24"/>
          <p:cNvSpPr/>
          <p:nvPr/>
        </p:nvSpPr>
        <p:spPr>
          <a:xfrm rot="716400">
            <a:off x="4127040" y="2301480"/>
            <a:ext cx="2745000" cy="503280"/>
          </a:xfrm>
          <a:prstGeom prst="flowChartTerminator">
            <a:avLst/>
          </a:prstGeom>
          <a:gradFill rotWithShape="0">
            <a:gsLst>
              <a:gs pos="0">
                <a:srgbClr val="475e00"/>
              </a:gs>
              <a:gs pos="100000">
                <a:srgbClr val="99cc00"/>
              </a:gs>
            </a:gsLst>
            <a:lin ang="4686000"/>
          </a:gra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a00"/>
                </a:solidFill>
                <a:latin typeface="Harrington"/>
              </a:rPr>
              <a:t>De vlinders fladde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a00"/>
                </a:solidFill>
                <a:latin typeface="Harrington"/>
              </a:rPr>
              <a:t>rond.</a:t>
            </a:r>
            <a:r>
              <a:rPr b="1" lang="en-US" sz="1400" spc="-1" strike="noStrike">
                <a:solidFill>
                  <a:srgbClr val="663300"/>
                </a:solidFill>
                <a:latin typeface="Harringto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7" descr="Afbeelding013"/>
          <p:cNvPicPr/>
          <p:nvPr/>
        </p:nvPicPr>
        <p:blipFill>
          <a:blip r:embed="rId4"/>
          <a:stretch/>
        </p:blipFill>
        <p:spPr>
          <a:xfrm rot="544800">
            <a:off x="5508720" y="333360"/>
            <a:ext cx="1800000" cy="1727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tapuit"/>
          <p:cNvPicPr/>
          <p:nvPr/>
        </p:nvPicPr>
        <p:blipFill>
          <a:blip r:embed="rId5"/>
          <a:stretch/>
        </p:blipFill>
        <p:spPr>
          <a:xfrm rot="193200">
            <a:off x="4859280" y="3716280"/>
            <a:ext cx="2979720" cy="2027160"/>
          </a:xfrm>
          <a:prstGeom prst="rect">
            <a:avLst/>
          </a:prstGeom>
          <a:ln w="9360">
            <a:solidFill>
              <a:srgbClr val="1c1c1c"/>
            </a:solidFill>
            <a:miter/>
          </a:ln>
        </p:spPr>
      </p:pic>
      <p:sp>
        <p:nvSpPr>
          <p:cNvPr id="70" name="Rectangle 31"/>
          <p:cNvSpPr/>
          <p:nvPr/>
        </p:nvSpPr>
        <p:spPr>
          <a:xfrm rot="192000">
            <a:off x="6732360" y="3789360"/>
            <a:ext cx="1079280" cy="1944720"/>
          </a:xfrm>
          <a:prstGeom prst="rect">
            <a:avLst/>
          </a:prstGeom>
          <a:solidFill>
            <a:srgbClr val="1c1c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ddddd"/>
                </a:solidFill>
                <a:latin typeface="Harrington"/>
              </a:rPr>
              <a:t>De vog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ddddd"/>
                </a:solidFill>
                <a:latin typeface="Harrington"/>
              </a:rPr>
              <a:t>Zi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ddddd"/>
                </a:solidFill>
                <a:latin typeface="Harrington"/>
              </a:rPr>
              <a:t>Lu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76360" y="2135160"/>
            <a:ext cx="32403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ubOvalCallout"/>
          <p:cNvSpPr/>
          <p:nvPr/>
        </p:nvSpPr>
        <p:spPr>
          <a:xfrm rot="12382800">
            <a:off x="1630080" y="-360"/>
            <a:ext cx="7513560" cy="460836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ubOvalCallout"/>
          <p:cNvSpPr/>
          <p:nvPr/>
        </p:nvSpPr>
        <p:spPr>
          <a:xfrm>
            <a:off x="3276720" y="2060640"/>
            <a:ext cx="5688000" cy="3816360"/>
          </a:xfrm>
          <a:prstGeom prst="pie">
            <a:avLst/>
          </a:prstGeom>
          <a:gradFill rotWithShape="0">
            <a:gsLst>
              <a:gs pos="0">
                <a:srgbClr val="005b00"/>
              </a:gs>
              <a:gs pos="50000">
                <a:srgbClr val="00c400"/>
              </a:gs>
              <a:gs pos="100000">
                <a:srgbClr val="005b00"/>
              </a:gs>
            </a:gsLst>
            <a:lin ang="5400000"/>
          </a:gradFill>
          <a:ln w="9360">
            <a:solidFill>
              <a:srgbClr val="00c400"/>
            </a:solidFill>
            <a:miter/>
          </a:ln>
          <a:effectLst>
            <a:outerShdw dist="117181" dir="243836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arringto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arrington"/>
              </a:rPr>
              <a:t>De lente heeft zich aangekondigd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arrington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arrington"/>
              </a:rPr>
              <a:t>k’ zie lammetjes in h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arrington"/>
              </a:rPr>
              <a:t>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arrington"/>
              </a:rPr>
              <a:t>groene gr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arrington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Harrington"/>
              </a:rPr>
              <a:t>En ook de knoppen die ontluiken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arrington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Harrington"/>
              </a:rPr>
              <a:t>en eendjes aan de waterpl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4" descr="Punt5FLente"/>
          <p:cNvPicPr/>
          <p:nvPr/>
        </p:nvPicPr>
        <p:blipFill>
          <a:blip r:embed="rId1"/>
          <a:stretch/>
        </p:blipFill>
        <p:spPr>
          <a:xfrm>
            <a:off x="755640" y="476280"/>
            <a:ext cx="3543480" cy="3247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7" descr="3796"/>
          <p:cNvPicPr/>
          <p:nvPr/>
        </p:nvPicPr>
        <p:blipFill>
          <a:blip r:embed="rId2"/>
          <a:stretch/>
        </p:blipFill>
        <p:spPr>
          <a:xfrm>
            <a:off x="5724360" y="4653000"/>
            <a:ext cx="3168720" cy="187164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28"/>
          <p:cNvSpPr/>
          <p:nvPr/>
        </p:nvSpPr>
        <p:spPr>
          <a:xfrm rot="19237200">
            <a:off x="5580000" y="4508280"/>
            <a:ext cx="914400" cy="936360"/>
          </a:xfrm>
          <a:prstGeom prst="pie">
            <a:avLst/>
          </a:prstGeom>
          <a:solidFill>
            <a:srgbClr val="00c400"/>
          </a:solidFill>
          <a:ln w="9360">
            <a:solidFill>
              <a:srgbClr val="00c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23"/>
          <p:cNvSpPr/>
          <p:nvPr/>
        </p:nvSpPr>
        <p:spPr>
          <a:xfrm>
            <a:off x="3276720" y="404640"/>
            <a:ext cx="3313080" cy="4248360"/>
          </a:xfrm>
          <a:prstGeom prst="parallelogram">
            <a:avLst>
              <a:gd name="adj" fmla="val 25000"/>
            </a:avLst>
          </a:prstGeom>
          <a:solidFill>
            <a:srgbClr val="005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Harrington"/>
              </a:rPr>
              <a:t>Bomen krijgen blaadj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Harrington"/>
              </a:rPr>
              <a:t>De bloe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Harrington"/>
              </a:rPr>
              <a:t>komen u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Harrington"/>
              </a:rPr>
              <a:t>De vog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Harrington"/>
              </a:rPr>
              <a:t>e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Harrington"/>
              </a:rPr>
              <a:t>zaadj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Harrington"/>
              </a:rPr>
              <a:t>En ve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Harrington"/>
              </a:rPr>
              <a:t>flui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Harrington"/>
              </a:rPr>
              <a:t>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Harrington"/>
              </a:rPr>
              <a:t>lui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4" descr="3081_DSCN1029"/>
          <p:cNvPicPr/>
          <p:nvPr/>
        </p:nvPicPr>
        <p:blipFill>
          <a:blip r:embed="rId2"/>
          <a:stretch/>
        </p:blipFill>
        <p:spPr>
          <a:xfrm>
            <a:off x="5435640" y="4049640"/>
            <a:ext cx="3708360" cy="2808360"/>
          </a:xfrm>
          <a:prstGeom prst="rect">
            <a:avLst/>
          </a:prstGeom>
          <a:ln w="9360">
            <a:solidFill>
              <a:srgbClr val="007600"/>
            </a:solidFill>
            <a:miter/>
          </a:ln>
        </p:spPr>
      </p:pic>
      <p:pic>
        <p:nvPicPr>
          <p:cNvPr id="82" name="Picture 25" descr="3937_Kopia-Kopia-7045"/>
          <p:cNvPicPr/>
          <p:nvPr/>
        </p:nvPicPr>
        <p:blipFill>
          <a:blip r:embed="rId3"/>
          <a:stretch/>
        </p:blipFill>
        <p:spPr>
          <a:xfrm>
            <a:off x="0" y="0"/>
            <a:ext cx="3635280" cy="2637000"/>
          </a:xfrm>
          <a:prstGeom prst="rect">
            <a:avLst/>
          </a:prstGeom>
          <a:ln w="9360">
            <a:solidFill>
              <a:srgbClr val="006c00"/>
            </a:solidFill>
            <a:miter/>
          </a:ln>
        </p:spPr>
      </p:pic>
    </p:spTree>
  </p:cSld>
  <p:transition spd="slow" advTm="9000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e2d"/>
            </a:gs>
            <a:gs pos="100000">
              <a:srgbClr val="003f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4"/>
          <p:cNvSpPr/>
          <p:nvPr/>
        </p:nvSpPr>
        <p:spPr>
          <a:xfrm rot="591600">
            <a:off x="320400" y="1173240"/>
            <a:ext cx="4029120" cy="511488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001d1d"/>
              </a:gs>
              <a:gs pos="50000">
                <a:srgbClr val="003f3e"/>
              </a:gs>
              <a:gs pos="100000">
                <a:srgbClr val="001d1d"/>
              </a:gs>
            </a:gsLst>
            <a:lin ang="480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zijden-bloemen-zijden-clematis"/>
          <p:cNvPicPr/>
          <p:nvPr/>
        </p:nvPicPr>
        <p:blipFill>
          <a:blip r:embed="rId1"/>
          <a:stretch/>
        </p:blipFill>
        <p:spPr>
          <a:xfrm>
            <a:off x="755640" y="1484280"/>
            <a:ext cx="2857680" cy="43210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7" name="AutoShape 6"/>
          <p:cNvSpPr/>
          <p:nvPr/>
        </p:nvSpPr>
        <p:spPr>
          <a:xfrm rot="182400">
            <a:off x="3780000" y="3141360"/>
            <a:ext cx="3889080" cy="2374920"/>
          </a:xfrm>
          <a:prstGeom prst="flowChartAlternateProcess">
            <a:avLst/>
          </a:prstGeom>
          <a:solidFill>
            <a:srgbClr val="003f3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Harrington"/>
              </a:rPr>
              <a:t>Als de voorjaar bloe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Harrington"/>
              </a:rPr>
              <a:t>bloei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Harrington"/>
              </a:rPr>
              <a:t>En de lente komt er a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Harrington"/>
              </a:rPr>
              <a:t>Denk dan niet m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Harrington"/>
              </a:rPr>
              <a:t>aan  die re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Harrington"/>
              </a:rPr>
              <a:t>Die z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Harrington"/>
              </a:rPr>
              <a:t>Plensde te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Harrington"/>
              </a:rPr>
              <a:t>het ra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00"/>
            </a:gs>
            <a:gs pos="50000">
              <a:srgbClr val="003300"/>
            </a:gs>
            <a:gs pos="100000">
              <a:srgbClr val="0017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0"/>
          <p:cNvSpPr/>
          <p:nvPr/>
        </p:nvSpPr>
        <p:spPr>
          <a:xfrm rot="5400000">
            <a:off x="-108720" y="1124640"/>
            <a:ext cx="5040360" cy="3889440"/>
          </a:xfrm>
          <a:prstGeom prst="ellipse">
            <a:avLst/>
          </a:prstGeom>
          <a:gradFill rotWithShape="0">
            <a:gsLst>
              <a:gs pos="0">
                <a:srgbClr val="001800"/>
              </a:gs>
              <a:gs pos="50000">
                <a:srgbClr val="003300"/>
              </a:gs>
              <a:gs pos="100000">
                <a:srgbClr val="0018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2" descr="Afbeelding0,2"/>
          <p:cNvPicPr/>
          <p:nvPr/>
        </p:nvPicPr>
        <p:blipFill>
          <a:blip r:embed="rId1"/>
          <a:stretch/>
        </p:blipFill>
        <p:spPr>
          <a:xfrm>
            <a:off x="971640" y="1052640"/>
            <a:ext cx="4529160" cy="580536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14"/>
          <p:cNvSpPr/>
          <p:nvPr/>
        </p:nvSpPr>
        <p:spPr>
          <a:xfrm>
            <a:off x="5651640" y="549360"/>
            <a:ext cx="3097080" cy="5975280"/>
          </a:xfrm>
          <a:prstGeom prst="bracePair">
            <a:avLst>
              <a:gd name="adj" fmla="val 8333"/>
            </a:avLst>
          </a:prstGeom>
          <a:noFill/>
          <a:ln w="28440">
            <a:solidFill>
              <a:srgbClr val="80808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5"/>
          <p:cNvSpPr/>
          <p:nvPr/>
        </p:nvSpPr>
        <p:spPr>
          <a:xfrm>
            <a:off x="6012000" y="692280"/>
            <a:ext cx="2376360" cy="5761080"/>
          </a:xfrm>
          <a:prstGeom prst="bracePair">
            <a:avLst>
              <a:gd name="adj" fmla="val 8333"/>
            </a:avLst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600"/>
                </a:solidFill>
                <a:latin typeface="Harrington"/>
              </a:rPr>
              <a:t>Met mooie l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600"/>
                </a:solidFill>
                <a:latin typeface="Harrington"/>
              </a:rPr>
              <a:t>bloem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600"/>
                </a:solidFill>
                <a:latin typeface="Harrington"/>
              </a:rPr>
              <a:t>En een zonnet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600"/>
                </a:solidFill>
                <a:latin typeface="Harrington"/>
              </a:rPr>
              <a:t>erbi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600"/>
                </a:solidFill>
                <a:latin typeface="Harrington"/>
              </a:rPr>
              <a:t>Daar k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600"/>
                </a:solidFill>
                <a:latin typeface="Harrington"/>
              </a:rPr>
              <a:t>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600"/>
                </a:solidFill>
                <a:latin typeface="Harrington"/>
              </a:rPr>
              <a:t>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600"/>
                </a:solidFill>
                <a:latin typeface="Harrington"/>
              </a:rPr>
              <a:t>genie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600"/>
                </a:solidFill>
                <a:latin typeface="Harrington"/>
              </a:rPr>
              <a:t>En 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600"/>
                </a:solidFill>
                <a:latin typeface="Harrington"/>
              </a:rPr>
              <a:t>je oo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600"/>
                </a:solidFill>
                <a:latin typeface="Harrington"/>
              </a:rPr>
              <a:t>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600"/>
                </a:solidFill>
                <a:latin typeface="Harrington"/>
              </a:rPr>
              <a:t>beetje bli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rot="7377000">
            <a:off x="168120" y="1623960"/>
            <a:ext cx="6303960" cy="2735280"/>
          </a:xfrm>
          <a:prstGeom prst="ellipse">
            <a:avLst/>
          </a:prstGeom>
          <a:gradFill rotWithShape="0">
            <a:gsLst>
              <a:gs pos="0">
                <a:srgbClr val="003600"/>
              </a:gs>
              <a:gs pos="100000">
                <a:srgbClr val="333333"/>
              </a:gs>
            </a:gsLst>
            <a:lin ang="1962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9"/>
          <p:cNvSpPr/>
          <p:nvPr/>
        </p:nvSpPr>
        <p:spPr>
          <a:xfrm>
            <a:off x="179280" y="1197000"/>
            <a:ext cx="4321440" cy="4032360"/>
          </a:xfrm>
          <a:custGeom>
            <a:avLst/>
            <a:gdLst>
              <a:gd name="textAreaLeft" fmla="*/ 986400 w 4321440"/>
              <a:gd name="textAreaRight" fmla="*/ 3335040 w 4321440"/>
              <a:gd name="textAreaTop" fmla="*/ 920520 h 4032360"/>
              <a:gd name="textAreaBottom" fmla="*/ 3111840 h 403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50000">
                <a:srgbClr val="76765e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arrington"/>
              </a:rPr>
              <a:t>Het voorjaar zit 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arrington"/>
              </a:rPr>
              <a:t>aan te kom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arrington"/>
              </a:rPr>
              <a:t>Ik z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arrington"/>
              </a:rPr>
              <a:t>de bloes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arrington"/>
              </a:rPr>
              <a:t>aan de bom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arrington"/>
              </a:rPr>
              <a:t>O wat 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arrington"/>
              </a:rPr>
              <a:t>ik bli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arrington"/>
              </a:rPr>
              <a:t>De winter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arrington"/>
              </a:rPr>
              <a:t>nu e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arrington"/>
              </a:rPr>
              <a:t>voorbi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5" descr="2887_DSCN9397"/>
          <p:cNvPicPr/>
          <p:nvPr/>
        </p:nvPicPr>
        <p:blipFill>
          <a:blip r:embed="rId1"/>
          <a:stretch/>
        </p:blipFill>
        <p:spPr>
          <a:xfrm>
            <a:off x="5580000" y="1989000"/>
            <a:ext cx="2808360" cy="4104000"/>
          </a:xfrm>
          <a:prstGeom prst="rect">
            <a:avLst/>
          </a:prstGeom>
          <a:ln w="76320">
            <a:solidFill>
              <a:srgbClr val="ffffcc"/>
            </a:solidFill>
            <a:prstDash val="dash"/>
            <a:miter/>
          </a:ln>
        </p:spPr>
      </p:pic>
    </p:spTree>
  </p:cSld>
  <p:transition spd="slow" advTm="900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20:02:10Z</dcterms:created>
  <dc:creator>Algemeen</dc:creator>
  <dc:description/>
  <dc:language>en-US</dc:language>
  <cp:lastModifiedBy>Smets</cp:lastModifiedBy>
  <dcterms:modified xsi:type="dcterms:W3CDTF">2010-04-15T04:41:32Z</dcterms:modified>
  <cp:revision>24</cp:revision>
  <dc:subject/>
  <dc:title>Dia 1</dc:title>
</cp:coreProperties>
</file>