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4.jpeg" ContentType="image/jpeg"/>
  <Override PartName="/ppt/media/image21.gif" ContentType="image/gif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1.jpeg" ContentType="image/jpeg"/>
  <Override PartName="/ppt/media/2%20Gebroeders%20Brouwer%20-%20Ich%20zeige%20dir%20mein%20paradis.wav" ContentType="audio/x-wav"/>
  <Override PartName="/ppt/media/image5.jpeg" ContentType="image/jpe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A32B-D71F-4641-8B25-CE942C53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010F-9C4B-469F-B5EC-14AE350B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6D65-E005-46BC-8CAF-6ED1279D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FE54-99B9-4127-9E41-F69D1857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E04-E129-4DFA-A517-0DB914C7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207-66D7-4DEC-9067-789E7E3F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48FF-36D6-4654-BAC7-11407D1C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409-1C08-45CA-83B2-04EB98A4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A9C1-830E-4AEF-A88F-6B3A5421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D06-65FE-436E-A2B1-2042308E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2F32-3A58-4636-84C9-30EBB08B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C72D-0C34-4AB7-A96B-02D44A3D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3607-E1A0-4BF2-848F-807C47042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2%20Gebroeders%20Brouwer%20-%20Ich%20zeige%20dir%20mein%20paradi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4932360" y="1197000"/>
            <a:ext cx="2519280" cy="5184720"/>
          </a:xfrm>
          <a:custGeom>
            <a:avLst/>
            <a:gdLst>
              <a:gd name="textAreaLeft" fmla="*/ 0 w 2519280"/>
              <a:gd name="textAreaRight" fmla="*/ 1767240 w 2519280"/>
              <a:gd name="textAreaTop" fmla="*/ 216000 h 5184720"/>
              <a:gd name="textAreaBottom" fmla="*/ 4968720 h 51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Lente1aa"/>
          <p:cNvPicPr/>
          <p:nvPr/>
        </p:nvPicPr>
        <p:blipFill>
          <a:blip r:embed="rId1"/>
          <a:stretch/>
        </p:blipFill>
        <p:spPr>
          <a:xfrm>
            <a:off x="3995640" y="1557360"/>
            <a:ext cx="2952720" cy="362124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4"/>
          <p:cNvSpPr/>
          <p:nvPr/>
        </p:nvSpPr>
        <p:spPr>
          <a:xfrm>
            <a:off x="539640" y="907920"/>
            <a:ext cx="3456000" cy="36734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Lieve lente sche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u ze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Vriendelijk voorj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kom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Strooi uw blo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Allerwe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Breng 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gras en kr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weer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  <p:sndAc>
      <p:stSnd>
        <p:snd r:embed="rId2" name="2%20Gebroeders%20Brouwer%20-%20Ich%20zeige%20dir%20mein%20paradi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e00"/>
            </a:gs>
            <a:gs pos="100000">
              <a:srgbClr val="005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3047_DSCN0909"/>
          <p:cNvPicPr/>
          <p:nvPr/>
        </p:nvPicPr>
        <p:blipFill>
          <a:blip r:embed="rId1"/>
          <a:stretch/>
        </p:blipFill>
        <p:spPr>
          <a:xfrm>
            <a:off x="1332000" y="1123920"/>
            <a:ext cx="2519280" cy="3241800"/>
          </a:xfrm>
          <a:prstGeom prst="rect">
            <a:avLst/>
          </a:prstGeom>
          <a:ln w="38160">
            <a:solidFill>
              <a:srgbClr val="f4ee00"/>
            </a:solidFill>
            <a:prstDash val="lgDash"/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508720" y="3357720"/>
            <a:ext cx="2857320" cy="1904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3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57240">
            <a:solidFill>
              <a:srgbClr val="000000"/>
            </a:solidFill>
            <a:prstDash val="lgDash"/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4932360" y="981000"/>
            <a:ext cx="2952720" cy="540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4103640" y="0"/>
            <a:ext cx="5040360" cy="5761080"/>
          </a:xfrm>
          <a:prstGeom prst="flowChartInputOutpu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Gele Roos"/>
          <p:cNvPicPr/>
          <p:nvPr/>
        </p:nvPicPr>
        <p:blipFill>
          <a:blip r:embed="rId1"/>
          <a:stretch/>
        </p:blipFill>
        <p:spPr>
          <a:xfrm>
            <a:off x="4932360" y="1268280"/>
            <a:ext cx="2879640" cy="414504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5"/>
          <p:cNvSpPr/>
          <p:nvPr/>
        </p:nvSpPr>
        <p:spPr>
          <a:xfrm>
            <a:off x="250920" y="189000"/>
            <a:ext cx="3960720" cy="6192720"/>
          </a:xfrm>
          <a:prstGeom prst="irregularSeal1">
            <a:avLst/>
          </a:prstGeom>
          <a:solidFill>
            <a:srgbClr val="000000"/>
          </a:solidFill>
          <a:ln w="2844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1d"/>
                </a:solidFill>
                <a:latin typeface="Harrington"/>
              </a:rPr>
              <a:t>Lekker warmp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1d"/>
                </a:solidFill>
                <a:latin typeface="Harrington"/>
              </a:rPr>
              <a:t>sa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1d"/>
                </a:solidFill>
                <a:latin typeface="Harrington"/>
              </a:rPr>
              <a:t>In z’n  groene bladerj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1d"/>
                </a:solidFill>
                <a:latin typeface="Harrington"/>
              </a:rPr>
              <a:t>Stond een tulp z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1d"/>
                </a:solidFill>
                <a:latin typeface="Harrington"/>
              </a:rPr>
              <a:t>af te vra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1d"/>
                </a:solidFill>
                <a:latin typeface="Harrington"/>
              </a:rPr>
              <a:t>of de 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1d"/>
                </a:solidFill>
                <a:latin typeface="Harrington"/>
              </a:rPr>
              <a:t>er al was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179280" y="333360"/>
            <a:ext cx="3600720" cy="4248000"/>
          </a:xfrm>
          <a:prstGeom prst="verticalScrol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Kopie van straat"/>
          <p:cNvPicPr/>
          <p:nvPr/>
        </p:nvPicPr>
        <p:blipFill>
          <a:blip r:embed="rId1"/>
          <a:stretch/>
        </p:blipFill>
        <p:spPr>
          <a:xfrm>
            <a:off x="826920" y="1123920"/>
            <a:ext cx="2232360" cy="309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6" name="Oval 16"/>
          <p:cNvSpPr/>
          <p:nvPr/>
        </p:nvSpPr>
        <p:spPr>
          <a:xfrm rot="1030800">
            <a:off x="4140000" y="2420640"/>
            <a:ext cx="4679640" cy="2160360"/>
          </a:xfrm>
          <a:prstGeom prst="ellipse">
            <a:avLst/>
          </a:prstGeom>
          <a:gradFill rotWithShape="0">
            <a:gsLst>
              <a:gs pos="0">
                <a:srgbClr val="364666"/>
              </a:gs>
              <a:gs pos="50000">
                <a:srgbClr val="7598dd"/>
              </a:gs>
              <a:gs pos="100000">
                <a:srgbClr val="364666"/>
              </a:gs>
            </a:gsLst>
            <a:lin ang="436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arrington"/>
              </a:rPr>
              <a:t>De winter is voorb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arrington"/>
              </a:rPr>
              <a:t>de lente ko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arrington"/>
              </a:rPr>
              <a:t>er 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arrington"/>
              </a:rPr>
              <a:t>De dagen worden 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arrington"/>
              </a:rPr>
              <a:t>De kou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arrington"/>
              </a:rPr>
              <a:t>Weggeg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4050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arrington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Harrington"/>
              </a:rPr>
              <a:t>De bloemp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arrington"/>
              </a:rPr>
              <a:t>Komen o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250920" y="260280"/>
            <a:ext cx="2376360" cy="201636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arrington"/>
              </a:rPr>
              <a:t>De bloemp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arrington"/>
              </a:rPr>
              <a:t>Komen o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2695_DSCN6194"/>
          <p:cNvPicPr/>
          <p:nvPr/>
        </p:nvPicPr>
        <p:blipFill>
          <a:blip r:embed="rId1"/>
          <a:stretch/>
        </p:blipFill>
        <p:spPr>
          <a:xfrm>
            <a:off x="395280" y="836640"/>
            <a:ext cx="1584360" cy="129708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</p:pic>
      <p:sp>
        <p:nvSpPr>
          <p:cNvPr id="61" name="AutoShape 8"/>
          <p:cNvSpPr/>
          <p:nvPr/>
        </p:nvSpPr>
        <p:spPr>
          <a:xfrm>
            <a:off x="611280" y="3068640"/>
            <a:ext cx="2881080" cy="20890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lentebloesem"/>
          <p:cNvPicPr/>
          <p:nvPr/>
        </p:nvPicPr>
        <p:blipFill>
          <a:blip r:embed="rId2"/>
          <a:stretch/>
        </p:blipFill>
        <p:spPr>
          <a:xfrm>
            <a:off x="826920" y="3716280"/>
            <a:ext cx="1873440" cy="129708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4"/>
          <p:cNvSpPr/>
          <p:nvPr/>
        </p:nvSpPr>
        <p:spPr>
          <a:xfrm>
            <a:off x="1116000" y="3141720"/>
            <a:ext cx="1871640" cy="43164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Harrington"/>
              </a:rPr>
              <a:t>De knop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Harrington"/>
              </a:rPr>
              <a:t>komen u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684360" y="333360"/>
            <a:ext cx="1295280" cy="376200"/>
          </a:xfrm>
          <a:prstGeom prst="flowChartTerminator">
            <a:avLst/>
          </a:prstGeom>
          <a:solidFill>
            <a:srgbClr val="333333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arrington"/>
              </a:rPr>
              <a:t>De bloemp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arrington"/>
              </a:rPr>
              <a:t>komen o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1"/>
          <p:cNvSpPr/>
          <p:nvPr/>
        </p:nvSpPr>
        <p:spPr>
          <a:xfrm rot="1725000">
            <a:off x="3535200" y="484200"/>
            <a:ext cx="3414960" cy="2208240"/>
          </a:xfrm>
          <a:prstGeom prst="rtTriangl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3" descr="222222"/>
          <p:cNvPicPr/>
          <p:nvPr/>
        </p:nvPicPr>
        <p:blipFill>
          <a:blip r:embed="rId3"/>
          <a:stretch/>
        </p:blipFill>
        <p:spPr>
          <a:xfrm>
            <a:off x="3780000" y="476280"/>
            <a:ext cx="1655640" cy="216072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67" name="AutoShape 24"/>
          <p:cNvSpPr/>
          <p:nvPr/>
        </p:nvSpPr>
        <p:spPr>
          <a:xfrm rot="716400">
            <a:off x="4127040" y="2301480"/>
            <a:ext cx="2745000" cy="503280"/>
          </a:xfrm>
          <a:prstGeom prst="flowChartTerminator">
            <a:avLst/>
          </a:prstGeom>
          <a:gradFill rotWithShape="0">
            <a:gsLst>
              <a:gs pos="0">
                <a:srgbClr val="475e00"/>
              </a:gs>
              <a:gs pos="100000">
                <a:srgbClr val="99cc00"/>
              </a:gs>
            </a:gsLst>
            <a:lin ang="4686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a00"/>
                </a:solidFill>
                <a:latin typeface="Harrington"/>
              </a:rPr>
              <a:t>De vlinders fladd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a00"/>
                </a:solidFill>
                <a:latin typeface="Harrington"/>
              </a:rPr>
              <a:t>rond.</a:t>
            </a:r>
            <a:r>
              <a:rPr b="1" lang="en-US" sz="1400" spc="-1" strike="noStrike">
                <a:solidFill>
                  <a:srgbClr val="663300"/>
                </a:solidFill>
                <a:latin typeface="Harringto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7" descr="Afbeelding013"/>
          <p:cNvPicPr/>
          <p:nvPr/>
        </p:nvPicPr>
        <p:blipFill>
          <a:blip r:embed="rId4"/>
          <a:stretch/>
        </p:blipFill>
        <p:spPr>
          <a:xfrm rot="544800">
            <a:off x="5508720" y="333360"/>
            <a:ext cx="1800000" cy="172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tapuit"/>
          <p:cNvPicPr/>
          <p:nvPr/>
        </p:nvPicPr>
        <p:blipFill>
          <a:blip r:embed="rId5"/>
          <a:stretch/>
        </p:blipFill>
        <p:spPr>
          <a:xfrm rot="193200">
            <a:off x="4859280" y="3716280"/>
            <a:ext cx="2979720" cy="2027160"/>
          </a:xfrm>
          <a:prstGeom prst="rect">
            <a:avLst/>
          </a:prstGeom>
          <a:ln w="9360">
            <a:solidFill>
              <a:srgbClr val="1c1c1c"/>
            </a:solidFill>
            <a:miter/>
          </a:ln>
        </p:spPr>
      </p:pic>
      <p:sp>
        <p:nvSpPr>
          <p:cNvPr id="70" name="Rectangle 31"/>
          <p:cNvSpPr/>
          <p:nvPr/>
        </p:nvSpPr>
        <p:spPr>
          <a:xfrm rot="192000">
            <a:off x="6732360" y="3789360"/>
            <a:ext cx="1079280" cy="19447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Harrington"/>
              </a:rPr>
              <a:t>De vog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Harrington"/>
              </a:rPr>
              <a:t>Z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Harrington"/>
              </a:rPr>
              <a:t>Lu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6360" y="2135160"/>
            <a:ext cx="32403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ubOvalCallout"/>
          <p:cNvSpPr/>
          <p:nvPr/>
        </p:nvSpPr>
        <p:spPr>
          <a:xfrm rot="12382800">
            <a:off x="1630080" y="-360"/>
            <a:ext cx="7513560" cy="460836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ubOvalCallout"/>
          <p:cNvSpPr/>
          <p:nvPr/>
        </p:nvSpPr>
        <p:spPr>
          <a:xfrm>
            <a:off x="3276720" y="2060640"/>
            <a:ext cx="5688000" cy="3816360"/>
          </a:xfrm>
          <a:prstGeom prst="pie">
            <a:avLst/>
          </a:prstGeom>
          <a:gradFill rotWithShape="0">
            <a:gsLst>
              <a:gs pos="0">
                <a:srgbClr val="005b00"/>
              </a:gs>
              <a:gs pos="50000">
                <a:srgbClr val="00c400"/>
              </a:gs>
              <a:gs pos="100000">
                <a:srgbClr val="005b00"/>
              </a:gs>
            </a:gsLst>
            <a:lin ang="5400000"/>
          </a:gradFill>
          <a:ln w="9360">
            <a:solidFill>
              <a:srgbClr val="00c400"/>
            </a:solidFill>
            <a:miter/>
          </a:ln>
          <a:effectLst>
            <a:outerShdw dist="117181" dir="243836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arringto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arrington"/>
              </a:rPr>
              <a:t>De lente heeft zich aangekondig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arringto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arrington"/>
              </a:rPr>
              <a:t>k’ zie lammetjes in h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arrington"/>
              </a:rPr>
              <a:t>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arrington"/>
              </a:rPr>
              <a:t>groene g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arrington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Harrington"/>
              </a:rPr>
              <a:t>En ook de knoppen die ontluike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arringto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Harrington"/>
              </a:rPr>
              <a:t>en eendjes aan de waterpl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4" descr="Punt5FLente"/>
          <p:cNvPicPr/>
          <p:nvPr/>
        </p:nvPicPr>
        <p:blipFill>
          <a:blip r:embed="rId1"/>
          <a:stretch/>
        </p:blipFill>
        <p:spPr>
          <a:xfrm>
            <a:off x="755640" y="476280"/>
            <a:ext cx="3543480" cy="3247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7" descr="3796"/>
          <p:cNvPicPr/>
          <p:nvPr/>
        </p:nvPicPr>
        <p:blipFill>
          <a:blip r:embed="rId2"/>
          <a:stretch/>
        </p:blipFill>
        <p:spPr>
          <a:xfrm>
            <a:off x="5724360" y="4653000"/>
            <a:ext cx="3168720" cy="187164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28"/>
          <p:cNvSpPr/>
          <p:nvPr/>
        </p:nvSpPr>
        <p:spPr>
          <a:xfrm rot="19237200">
            <a:off x="5580000" y="4508280"/>
            <a:ext cx="914400" cy="936360"/>
          </a:xfrm>
          <a:prstGeom prst="pie">
            <a:avLst/>
          </a:prstGeom>
          <a:solidFill>
            <a:srgbClr val="00c400"/>
          </a:solidFill>
          <a:ln w="9360">
            <a:solidFill>
              <a:srgbClr val="00c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3"/>
          <p:cNvSpPr/>
          <p:nvPr/>
        </p:nvSpPr>
        <p:spPr>
          <a:xfrm>
            <a:off x="3276720" y="404640"/>
            <a:ext cx="3313080" cy="4248360"/>
          </a:xfrm>
          <a:prstGeom prst="parallelogram">
            <a:avLst>
              <a:gd name="adj" fmla="val 25000"/>
            </a:avLst>
          </a:prstGeom>
          <a:solidFill>
            <a:srgbClr val="005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Harrington"/>
              </a:rPr>
              <a:t>Bomen krijgen blaadj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Harrington"/>
              </a:rPr>
              <a:t>De blo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Harrington"/>
              </a:rPr>
              <a:t>komen u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Harrington"/>
              </a:rPr>
              <a:t>De vog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Harrington"/>
              </a:rPr>
              <a:t>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Harrington"/>
              </a:rPr>
              <a:t>zaadj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Harrington"/>
              </a:rPr>
              <a:t>En v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Harrington"/>
              </a:rPr>
              <a:t>flu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Harrington"/>
              </a:rPr>
              <a:t>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Harrington"/>
              </a:rPr>
              <a:t>lui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4" descr="3081_DSCN1029"/>
          <p:cNvPicPr/>
          <p:nvPr/>
        </p:nvPicPr>
        <p:blipFill>
          <a:blip r:embed="rId2"/>
          <a:stretch/>
        </p:blipFill>
        <p:spPr>
          <a:xfrm>
            <a:off x="5435640" y="4049640"/>
            <a:ext cx="3708360" cy="2808360"/>
          </a:xfrm>
          <a:prstGeom prst="rect">
            <a:avLst/>
          </a:prstGeom>
          <a:ln w="9360">
            <a:solidFill>
              <a:srgbClr val="007600"/>
            </a:solidFill>
            <a:miter/>
          </a:ln>
        </p:spPr>
      </p:pic>
      <p:pic>
        <p:nvPicPr>
          <p:cNvPr id="82" name="Picture 25" descr="3937_Kopia-Kopia-7045"/>
          <p:cNvPicPr/>
          <p:nvPr/>
        </p:nvPicPr>
        <p:blipFill>
          <a:blip r:embed="rId3"/>
          <a:stretch/>
        </p:blipFill>
        <p:spPr>
          <a:xfrm>
            <a:off x="0" y="0"/>
            <a:ext cx="3635280" cy="2637000"/>
          </a:xfrm>
          <a:prstGeom prst="rect">
            <a:avLst/>
          </a:prstGeom>
          <a:ln w="9360">
            <a:solidFill>
              <a:srgbClr val="006c00"/>
            </a:solidFill>
            <a:miter/>
          </a:ln>
        </p:spPr>
      </p:pic>
    </p:spTree>
  </p:cSld>
  <p:transition spd="slow" advTm="9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e2d"/>
            </a:gs>
            <a:gs pos="100000">
              <a:srgbClr val="003f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 rot="591600">
            <a:off x="320400" y="1173240"/>
            <a:ext cx="4029120" cy="51148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001d1d"/>
              </a:gs>
              <a:gs pos="50000">
                <a:srgbClr val="003f3e"/>
              </a:gs>
              <a:gs pos="100000">
                <a:srgbClr val="001d1d"/>
              </a:gs>
            </a:gsLst>
            <a:lin ang="480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zijden-bloemen-zijden-clematis"/>
          <p:cNvPicPr/>
          <p:nvPr/>
        </p:nvPicPr>
        <p:blipFill>
          <a:blip r:embed="rId1"/>
          <a:stretch/>
        </p:blipFill>
        <p:spPr>
          <a:xfrm>
            <a:off x="755640" y="1484280"/>
            <a:ext cx="2857680" cy="4321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7" name="AutoShape 6"/>
          <p:cNvSpPr/>
          <p:nvPr/>
        </p:nvSpPr>
        <p:spPr>
          <a:xfrm rot="182400">
            <a:off x="3780000" y="3141360"/>
            <a:ext cx="3889080" cy="2374920"/>
          </a:xfrm>
          <a:prstGeom prst="flowChartAlternateProcess">
            <a:avLst/>
          </a:prstGeom>
          <a:solidFill>
            <a:srgbClr val="003f3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Harrington"/>
              </a:rPr>
              <a:t>Als de voorjaar blo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Harrington"/>
              </a:rPr>
              <a:t>bloe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Harrington"/>
              </a:rPr>
              <a:t>En de lente komt er 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Harrington"/>
              </a:rPr>
              <a:t>Denk dan niet m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Harrington"/>
              </a:rPr>
              <a:t>aan  die re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Harrington"/>
              </a:rPr>
              <a:t>Die 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Harrington"/>
              </a:rPr>
              <a:t>Plensde te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Harrington"/>
              </a:rPr>
              <a:t>het ra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50000">
              <a:srgbClr val="003300"/>
            </a:gs>
            <a:gs pos="100000">
              <a:srgbClr val="0017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 rot="5400000">
            <a:off x="-108720" y="1124640"/>
            <a:ext cx="5040360" cy="3889440"/>
          </a:xfrm>
          <a:prstGeom prst="ellipse">
            <a:avLst/>
          </a:prstGeom>
          <a:gradFill rotWithShape="0">
            <a:gsLst>
              <a:gs pos="0">
                <a:srgbClr val="001800"/>
              </a:gs>
              <a:gs pos="50000">
                <a:srgbClr val="003300"/>
              </a:gs>
              <a:gs pos="100000">
                <a:srgbClr val="0018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Afbeelding0,2"/>
          <p:cNvPicPr/>
          <p:nvPr/>
        </p:nvPicPr>
        <p:blipFill>
          <a:blip r:embed="rId1"/>
          <a:stretch/>
        </p:blipFill>
        <p:spPr>
          <a:xfrm>
            <a:off x="971640" y="1052640"/>
            <a:ext cx="4529160" cy="58053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4"/>
          <p:cNvSpPr/>
          <p:nvPr/>
        </p:nvSpPr>
        <p:spPr>
          <a:xfrm>
            <a:off x="5651640" y="549360"/>
            <a:ext cx="3097080" cy="597528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5"/>
          <p:cNvSpPr/>
          <p:nvPr/>
        </p:nvSpPr>
        <p:spPr>
          <a:xfrm>
            <a:off x="6012000" y="692280"/>
            <a:ext cx="2376360" cy="576108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Met mooie 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bloem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En een zonnet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erbi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Daar 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geni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En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je o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beetje bli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rot="7377000">
            <a:off x="168120" y="1623960"/>
            <a:ext cx="6303960" cy="2735280"/>
          </a:xfrm>
          <a:prstGeom prst="ellipse">
            <a:avLst/>
          </a:prstGeom>
          <a:gradFill rotWithShape="0">
            <a:gsLst>
              <a:gs pos="0">
                <a:srgbClr val="003600"/>
              </a:gs>
              <a:gs pos="100000">
                <a:srgbClr val="333333"/>
              </a:gs>
            </a:gsLst>
            <a:lin ang="19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179280" y="1197000"/>
            <a:ext cx="4321440" cy="4032360"/>
          </a:xfrm>
          <a:custGeom>
            <a:avLst/>
            <a:gdLst>
              <a:gd name="textAreaLeft" fmla="*/ 986400 w 4321440"/>
              <a:gd name="textAreaRight" fmla="*/ 3335040 w 4321440"/>
              <a:gd name="textAreaTop" fmla="*/ 920520 h 4032360"/>
              <a:gd name="textAreaBottom" fmla="*/ 3111840 h 403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76765e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Het voorjaar zit 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aan te ko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Ik z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de bloe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aan de bo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O wat 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ik bli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De winte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nu 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voorbi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5" descr="2887_DSCN9397"/>
          <p:cNvPicPr/>
          <p:nvPr/>
        </p:nvPicPr>
        <p:blipFill>
          <a:blip r:embed="rId1"/>
          <a:stretch/>
        </p:blipFill>
        <p:spPr>
          <a:xfrm>
            <a:off x="5580000" y="1989000"/>
            <a:ext cx="2808360" cy="4104000"/>
          </a:xfrm>
          <a:prstGeom prst="rect">
            <a:avLst/>
          </a:prstGeom>
          <a:ln w="76320">
            <a:solidFill>
              <a:srgbClr val="ffffcc"/>
            </a:solidFill>
            <a:prstDash val="dash"/>
            <a:miter/>
          </a:ln>
        </p:spPr>
      </p:pic>
    </p:spTree>
  </p:cSld>
  <p:transition spd="slow" advTm="9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20:02:10Z</dcterms:created>
  <dc:creator>Algemeen</dc:creator>
  <dc:description/>
  <dc:language>en-US</dc:language>
  <cp:lastModifiedBy>Smets</cp:lastModifiedBy>
  <dcterms:modified xsi:type="dcterms:W3CDTF">2010-04-15T04:41:32Z</dcterms:modified>
  <cp:revision>24</cp:revision>
  <dc:subject/>
  <dc:title>Dia 1</dc:title>
</cp:coreProperties>
</file>