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C6AD3-E37A-4EEC-AA8A-B781E0E5F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91854-7FD9-45D1-9964-C38D03E18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9063A-74E1-4FD1-972B-1953B3DC3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CF08C-9E67-43F7-AE58-6DD2317F2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58364A-A762-4A87-9CB1-16B4D8C59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E585D-07D9-4F5F-A82E-CEE1221DC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73C43-2DA5-4629-8082-4EF122343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DCE8E-244D-4613-8D01-C6D8B191E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305D3-5CD1-4CE9-910A-B788ED137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A394C-126C-4BF7-9A0B-11D79FB99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F5194-F492-4B79-A412-3EC934A01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8C579-B922-4C83-A4AF-7C99EF25B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77C34-993D-40FD-BB9E-C80BD7A4D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F0D57-748C-4762-9A19-B323CF80E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27412-991E-4207-AE81-20F6994B9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DDF347-69E6-4ED5-8739-C0D123B9E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E6EF37-1F34-426D-8D79-2D79D489B9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FD52E-6FAE-447E-9B70-FB6948206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C26CB-AAD8-433F-8EB9-4136904C1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B7053-E907-4AEB-B2F8-71C136E20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1871D-0D59-4B47-8714-98597B160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49C28-DF50-4EA1-9867-6DC6C1375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16D7D-0301-4E75-AEF3-18E6DA230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CDCA3-70B6-4265-80C8-3309AEDC7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F2186-9FA1-4490-9CD2-5DB2F66C822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1799-213B-4E75-80ED-CA0546B8C18D}" type="slidenum">
              <a:rPr b="0" lang="es-E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987120"/>
            <a:ext cx="7467480" cy="228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UNIVERSIDAD DE GUADALAJA.</a:t>
            </a:r>
            <a:br>
              <a:rPr sz="3600"/>
            </a:br>
            <a:br>
              <a:rPr sz="3600"/>
            </a:br>
            <a:r>
              <a:rPr b="0" lang="es-MX" sz="3600" spc="-1" strike="noStrike">
                <a:solidFill>
                  <a:srgbClr val="ccffff"/>
                </a:solidFill>
                <a:latin typeface="Tahoma"/>
              </a:rPr>
              <a:t>CENTRO UNIVERSITARIO DE CIENCIAS DE LA SALUD.</a:t>
            </a:r>
            <a:endParaRPr b="0" lang="en-US" sz="3600" spc="-1" strike="noStrike">
              <a:solidFill>
                <a:srgbClr val="ccffff"/>
              </a:solidFill>
              <a:latin typeface="Tahoma"/>
            </a:endParaRPr>
          </a:p>
        </p:txBody>
      </p:sp>
      <p:sp>
        <p:nvSpPr>
          <p:cNvPr id="86"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99ff"/>
                </a:solidFill>
                <a:latin typeface="Tahoma"/>
              </a:rPr>
              <a:t>DIABETES TIPO 2</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533520" y="304920"/>
          <a:ext cx="7772400" cy="6278400"/>
        </p:xfrm>
        <a:graphic>
          <a:graphicData uri="http://schemas.openxmlformats.org/drawingml/2006/table">
            <a:tbl>
              <a:tblPr/>
              <a:tblGrid>
                <a:gridCol w="1942920"/>
                <a:gridCol w="2324160"/>
                <a:gridCol w="1562040"/>
                <a:gridCol w="1943280"/>
              </a:tblGrid>
              <a:tr h="80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Gen/product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Efecto de mutació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Fenotipo clinic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ff"/>
                    </a:solidFill>
                  </a:tcPr>
                </a:tc>
              </a:tr>
              <a:tr h="235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MODY 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HNF-4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20q12-q13.1)</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9 mutaciones comunicada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Alteraciones en sintesis y secreció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Hiperglusemia sever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Frecuente requerimiento de insulin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Nefropatia y retinopati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ff"/>
                    </a:solidFill>
                  </a:tcPr>
                </a:tc>
              </a:tr>
              <a:tr h="1681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MODY 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GCK/glucosinas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7p15-p13)</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Mas de 80 mutacion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Alteración en secreció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Hiperglusemia moderad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Control pr hiperglucemiante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ff"/>
                    </a:solidFill>
                  </a:tcPr>
                </a:tc>
              </a:tr>
              <a:tr h="144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MODY 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HNF-1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12q24.2)</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Mas de 100 mutacion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Alteraciones en sintesis y secreció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Hiperglusemia sever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Requerimiento de insulin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685800" y="1143000"/>
          <a:ext cx="7772400" cy="4816440"/>
        </p:xfrm>
        <a:graphic>
          <a:graphicData uri="http://schemas.openxmlformats.org/drawingml/2006/table">
            <a:tbl>
              <a:tblPr/>
              <a:tblGrid>
                <a:gridCol w="1943280"/>
                <a:gridCol w="2019240"/>
                <a:gridCol w="1866960"/>
                <a:gridCol w="1942920"/>
              </a:tblGrid>
              <a:tr h="70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Gen/product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Efecto de la mutació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Fenotipo clinic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ff"/>
                    </a:solidFill>
                  </a:tcPr>
                </a:tc>
              </a:tr>
              <a:tr h="2056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MODY 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IPF-1</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13q12.1)</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6 mutacion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Retraso en el desarrollo del pancreas (mutación homocigot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Hiperglusemia moderad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Eventual requerimiento de insulin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ff"/>
                    </a:solidFill>
                  </a:tcPr>
                </a:tc>
              </a:tr>
              <a:tr h="2056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MODY 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HNF-1B</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17q21.3)</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5 mutacion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Alteraciones en sintesis y secreció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Hiperglusemia sever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Tahoma"/>
                        </a:rPr>
                        <a:t>Frecuente requerimiento de insulin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914400"/>
            <a:ext cx="8534520" cy="380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ahoma"/>
              </a:rPr>
              <a:t>DIABETES POR POLIMORFISMOS EN DNA MITOCONDRIAL</a:t>
            </a:r>
            <a:endParaRPr b="0" lang="en-US" sz="2400" spc="-1" strike="noStrike">
              <a:solidFill>
                <a:srgbClr val="ccffff"/>
              </a:solidFill>
              <a:latin typeface="Tahom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DT2 tambien se ha demostrado la participación de herencia materna proveniente del DNA mitocondrial, donde se han identificado deleciones, duplicaciones y mutaciones puntuales en diabeticos.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particular la variación en la posición 3243 del gen mitocondrial que codifica para tRN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80880"/>
            <a:ext cx="9524880" cy="609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Narrow"/>
              </a:rPr>
              <a:t>POLIFORFISMOS EN LAS SEÑALES PARA EL CONTROL DE LA GLUCOSA</a:t>
            </a:r>
            <a:r>
              <a:rPr b="1" lang="es-MX" sz="2400" spc="-1" strike="noStrike">
                <a:solidFill>
                  <a:srgbClr val="ccffff"/>
                </a:solidFill>
                <a:latin typeface="Arial Narrow"/>
              </a:rPr>
              <a:t>.</a:t>
            </a:r>
            <a:endParaRPr b="0" lang="en-US" sz="2400" spc="-1" strike="noStrike">
              <a:solidFill>
                <a:srgbClr val="ccffff"/>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El control de la glucosa inicia cuando la insulina se une a las cadenas alfa del receptor de insulina (IR) localizado en la membrana celular.</a:t>
            </a: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El IR sufre un cambio conformacional que autofosforila diversas tirosinas ubicadas en la cadena beta del mismo.</a:t>
            </a: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El IR fosforilado continua la cascada de señales al unirse al sutrato del reseptor de insulina (IRS)</a:t>
            </a: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Las proteinas IRS se fosforilan en diversos dominios llamados sitios de union a proteína SH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685800" y="2057400"/>
            <a:ext cx="7772400" cy="4114800"/>
          </a:xfrm>
          <a:prstGeom prst="rect">
            <a:avLst/>
          </a:prstGeom>
          <a:noFill/>
          <a:ln w="0">
            <a:noFill/>
          </a:ln>
        </p:spPr>
        <p:txBody>
          <a:bodyPr anchor="t">
            <a:normAutofit/>
          </a:bodyPr>
          <a:p>
            <a:pPr marL="343080" indent="-343080" algn="just">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unen a fracciones de la proteína fofatidilinositol-3 cinasa ( PI-3K) activandola.</a:t>
            </a:r>
            <a:endParaRPr b="0" lang="en-US" sz="2400" spc="-1" strike="noStrike">
              <a:solidFill>
                <a:srgbClr val="ffffff"/>
              </a:solidFill>
              <a:latin typeface="Tahoma"/>
            </a:endParaRPr>
          </a:p>
          <a:p>
            <a:pPr marL="343080" indent="-343080" algn="just">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PI-3K activa varias proteinas las cuales permiten que vesiculas intracelulares que contiene el transportador de glucosa dependiente de insulina (GLUT4) sean translocadas a la superficie celular.</a:t>
            </a:r>
            <a:endParaRPr b="0" lang="en-US" sz="2400" spc="-1" strike="noStrike">
              <a:solidFill>
                <a:srgbClr val="ffffff"/>
              </a:solidFill>
              <a:latin typeface="Tahoma"/>
            </a:endParaRPr>
          </a:p>
          <a:p>
            <a:pPr marL="343080" indent="-343080" algn="just">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onde el GLUT4 actúa permitiendo la incorporación de glucosa y su posterior metabolism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76176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Tahoma"/>
              </a:rPr>
              <a:t>INSULINA (LOCUS 11P15.5)</a:t>
            </a:r>
            <a:endParaRPr b="0" lang="en-US" sz="4400" spc="-1" strike="noStrike">
              <a:solidFill>
                <a:srgbClr val="ccffff"/>
              </a:solidFill>
              <a:latin typeface="Tahoma"/>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insulina es la hormona que media la activación del reseptor para el control de la glucosa.</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gen de la insulina contien tres exones y dos introne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insulina se sintetiza por las celulas beta en los islotes de langerhans y esta constituida por dos cadenas polipeptidicas A y B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7200"/>
            <a:ext cx="86868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Tahoma"/>
              </a:rPr>
              <a:t>RECEPTOR DE LA INSULINA (LOCUS 19P13.2)</a:t>
            </a:r>
            <a:endParaRPr b="0" lang="en-US" sz="3200" spc="-1" strike="noStrike">
              <a:solidFill>
                <a:srgbClr val="ccffff"/>
              </a:solidFill>
              <a:latin typeface="Tahom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s un tetramero de dos unidades alfa y dos unidades beta; unidad por enlaces disulfuro.</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gen codifica para una proteina de 1370 aminoacidos.</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os cadenas alfa responsables para la unión con la insulina y dos cadenas beta con seis sitios de tirosin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45684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Tahoma"/>
              </a:rPr>
              <a:t>SUSTRATO DEL RECEPTOR DE LA INSULINA-1                    </a:t>
            </a:r>
            <a:br>
              <a:rPr sz="3200"/>
            </a:br>
            <a:r>
              <a:rPr b="0" lang="es-MX" sz="3200" spc="-1" strike="noStrike">
                <a:solidFill>
                  <a:srgbClr val="ff0000"/>
                </a:solidFill>
                <a:latin typeface="Tahoma"/>
              </a:rPr>
              <a:t>                      (LOCUS 2Q36)</a:t>
            </a:r>
            <a:endParaRPr b="0" lang="en-US" sz="3200" spc="-1" strike="noStrike">
              <a:solidFill>
                <a:srgbClr val="ccffff"/>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 la fecha se han identificado cuatro isoformas donde IRS-1 y IRS-2 son las mas involucradas en la señalización via insulina.</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IRS-1 es codificado por un gen con un exon único, localizado en el cromosoma 2q36-3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533160"/>
            <a:ext cx="91440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Tahoma"/>
              </a:rPr>
              <a:t>FOSFATIDILINOSITOL-3 CINASA ( LOCUS 5Q13)</a:t>
            </a:r>
            <a:endParaRPr b="0" lang="en-US" sz="3200" spc="-1" strike="noStrike">
              <a:solidFill>
                <a:srgbClr val="ccffff"/>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Interviene en los procesos de proliferación, diferenciación y en la via de activación de diversos receptores.</a:t>
            </a:r>
            <a:endParaRPr b="0" lang="en-US" sz="2800" spc="-1" strike="noStrike">
              <a:solidFill>
                <a:srgbClr val="ffffff"/>
              </a:solidFill>
              <a:latin typeface="Tahoma"/>
            </a:endParaRPr>
          </a:p>
          <a:p>
            <a:pPr marL="308520" indent="-30852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I-3K esta formada por una unidad de 110 Kda con actividad catalitica, y por una unidad de 85 KD encargada de la actividad reguladora.</a:t>
            </a:r>
            <a:endParaRPr b="0" lang="en-US" sz="2800" spc="-1" strike="noStrike">
              <a:solidFill>
                <a:srgbClr val="ffffff"/>
              </a:solidFill>
              <a:latin typeface="Tahoma"/>
            </a:endParaRPr>
          </a:p>
          <a:p>
            <a:pPr marL="308520" indent="-30852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Un estado generalizado en la disminución de la fosforilación conlleva a la disminución en la movilización de los transportadores de glucosa.</a:t>
            </a: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568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Tahoma"/>
              </a:rPr>
              <a:t>TRANSPORTADORES DE GLUCOSA.</a:t>
            </a:r>
            <a:endParaRPr b="0" lang="en-US" sz="3600" spc="-1" strike="noStrike">
              <a:solidFill>
                <a:srgbClr val="ccffff"/>
              </a:solidFill>
              <a:latin typeface="Tahoma"/>
            </a:endParaRPr>
          </a:p>
        </p:txBody>
      </p:sp>
      <p:sp>
        <p:nvSpPr>
          <p:cNvPr id="114" name="PlaceHolder 2"/>
          <p:cNvSpPr>
            <a:spLocks noGrp="1"/>
          </p:cNvSpPr>
          <p:nvPr>
            <p:ph/>
          </p:nvPr>
        </p:nvSpPr>
        <p:spPr>
          <a:xfrm>
            <a:off x="685800" y="1676520"/>
            <a:ext cx="7772400" cy="4114800"/>
          </a:xfrm>
          <a:prstGeom prst="rect">
            <a:avLst/>
          </a:prstGeom>
          <a:noFill/>
          <a:ln w="0">
            <a:noFill/>
          </a:ln>
        </p:spPr>
        <p:txBody>
          <a:bodyPr anchor="t">
            <a:normAutofit fontScale="95000"/>
          </a:bodyPr>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El GLUT1 (locus 1p35-p31.3) es una glicoproteina de membrana que funciona como transportador constitutivo de la glucosa. Estan presentes en las celulas endoteliares de la barrera sanguínea del cerebro y es el responsable de la entrada de glucosa y vitamina c al cerebro.</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El GLUT2 ( locus 3q26.1-q26.3) es codificado por un gen que tiene 11 exones y 11 intrones de aprox. 30 KB, sirve como sensor en las celulas beta del pancreas para la liberación de insulina en presencia de altas concentraciones de glucosa.</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743200" y="685440"/>
            <a:ext cx="3200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Tahoma"/>
              </a:rPr>
              <a:t>INTRODUCCIÓN</a:t>
            </a:r>
            <a:endParaRPr b="0" lang="en-US" sz="32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Tahoma"/>
              </a:rPr>
              <a:t>La definición de la OMS</a:t>
            </a:r>
            <a:r>
              <a:rPr b="0" lang="es-MX" sz="2800" spc="-1" strike="noStrike">
                <a:solidFill>
                  <a:srgbClr val="ffffff"/>
                </a:solidFill>
                <a:latin typeface="Tahoma"/>
              </a:rPr>
              <a:t>: la diabetes mellitus es una enfermedad cronica, causada por deficiencia congenita  y/o adquirida en la producción de insulina por el pancreas o inefectividad de la insulina producida. Esta deficiencia determina un incremento de la glucosa en sangre, que provoca a su vez daños en diferentes sistemas corporales, especialmente nervios y vasos sanguineo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85800" y="457200"/>
            <a:ext cx="7772400" cy="6400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a:t>
            </a:r>
            <a:r>
              <a:rPr b="0" lang="es-MX" sz="2800" spc="-1" strike="noStrike">
                <a:solidFill>
                  <a:srgbClr val="ff0000"/>
                </a:solidFill>
                <a:latin typeface="Tahoma"/>
              </a:rPr>
              <a:t>GLUT3 (locus 12p13.3)</a:t>
            </a:r>
            <a:r>
              <a:rPr b="0" lang="es-MX" sz="2800" spc="-1" strike="noStrike">
                <a:solidFill>
                  <a:srgbClr val="ffffff"/>
                </a:solidFill>
                <a:latin typeface="Tahoma"/>
              </a:rPr>
              <a:t> presente en la mayor parte de los tejidos, es un transportador de alta afinidad para la glucosa y se expresa en neuronas y placenta.</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a:t>
            </a:r>
            <a:r>
              <a:rPr b="0" lang="es-MX" sz="2800" spc="-1" strike="noStrike">
                <a:solidFill>
                  <a:srgbClr val="ff0000"/>
                </a:solidFill>
                <a:latin typeface="Tahoma"/>
              </a:rPr>
              <a:t>GLUT4 (locus 17p13)</a:t>
            </a:r>
            <a:r>
              <a:rPr b="0" lang="es-MX" sz="2800" spc="-1" strike="noStrike">
                <a:solidFill>
                  <a:srgbClr val="ffffff"/>
                </a:solidFill>
                <a:latin typeface="Tahoma"/>
              </a:rPr>
              <a:t> se expresa en musculo, tejido adiposo e higado y es el transportador activo de glucosa a traves de la señalización de insulina.</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Hay pocos polimorfos en la resistencia a la insulina en DT2 esta estreñamente relacionada con una anomalia en la translocación del GLUT hacia la superficie celula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609480"/>
            <a:ext cx="487692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Tahoma"/>
              </a:rPr>
              <a:t>   </a:t>
            </a:r>
            <a:r>
              <a:rPr b="0" lang="es-MX" sz="4400" spc="-1" strike="noStrike">
                <a:solidFill>
                  <a:srgbClr val="ff0000"/>
                </a:solidFill>
                <a:latin typeface="Tahoma"/>
              </a:rPr>
              <a:t>CALPAINA-10</a:t>
            </a:r>
            <a:endParaRPr b="0" lang="en-US" sz="4400" spc="-1" strike="noStrike">
              <a:solidFill>
                <a:srgbClr val="ccffff"/>
              </a:solidFill>
              <a:latin typeface="Tahoma"/>
            </a:endParaRPr>
          </a:p>
        </p:txBody>
      </p:sp>
      <p:sp>
        <p:nvSpPr>
          <p:cNvPr id="117" name="PlaceHolder 2"/>
          <p:cNvSpPr>
            <a:spLocks noGrp="1"/>
          </p:cNvSpPr>
          <p:nvPr>
            <p:ph/>
          </p:nvPr>
        </p:nvSpPr>
        <p:spPr>
          <a:xfrm>
            <a:off x="685800" y="1676520"/>
            <a:ext cx="7772400" cy="4114800"/>
          </a:xfrm>
          <a:prstGeom prst="rect">
            <a:avLst/>
          </a:prstGeom>
          <a:noFill/>
          <a:ln w="0">
            <a:noFill/>
          </a:ln>
        </p:spPr>
        <p:txBody>
          <a:bodyPr anchor="t">
            <a:normAutofit fontScale="85000"/>
          </a:bodyPr>
          <a:p>
            <a:pPr marL="291600" indent="-2916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calpaínas, tambien conocidas como proteasas neutras, son activadas por el calcio y su expresión es ubicua en todos los tejidos.</a:t>
            </a:r>
            <a:endParaRPr b="0" lang="en-US" sz="2800" spc="-1" strike="noStrike">
              <a:solidFill>
                <a:srgbClr val="ffffff"/>
              </a:solidFill>
              <a:latin typeface="Tahoma"/>
            </a:endParaRPr>
          </a:p>
          <a:p>
            <a:pPr marL="291600" indent="-2916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ctua en ciertos sustratos celulares que intervienen en las señales intracelulares, señales de proliferación, diferenciación y señales derivadas despues de la activación mediada por la insulina.</a:t>
            </a:r>
            <a:endParaRPr b="0" lang="en-US" sz="2800" spc="-1" strike="noStrike">
              <a:solidFill>
                <a:srgbClr val="ffffff"/>
              </a:solidFill>
              <a:latin typeface="Tahoma"/>
            </a:endParaRPr>
          </a:p>
          <a:p>
            <a:pPr marL="291600" indent="-2916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actividad transcripcional esta elevada en los islotes pancreaticos, musculo e higado, lo cual participa en la regulación para la secreción y acción de la insulin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533520" y="1219320"/>
            <a:ext cx="7772400" cy="4114800"/>
          </a:xfrm>
          <a:prstGeom prst="rect">
            <a:avLst/>
          </a:prstGeom>
          <a:noFill/>
          <a:ln w="0">
            <a:noFill/>
          </a:ln>
        </p:spPr>
        <p:txBody>
          <a:bodyPr anchor="t">
            <a:normAutofit fontScale="84000"/>
          </a:bodyPr>
          <a:p>
            <a:pPr marL="288000" indent="-2880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estado diabetico esta constituido por una elevación sostenida de la glucosa, por arriba de las concentraciones espeficicas.</a:t>
            </a:r>
            <a:endParaRPr b="0" lang="en-US" sz="2800" spc="-1" strike="noStrike">
              <a:solidFill>
                <a:srgbClr val="ffffff"/>
              </a:solidFill>
              <a:latin typeface="Tahoma"/>
            </a:endParaRPr>
          </a:p>
          <a:p>
            <a:pPr marL="288000" indent="-2880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personas no diabeticas, la glucemia se encuentra regulada entre los valores de 54 y 108 mg/dl, despues de la ingesta de grandes cantidades de carbohidratos de absorción intestinal rápida.</a:t>
            </a:r>
            <a:endParaRPr b="0" lang="en-US" sz="2800" spc="-1" strike="noStrike">
              <a:solidFill>
                <a:srgbClr val="ffffff"/>
              </a:solidFill>
              <a:latin typeface="Tahoma"/>
            </a:endParaRPr>
          </a:p>
          <a:p>
            <a:pPr marL="288000" indent="-28800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pacientes portadores de diabetes, los perfiles de glucemia y los mecanismos homeostaticos correctos estan alterados en mayor o menor gra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676520" y="456840"/>
            <a:ext cx="586728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ff0000"/>
                </a:solidFill>
                <a:uFillTx/>
                <a:latin typeface="Tahoma"/>
              </a:rPr>
              <a:t>CATEGORIAS</a:t>
            </a:r>
            <a:r>
              <a:rPr b="0" lang="es-MX" sz="4400" spc="-1" strike="noStrike">
                <a:solidFill>
                  <a:srgbClr val="ccffff"/>
                </a:solidFill>
                <a:latin typeface="Tahoma"/>
              </a:rPr>
              <a:t>.</a:t>
            </a:r>
            <a:endParaRPr b="0" lang="en-US" sz="4400" spc="-1" strike="noStrike">
              <a:solidFill>
                <a:srgbClr val="ccffff"/>
              </a:solidFill>
              <a:latin typeface="Tahoma"/>
            </a:endParaRPr>
          </a:p>
        </p:txBody>
      </p:sp>
      <p:sp>
        <p:nvSpPr>
          <p:cNvPr id="91" name="PlaceHolder 2"/>
          <p:cNvSpPr>
            <a:spLocks noGrp="1"/>
          </p:cNvSpPr>
          <p:nvPr>
            <p:ph/>
          </p:nvPr>
        </p:nvSpPr>
        <p:spPr>
          <a:xfrm>
            <a:off x="533520" y="2361960"/>
            <a:ext cx="7772400" cy="2438280"/>
          </a:xfrm>
          <a:prstGeom prst="rect">
            <a:avLst/>
          </a:prstGeom>
          <a:noFill/>
          <a:ln w="0">
            <a:noFill/>
          </a:ln>
        </p:spPr>
        <p:txBody>
          <a:bodyPr anchor="t">
            <a:normAutofit fontScale="95000"/>
          </a:bodyPr>
          <a:p>
            <a:pPr marL="325800" indent="-32580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ahoma"/>
              </a:rPr>
              <a:t>DIABETES TIPO 1</a:t>
            </a:r>
            <a:r>
              <a:rPr b="0" lang="es-MX" sz="2400" spc="-1" strike="noStrike">
                <a:solidFill>
                  <a:srgbClr val="ffffff"/>
                </a:solidFill>
                <a:latin typeface="Tahoma"/>
              </a:rPr>
              <a:t>:  La causa es una deficiencia absoluta de insulinosecreción. Los individuos de alto riesgo para presentar este tipo de diabetes pueden ser identificados mediante evidencias serológicasde una proceso patologico autoinmune que ocurre en los islotes pancreáticos y por marcadores genét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09480" y="2209320"/>
            <a:ext cx="7772400" cy="2590920"/>
          </a:xfrm>
          <a:prstGeom prst="rect">
            <a:avLst/>
          </a:prstGeom>
          <a:noFill/>
          <a:ln w="0">
            <a:noFill/>
          </a:ln>
        </p:spPr>
        <p:txBody>
          <a:bodyPr anchor="t">
            <a:normAutofit/>
          </a:bodyPr>
          <a:p>
            <a:pPr marL="343080" indent="-343080" algn="just">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ahoma"/>
              </a:rPr>
              <a:t>DIABETES TIPO 2 :</a:t>
            </a:r>
            <a:r>
              <a:rPr b="0" lang="es-MX" sz="2400" spc="-1" strike="noStrike">
                <a:solidFill>
                  <a:srgbClr val="ffffff"/>
                </a:solidFill>
                <a:latin typeface="Tahoma"/>
              </a:rPr>
              <a:t> no insulino-dependiente comprende un conjunto de enfermedades de etiología variable, caracterizada por la elevación plasmatica de glucosa y la predisposición al desarrollo de complicaciones cronicas macro y microvascular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ahoma"/>
              </a:rPr>
              <a:t>En Mexico</a:t>
            </a:r>
            <a:r>
              <a:rPr b="0" lang="es-MX" sz="2400" spc="-1" strike="noStrike">
                <a:solidFill>
                  <a:srgbClr val="ffffff"/>
                </a:solidFill>
                <a:latin typeface="Tahoma"/>
              </a:rPr>
              <a:t>, el diabetes tipo 2 representa la tercera causa de morbimortalidad, con una incidencia cercana a 8% comparada con un 5% de la población en general. Adicionalmente en nuestra población 1 de cada 10 pacientes manifiestan la enfermedad antes de los 40 años de edad representando al grupo con mayor riesgo de desarrollar complicaciones cronica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85800" y="380520"/>
            <a:ext cx="7772400" cy="5715000"/>
          </a:xfrm>
          <a:prstGeom prst="rect">
            <a:avLst/>
          </a:prstGeom>
          <a:noFill/>
          <a:ln w="0">
            <a:noFill/>
          </a:ln>
        </p:spPr>
        <p:txBody>
          <a:bodyPr anchor="t">
            <a:normAutofit fontScale="93000"/>
          </a:bodyPr>
          <a:p>
            <a:pPr marL="318960" indent="-31896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Los principales </a:t>
            </a:r>
            <a:r>
              <a:rPr b="1" lang="es-MX" sz="2400" spc="-1" strike="noStrike">
                <a:solidFill>
                  <a:srgbClr val="ff0000"/>
                </a:solidFill>
                <a:latin typeface="Tahoma"/>
              </a:rPr>
              <a:t>factores de riesgo</a:t>
            </a:r>
            <a:r>
              <a:rPr b="1" lang="es-MX" sz="2400" spc="-1" strike="noStrike">
                <a:solidFill>
                  <a:srgbClr val="ffffff"/>
                </a:solidFill>
                <a:latin typeface="Tahoma"/>
              </a:rPr>
              <a:t> para la diabetes son la obesidad, dislipidemia, hipertensión arterial, historia familiar de diabetes, diabetes gestacional, vida sedentaria y dieta rica en carbohidratos. Estas alteraciones metabolicas pueden desencadenar dos tipos de complicaciones:</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0000"/>
                </a:solidFill>
                <a:latin typeface="Tahoma"/>
              </a:rPr>
              <a:t>Microvasculares:</a:t>
            </a:r>
            <a:r>
              <a:rPr b="1" lang="es-MX" sz="2400" spc="-1" strike="noStrike">
                <a:solidFill>
                  <a:srgbClr val="ffffff"/>
                </a:solidFill>
                <a:latin typeface="Tahoma"/>
              </a:rPr>
              <a:t> se relaciona con el daño endotelial en la microcirculación y en los trastornos se presentan en forma de nefropatia, neuropatía y retinopatí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0000"/>
                </a:solidFill>
                <a:latin typeface="Tahoma"/>
              </a:rPr>
              <a:t>Macrovasculares:</a:t>
            </a:r>
            <a:r>
              <a:rPr b="1" lang="es-MX" sz="2400" spc="-1" strike="noStrike">
                <a:solidFill>
                  <a:srgbClr val="ffffff"/>
                </a:solidFill>
                <a:latin typeface="Tahoma"/>
              </a:rPr>
              <a:t> se asocian con un trastorno metabolico profundo que se relaciona con resistencia a la insulina y no con hiperglucemia. La enfermedad cardiovascular esta vinculada y un mayor riesgo a trombosis.</a:t>
            </a:r>
            <a:endParaRPr b="0" lang="en-US" sz="2400" spc="-1" strike="noStrike">
              <a:solidFill>
                <a:srgbClr val="ffffff"/>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85800" y="457200"/>
            <a:ext cx="7772400" cy="5486400"/>
          </a:xfrm>
          <a:prstGeom prst="rect">
            <a:avLst/>
          </a:prstGeom>
          <a:noFill/>
          <a:ln w="0">
            <a:noFill/>
          </a:ln>
        </p:spPr>
        <p:txBody>
          <a:bodyPr anchor="t">
            <a:normAutofit fontScale="92000"/>
          </a:bodyPr>
          <a:p>
            <a:pPr marL="315360" indent="-31536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mayor porcentaje de casos de DT2 estan relacionados al fenotipo MODY    ( maturity onset diabetes of the young) se asocia de manera autosomica dominante, debido a una alteración de genes presentes en las células beta del páncreas y a factores transcripcionales.</a:t>
            </a:r>
            <a:endParaRPr b="0" lang="en-US" sz="2800" spc="-1" strike="noStrike">
              <a:solidFill>
                <a:srgbClr val="ffffff"/>
              </a:solidFill>
              <a:latin typeface="Tahoma"/>
            </a:endParaRPr>
          </a:p>
          <a:p>
            <a:pPr marL="315360" indent="-31536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la población mexicoamericana , la DT2 se asocia con ciertas regiones localizadas en los cromosomas 2,6,10,11 y 15</a:t>
            </a:r>
            <a:endParaRPr b="0" lang="en-US" sz="2800" spc="-1" strike="noStrike">
              <a:solidFill>
                <a:srgbClr val="ffffff"/>
              </a:solidFill>
              <a:latin typeface="Tahoma"/>
            </a:endParaRPr>
          </a:p>
          <a:p>
            <a:pPr marL="315360" indent="-31536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cientemente en el brazo largo el cromosoma 2q37.3 se encontró el gen de la calpaína, el caul se postula como el gen candidato de mayor suceptibilidad para los mexic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0" y="685440"/>
            <a:ext cx="5943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Tahoma"/>
              </a:rPr>
              <a:t>DIABETES TIPO MODY</a:t>
            </a:r>
            <a:endParaRPr b="0" lang="en-US" sz="3600" spc="-1" strike="noStrike">
              <a:solidFill>
                <a:srgbClr val="ccffff"/>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a diabetes tipo MODY se caracteriza por presencia de la enfermedad a temprana edad ( infancia o adolecencia). Se asocia principalmente con defectos en la secreción de la insulina por las células </a:t>
            </a:r>
            <a:r>
              <a:rPr b="0" lang="es-MX" sz="3200" spc="-1" strike="noStrike">
                <a:solidFill>
                  <a:srgbClr val="ffffff"/>
                </a:solidFill>
                <a:latin typeface="Symbol"/>
                <a:ea typeface="Symbol"/>
              </a:rPr>
              <a:t></a:t>
            </a:r>
            <a:r>
              <a:rPr b="0" lang="es-MX" sz="3200" spc="-1" strike="noStrike">
                <a:solidFill>
                  <a:srgbClr val="ffffff"/>
                </a:solidFill>
                <a:latin typeface="Tahoma"/>
              </a:rPr>
              <a:t> del páncrea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0T06:08:40Z</dcterms:created>
  <dc:creator>Jaime Santillan</dc:creator>
  <dc:description/>
  <dc:language>en-US</dc:language>
  <cp:lastModifiedBy>family</cp:lastModifiedBy>
  <dcterms:modified xsi:type="dcterms:W3CDTF">2007-05-19T22:57:36Z</dcterms:modified>
  <cp:revision>3</cp:revision>
  <dc:subject/>
  <dc:title>UNIVERSIDAD DE GUADALAJA.  CENTRO UNIVERSITARIO DE CIENCIAS DE LA SALUD.</dc:title>
</cp:coreProperties>
</file>