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amera.wav" ContentType="audio/x-wav"/>
  <Override PartName="/ppt/media/image3.gif" ContentType="image/gif"/>
  <Override PartName="/ppt/media/image6.wmf" ContentType="image/x-wmf"/>
  <Override PartName="/ppt/media/image4.jpeg" ContentType="image/jpeg"/>
  <Override PartName="/ppt/media/image5.gif" ContentType="image/gif"/>
  <Override PartName="/ppt/media/applause.wav" ContentType="audio/x-wav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6F5-0382-44D5-8DFF-389E0CA3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B08-3E7B-42CB-AE10-5868AD53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6A6-CA9C-47F9-99DD-D26A4889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99F-270A-4852-859D-F308B85B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476-308D-4081-82A4-4F477B7E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090-260C-429C-8301-1F89D928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595-08F2-4C10-8B7D-7D65E3DB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AA1-80B4-4E6B-B246-9D5D9DC7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963-50FC-4E6A-A3D9-C2E7B3DF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13C-764C-4FB8-B10E-E6B06C3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511-ED1A-4702-89C9-66CE046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1FA-C5A8-488A-84AB-977BEFEE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2CE4-C580-425A-8A93-3481C7D3E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2362320" cy="3504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1447920"/>
            <a:ext cx="801036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ính chào quý thầy cô cùng các bạn học sin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352680"/>
            <a:ext cx="3429000" cy="304812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43400" y="2133720"/>
            <a:ext cx="3886200" cy="441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905120" y="457200"/>
            <a:ext cx="51814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18900000" blurRad="0" rotWithShape="0">
                    <a:srgbClr val="000000"/>
                  </a:outerShdw>
                </a:effectLst>
                <a:latin typeface="VNI-Franko"/>
              </a:rPr>
              <a:t>Moân: Hoùa hoïc 8</a:t>
            </a:r>
            <a:endParaRPr b="0" lang="en-US" sz="2000" spc="1" strike="noStrike">
              <a:ln w="284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18900000" blurRad="0" rotWithShape="0">
                  <a:srgbClr val="000000"/>
                </a:outerShdw>
              </a:effectLst>
              <a:latin typeface="VNI-Franko"/>
              <a:ea typeface="VNI-Franko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853416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ff"/>
                </a:solidFill>
                <a:latin typeface="Arial"/>
              </a:rPr>
              <a:t>Chọn phương án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ff"/>
                </a:solidFill>
                <a:latin typeface="Arial"/>
              </a:rPr>
              <a:t>Câu 1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hí nào nhẹ nhất trong các khí sa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09680"/>
            <a:ext cx="8610480" cy="4419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n 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bon oxit 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đro 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i 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05720" y="2625840"/>
            <a:ext cx="1361880" cy="5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g00373_"/>
          <p:cNvPicPr/>
          <p:nvPr/>
        </p:nvPicPr>
        <p:blipFill>
          <a:blip r:embed="rId2"/>
          <a:stretch/>
        </p:blipFill>
        <p:spPr>
          <a:xfrm rot="18935400">
            <a:off x="7696080" y="4114800"/>
            <a:ext cx="1000080" cy="9619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532480" y="3922920"/>
            <a:ext cx="2547360" cy="2613960"/>
            <a:chOff x="5532480" y="3922920"/>
            <a:chExt cx="2547360" cy="2613960"/>
          </a:xfrm>
        </p:grpSpPr>
        <p:grpSp>
          <p:nvGrpSpPr>
            <p:cNvPr id="52" name=""/>
            <p:cNvGrpSpPr/>
            <p:nvPr/>
          </p:nvGrpSpPr>
          <p:grpSpPr>
            <a:xfrm>
              <a:off x="5532480" y="3922920"/>
              <a:ext cx="1479960" cy="1477440"/>
              <a:chOff x="5532480" y="3922920"/>
              <a:chExt cx="1479960" cy="1477440"/>
            </a:xfrm>
          </p:grpSpPr>
          <p:sp>
            <p:nvSpPr>
              <p:cNvPr id="53" name=""/>
              <p:cNvSpPr/>
              <p:nvPr/>
            </p:nvSpPr>
            <p:spPr>
              <a:xfrm rot="18786600">
                <a:off x="5761800" y="4125600"/>
                <a:ext cx="1020600" cy="1071720"/>
              </a:xfrm>
              <a:custGeom>
                <a:avLst/>
                <a:gdLst/>
                <a:ahLst/>
                <a:rect l="l" t="t" r="r" b="b"/>
                <a:pathLst>
                  <a:path w="3194" h="2188">
                    <a:moveTo>
                      <a:pt x="2662" y="1808"/>
                    </a:moveTo>
                    <a:lnTo>
                      <a:pt x="2722" y="1733"/>
                    </a:lnTo>
                    <a:lnTo>
                      <a:pt x="2774" y="1653"/>
                    </a:lnTo>
                    <a:lnTo>
                      <a:pt x="2819" y="1569"/>
                    </a:lnTo>
                    <a:lnTo>
                      <a:pt x="2858" y="1481"/>
                    </a:lnTo>
                    <a:lnTo>
                      <a:pt x="2888" y="1388"/>
                    </a:lnTo>
                    <a:lnTo>
                      <a:pt x="2910" y="1293"/>
                    </a:lnTo>
                    <a:lnTo>
                      <a:pt x="2925" y="1196"/>
                    </a:lnTo>
                    <a:lnTo>
                      <a:pt x="2929" y="1095"/>
                    </a:lnTo>
                    <a:lnTo>
                      <a:pt x="2923" y="983"/>
                    </a:lnTo>
                    <a:lnTo>
                      <a:pt x="2907" y="875"/>
                    </a:lnTo>
                    <a:lnTo>
                      <a:pt x="2881" y="770"/>
                    </a:lnTo>
                    <a:lnTo>
                      <a:pt x="2843" y="670"/>
                    </a:lnTo>
                    <a:lnTo>
                      <a:pt x="2797" y="573"/>
                    </a:lnTo>
                    <a:lnTo>
                      <a:pt x="2743" y="483"/>
                    </a:lnTo>
                    <a:lnTo>
                      <a:pt x="2679" y="399"/>
                    </a:lnTo>
                    <a:lnTo>
                      <a:pt x="2608" y="321"/>
                    </a:lnTo>
                    <a:lnTo>
                      <a:pt x="2530" y="250"/>
                    </a:lnTo>
                    <a:lnTo>
                      <a:pt x="2446" y="187"/>
                    </a:lnTo>
                    <a:lnTo>
                      <a:pt x="2356" y="132"/>
                    </a:lnTo>
                    <a:lnTo>
                      <a:pt x="2259" y="86"/>
                    </a:lnTo>
                    <a:lnTo>
                      <a:pt x="2159" y="49"/>
                    </a:lnTo>
                    <a:lnTo>
                      <a:pt x="2054" y="22"/>
                    </a:lnTo>
                    <a:lnTo>
                      <a:pt x="1946" y="6"/>
                    </a:lnTo>
                    <a:lnTo>
                      <a:pt x="1834" y="0"/>
                    </a:lnTo>
                    <a:lnTo>
                      <a:pt x="1834" y="63"/>
                    </a:lnTo>
                    <a:lnTo>
                      <a:pt x="1938" y="69"/>
                    </a:lnTo>
                    <a:lnTo>
                      <a:pt x="2041" y="84"/>
                    </a:lnTo>
                    <a:lnTo>
                      <a:pt x="2140" y="110"/>
                    </a:lnTo>
                    <a:lnTo>
                      <a:pt x="2235" y="146"/>
                    </a:lnTo>
                    <a:lnTo>
                      <a:pt x="2325" y="188"/>
                    </a:lnTo>
                    <a:lnTo>
                      <a:pt x="2410" y="241"/>
                    </a:lnTo>
                    <a:lnTo>
                      <a:pt x="2489" y="298"/>
                    </a:lnTo>
                    <a:lnTo>
                      <a:pt x="2562" y="366"/>
                    </a:lnTo>
                    <a:lnTo>
                      <a:pt x="2629" y="438"/>
                    </a:lnTo>
                    <a:lnTo>
                      <a:pt x="2688" y="519"/>
                    </a:lnTo>
                    <a:lnTo>
                      <a:pt x="2739" y="604"/>
                    </a:lnTo>
                    <a:lnTo>
                      <a:pt x="2784" y="694"/>
                    </a:lnTo>
                    <a:lnTo>
                      <a:pt x="2817" y="789"/>
                    </a:lnTo>
                    <a:lnTo>
                      <a:pt x="2843" y="888"/>
                    </a:lnTo>
                    <a:lnTo>
                      <a:pt x="2858" y="991"/>
                    </a:lnTo>
                    <a:lnTo>
                      <a:pt x="2864" y="1095"/>
                    </a:lnTo>
                    <a:lnTo>
                      <a:pt x="2858" y="1196"/>
                    </a:lnTo>
                    <a:lnTo>
                      <a:pt x="2845" y="1293"/>
                    </a:lnTo>
                    <a:lnTo>
                      <a:pt x="2821" y="1386"/>
                    </a:lnTo>
                    <a:lnTo>
                      <a:pt x="2789" y="1477"/>
                    </a:lnTo>
                    <a:lnTo>
                      <a:pt x="2750" y="1563"/>
                    </a:lnTo>
                    <a:lnTo>
                      <a:pt x="2703" y="1645"/>
                    </a:lnTo>
                    <a:lnTo>
                      <a:pt x="2649" y="1724"/>
                    </a:lnTo>
                    <a:lnTo>
                      <a:pt x="2588" y="1795"/>
                    </a:lnTo>
                    <a:lnTo>
                      <a:pt x="2520" y="1860"/>
                    </a:lnTo>
                    <a:lnTo>
                      <a:pt x="2448" y="1919"/>
                    </a:lnTo>
                    <a:lnTo>
                      <a:pt x="2369" y="1974"/>
                    </a:lnTo>
                    <a:lnTo>
                      <a:pt x="2285" y="2018"/>
                    </a:lnTo>
                    <a:lnTo>
                      <a:pt x="2198" y="2056"/>
                    </a:lnTo>
                    <a:lnTo>
                      <a:pt x="2106" y="2086"/>
                    </a:lnTo>
                    <a:lnTo>
                      <a:pt x="2011" y="2108"/>
                    </a:lnTo>
                    <a:lnTo>
                      <a:pt x="1912" y="2119"/>
                    </a:lnTo>
                    <a:lnTo>
                      <a:pt x="1778" y="2119"/>
                    </a:lnTo>
                    <a:lnTo>
                      <a:pt x="1778" y="2121"/>
                    </a:lnTo>
                    <a:lnTo>
                      <a:pt x="1705" y="2113"/>
                    </a:lnTo>
                    <a:lnTo>
                      <a:pt x="1634" y="2102"/>
                    </a:lnTo>
                    <a:lnTo>
                      <a:pt x="1563" y="2086"/>
                    </a:lnTo>
                    <a:lnTo>
                      <a:pt x="1496" y="2065"/>
                    </a:lnTo>
                    <a:lnTo>
                      <a:pt x="1429" y="2039"/>
                    </a:lnTo>
                    <a:lnTo>
                      <a:pt x="1366" y="2009"/>
                    </a:lnTo>
                    <a:lnTo>
                      <a:pt x="1304" y="1974"/>
                    </a:lnTo>
                    <a:lnTo>
                      <a:pt x="1244" y="1936"/>
                    </a:lnTo>
                    <a:lnTo>
                      <a:pt x="1187" y="1893"/>
                    </a:lnTo>
                    <a:lnTo>
                      <a:pt x="1134" y="1847"/>
                    </a:lnTo>
                    <a:lnTo>
                      <a:pt x="1084" y="1796"/>
                    </a:lnTo>
                    <a:lnTo>
                      <a:pt x="1035" y="1742"/>
                    </a:lnTo>
                    <a:lnTo>
                      <a:pt x="993" y="1684"/>
                    </a:lnTo>
                    <a:lnTo>
                      <a:pt x="953" y="1625"/>
                    </a:lnTo>
                    <a:lnTo>
                      <a:pt x="918" y="1561"/>
                    </a:lnTo>
                    <a:lnTo>
                      <a:pt x="886" y="1494"/>
                    </a:lnTo>
                    <a:lnTo>
                      <a:pt x="826" y="1518"/>
                    </a:lnTo>
                    <a:lnTo>
                      <a:pt x="845" y="1558"/>
                    </a:lnTo>
                    <a:lnTo>
                      <a:pt x="864" y="1597"/>
                    </a:lnTo>
                    <a:lnTo>
                      <a:pt x="884" y="1634"/>
                    </a:lnTo>
                    <a:lnTo>
                      <a:pt x="907" y="1671"/>
                    </a:lnTo>
                    <a:lnTo>
                      <a:pt x="929" y="1707"/>
                    </a:lnTo>
                    <a:lnTo>
                      <a:pt x="953" y="1740"/>
                    </a:lnTo>
                    <a:lnTo>
                      <a:pt x="979" y="1774"/>
                    </a:lnTo>
                    <a:lnTo>
                      <a:pt x="1006" y="1808"/>
                    </a:lnTo>
                    <a:lnTo>
                      <a:pt x="312" y="1808"/>
                    </a:lnTo>
                    <a:lnTo>
                      <a:pt x="312" y="1871"/>
                    </a:lnTo>
                    <a:lnTo>
                      <a:pt x="1045" y="1871"/>
                    </a:lnTo>
                    <a:lnTo>
                      <a:pt x="1048" y="1873"/>
                    </a:lnTo>
                    <a:lnTo>
                      <a:pt x="1058" y="1880"/>
                    </a:lnTo>
                    <a:lnTo>
                      <a:pt x="1071" y="1890"/>
                    </a:lnTo>
                    <a:lnTo>
                      <a:pt x="1088" y="1901"/>
                    </a:lnTo>
                    <a:lnTo>
                      <a:pt x="1106" y="1914"/>
                    </a:lnTo>
                    <a:lnTo>
                      <a:pt x="1125" y="1929"/>
                    </a:lnTo>
                    <a:lnTo>
                      <a:pt x="1144" y="1942"/>
                    </a:lnTo>
                    <a:lnTo>
                      <a:pt x="1160" y="1955"/>
                    </a:lnTo>
                    <a:lnTo>
                      <a:pt x="0" y="1955"/>
                    </a:lnTo>
                    <a:lnTo>
                      <a:pt x="0" y="2018"/>
                    </a:lnTo>
                    <a:lnTo>
                      <a:pt x="1252" y="2018"/>
                    </a:lnTo>
                    <a:lnTo>
                      <a:pt x="1284" y="2039"/>
                    </a:lnTo>
                    <a:lnTo>
                      <a:pt x="1317" y="2058"/>
                    </a:lnTo>
                    <a:lnTo>
                      <a:pt x="1351" y="2074"/>
                    </a:lnTo>
                    <a:lnTo>
                      <a:pt x="1386" y="2091"/>
                    </a:lnTo>
                    <a:lnTo>
                      <a:pt x="1420" y="2106"/>
                    </a:lnTo>
                    <a:lnTo>
                      <a:pt x="1455" y="2119"/>
                    </a:lnTo>
                    <a:lnTo>
                      <a:pt x="1493" y="2132"/>
                    </a:lnTo>
                    <a:lnTo>
                      <a:pt x="1528" y="2143"/>
                    </a:lnTo>
                    <a:lnTo>
                      <a:pt x="1565" y="2155"/>
                    </a:lnTo>
                    <a:lnTo>
                      <a:pt x="1603" y="2162"/>
                    </a:lnTo>
                    <a:lnTo>
                      <a:pt x="1640" y="2171"/>
                    </a:lnTo>
                    <a:lnTo>
                      <a:pt x="1679" y="2177"/>
                    </a:lnTo>
                    <a:lnTo>
                      <a:pt x="1716" y="2183"/>
                    </a:lnTo>
                    <a:lnTo>
                      <a:pt x="1756" y="2184"/>
                    </a:lnTo>
                    <a:lnTo>
                      <a:pt x="1795" y="2188"/>
                    </a:lnTo>
                    <a:lnTo>
                      <a:pt x="1834" y="2188"/>
                    </a:lnTo>
                    <a:lnTo>
                      <a:pt x="1845" y="2188"/>
                    </a:lnTo>
                    <a:lnTo>
                      <a:pt x="1854" y="2188"/>
                    </a:lnTo>
                    <a:lnTo>
                      <a:pt x="1866" y="2188"/>
                    </a:lnTo>
                    <a:lnTo>
                      <a:pt x="1875" y="2186"/>
                    </a:lnTo>
                    <a:lnTo>
                      <a:pt x="1884" y="2186"/>
                    </a:lnTo>
                    <a:lnTo>
                      <a:pt x="1894" y="2186"/>
                    </a:lnTo>
                    <a:lnTo>
                      <a:pt x="1905" y="2184"/>
                    </a:lnTo>
                    <a:lnTo>
                      <a:pt x="1914" y="2184"/>
                    </a:lnTo>
                    <a:lnTo>
                      <a:pt x="2866" y="2184"/>
                    </a:lnTo>
                    <a:lnTo>
                      <a:pt x="2866" y="2119"/>
                    </a:lnTo>
                    <a:lnTo>
                      <a:pt x="2215" y="2119"/>
                    </a:lnTo>
                    <a:lnTo>
                      <a:pt x="2243" y="2108"/>
                    </a:lnTo>
                    <a:lnTo>
                      <a:pt x="2271" y="2097"/>
                    </a:lnTo>
                    <a:lnTo>
                      <a:pt x="2298" y="2084"/>
                    </a:lnTo>
                    <a:lnTo>
                      <a:pt x="2325" y="2071"/>
                    </a:lnTo>
                    <a:lnTo>
                      <a:pt x="2351" y="2058"/>
                    </a:lnTo>
                    <a:lnTo>
                      <a:pt x="2377" y="2043"/>
                    </a:lnTo>
                    <a:lnTo>
                      <a:pt x="2403" y="2028"/>
                    </a:lnTo>
                    <a:lnTo>
                      <a:pt x="2427" y="2013"/>
                    </a:lnTo>
                    <a:lnTo>
                      <a:pt x="2453" y="1996"/>
                    </a:lnTo>
                    <a:lnTo>
                      <a:pt x="2478" y="1979"/>
                    </a:lnTo>
                    <a:lnTo>
                      <a:pt x="2500" y="1961"/>
                    </a:lnTo>
                    <a:lnTo>
                      <a:pt x="2524" y="1942"/>
                    </a:lnTo>
                    <a:lnTo>
                      <a:pt x="2547" y="1923"/>
                    </a:lnTo>
                    <a:lnTo>
                      <a:pt x="2569" y="1903"/>
                    </a:lnTo>
                    <a:lnTo>
                      <a:pt x="2591" y="1882"/>
                    </a:lnTo>
                    <a:lnTo>
                      <a:pt x="2612" y="1862"/>
                    </a:lnTo>
                    <a:lnTo>
                      <a:pt x="2612" y="1871"/>
                    </a:lnTo>
                    <a:lnTo>
                      <a:pt x="3194" y="1871"/>
                    </a:lnTo>
                    <a:lnTo>
                      <a:pt x="3194" y="1808"/>
                    </a:lnTo>
                    <a:lnTo>
                      <a:pt x="2662" y="180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8786600">
                <a:off x="6526800" y="5038920"/>
                <a:ext cx="405720" cy="31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8786600">
                <a:off x="6044400" y="4154040"/>
                <a:ext cx="582840" cy="893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 rot="18786600">
                <a:off x="6216120" y="4278240"/>
                <a:ext cx="245520" cy="652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.VnTifani Heavy"/>
                  </a:rPr>
                  <a:t>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.VnTifani Heavy"/>
                  <a:ea typeface=".VnTifani Heavy"/>
                </a:endParaRPr>
              </a:p>
            </p:txBody>
          </p:sp>
        </p:grpSp>
        <p:pic>
          <p:nvPicPr>
            <p:cNvPr id="57" name="Picture 21" descr="j0232133"/>
            <p:cNvPicPr/>
            <p:nvPr/>
          </p:nvPicPr>
          <p:blipFill>
            <a:blip r:embed="rId3"/>
            <a:stretch/>
          </p:blipFill>
          <p:spPr>
            <a:xfrm rot="589800">
              <a:off x="6030360" y="4551480"/>
              <a:ext cx="1906560" cy="183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28600"/>
            <a:ext cx="82296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Câu 2:</a:t>
            </a:r>
            <a:r>
              <a:rPr b="0" lang="es-A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rong phản ứng hóa học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hạt vi mô nào được bảo toà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81080"/>
            <a:ext cx="8458200" cy="457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ạt phân tử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ạt nguyên tử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ả hai loại hạt trên.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hông loại hạt nào được bảo toàn.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1362240" cy="57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g00373_"/>
          <p:cNvPicPr/>
          <p:nvPr/>
        </p:nvPicPr>
        <p:blipFill>
          <a:blip r:embed="rId2"/>
          <a:stretch/>
        </p:blipFill>
        <p:spPr>
          <a:xfrm rot="18935400">
            <a:off x="6705720" y="3886200"/>
            <a:ext cx="1000080" cy="96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28600"/>
            <a:ext cx="82296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Arial"/>
              </a:rPr>
              <a:t>Câu 3:</a:t>
            </a:r>
            <a:r>
              <a:rPr b="1" lang="fr-F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ố mol nước c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rong 36 g nước l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09680"/>
            <a:ext cx="8534160" cy="4419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. 1 mol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B. 2 m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. 3 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. 4 mol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g00373_"/>
          <p:cNvPicPr/>
          <p:nvPr/>
        </p:nvPicPr>
        <p:blipFill>
          <a:blip r:embed="rId1"/>
          <a:stretch/>
        </p:blipFill>
        <p:spPr>
          <a:xfrm rot="18935400">
            <a:off x="7543800" y="2819520"/>
            <a:ext cx="1000080" cy="9619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746520" y="2160360"/>
            <a:ext cx="2830320" cy="2869920"/>
            <a:chOff x="3746520" y="2160360"/>
            <a:chExt cx="2830320" cy="2869920"/>
          </a:xfrm>
        </p:grpSpPr>
        <p:grpSp>
          <p:nvGrpSpPr>
            <p:cNvPr id="66" name=""/>
            <p:cNvGrpSpPr/>
            <p:nvPr/>
          </p:nvGrpSpPr>
          <p:grpSpPr>
            <a:xfrm>
              <a:off x="3746520" y="2160360"/>
              <a:ext cx="1636920" cy="1635480"/>
              <a:chOff x="3746520" y="2160360"/>
              <a:chExt cx="1636920" cy="1635480"/>
            </a:xfrm>
          </p:grpSpPr>
          <p:sp>
            <p:nvSpPr>
              <p:cNvPr id="67" name=""/>
              <p:cNvSpPr/>
              <p:nvPr/>
            </p:nvSpPr>
            <p:spPr>
              <a:xfrm rot="18786600">
                <a:off x="3993120" y="2391840"/>
                <a:ext cx="1143000" cy="1172160"/>
              </a:xfrm>
              <a:custGeom>
                <a:avLst/>
                <a:gdLst/>
                <a:ahLst/>
                <a:rect l="l" t="t" r="r" b="b"/>
                <a:pathLst>
                  <a:path w="3194" h="2188">
                    <a:moveTo>
                      <a:pt x="2662" y="1808"/>
                    </a:moveTo>
                    <a:lnTo>
                      <a:pt x="2722" y="1733"/>
                    </a:lnTo>
                    <a:lnTo>
                      <a:pt x="2774" y="1653"/>
                    </a:lnTo>
                    <a:lnTo>
                      <a:pt x="2819" y="1569"/>
                    </a:lnTo>
                    <a:lnTo>
                      <a:pt x="2858" y="1481"/>
                    </a:lnTo>
                    <a:lnTo>
                      <a:pt x="2888" y="1388"/>
                    </a:lnTo>
                    <a:lnTo>
                      <a:pt x="2910" y="1293"/>
                    </a:lnTo>
                    <a:lnTo>
                      <a:pt x="2925" y="1196"/>
                    </a:lnTo>
                    <a:lnTo>
                      <a:pt x="2929" y="1095"/>
                    </a:lnTo>
                    <a:lnTo>
                      <a:pt x="2923" y="983"/>
                    </a:lnTo>
                    <a:lnTo>
                      <a:pt x="2907" y="875"/>
                    </a:lnTo>
                    <a:lnTo>
                      <a:pt x="2881" y="770"/>
                    </a:lnTo>
                    <a:lnTo>
                      <a:pt x="2843" y="670"/>
                    </a:lnTo>
                    <a:lnTo>
                      <a:pt x="2797" y="573"/>
                    </a:lnTo>
                    <a:lnTo>
                      <a:pt x="2743" y="483"/>
                    </a:lnTo>
                    <a:lnTo>
                      <a:pt x="2679" y="399"/>
                    </a:lnTo>
                    <a:lnTo>
                      <a:pt x="2608" y="321"/>
                    </a:lnTo>
                    <a:lnTo>
                      <a:pt x="2530" y="250"/>
                    </a:lnTo>
                    <a:lnTo>
                      <a:pt x="2446" y="187"/>
                    </a:lnTo>
                    <a:lnTo>
                      <a:pt x="2356" y="132"/>
                    </a:lnTo>
                    <a:lnTo>
                      <a:pt x="2259" y="86"/>
                    </a:lnTo>
                    <a:lnTo>
                      <a:pt x="2159" y="49"/>
                    </a:lnTo>
                    <a:lnTo>
                      <a:pt x="2054" y="22"/>
                    </a:lnTo>
                    <a:lnTo>
                      <a:pt x="1946" y="6"/>
                    </a:lnTo>
                    <a:lnTo>
                      <a:pt x="1834" y="0"/>
                    </a:lnTo>
                    <a:lnTo>
                      <a:pt x="1834" y="63"/>
                    </a:lnTo>
                    <a:lnTo>
                      <a:pt x="1938" y="69"/>
                    </a:lnTo>
                    <a:lnTo>
                      <a:pt x="2041" y="84"/>
                    </a:lnTo>
                    <a:lnTo>
                      <a:pt x="2140" y="110"/>
                    </a:lnTo>
                    <a:lnTo>
                      <a:pt x="2235" y="146"/>
                    </a:lnTo>
                    <a:lnTo>
                      <a:pt x="2325" y="188"/>
                    </a:lnTo>
                    <a:lnTo>
                      <a:pt x="2410" y="241"/>
                    </a:lnTo>
                    <a:lnTo>
                      <a:pt x="2489" y="298"/>
                    </a:lnTo>
                    <a:lnTo>
                      <a:pt x="2562" y="366"/>
                    </a:lnTo>
                    <a:lnTo>
                      <a:pt x="2629" y="438"/>
                    </a:lnTo>
                    <a:lnTo>
                      <a:pt x="2688" y="519"/>
                    </a:lnTo>
                    <a:lnTo>
                      <a:pt x="2739" y="604"/>
                    </a:lnTo>
                    <a:lnTo>
                      <a:pt x="2784" y="694"/>
                    </a:lnTo>
                    <a:lnTo>
                      <a:pt x="2817" y="789"/>
                    </a:lnTo>
                    <a:lnTo>
                      <a:pt x="2843" y="888"/>
                    </a:lnTo>
                    <a:lnTo>
                      <a:pt x="2858" y="991"/>
                    </a:lnTo>
                    <a:lnTo>
                      <a:pt x="2864" y="1095"/>
                    </a:lnTo>
                    <a:lnTo>
                      <a:pt x="2858" y="1196"/>
                    </a:lnTo>
                    <a:lnTo>
                      <a:pt x="2845" y="1293"/>
                    </a:lnTo>
                    <a:lnTo>
                      <a:pt x="2821" y="1386"/>
                    </a:lnTo>
                    <a:lnTo>
                      <a:pt x="2789" y="1477"/>
                    </a:lnTo>
                    <a:lnTo>
                      <a:pt x="2750" y="1563"/>
                    </a:lnTo>
                    <a:lnTo>
                      <a:pt x="2703" y="1645"/>
                    </a:lnTo>
                    <a:lnTo>
                      <a:pt x="2649" y="1724"/>
                    </a:lnTo>
                    <a:lnTo>
                      <a:pt x="2588" y="1795"/>
                    </a:lnTo>
                    <a:lnTo>
                      <a:pt x="2520" y="1860"/>
                    </a:lnTo>
                    <a:lnTo>
                      <a:pt x="2448" y="1919"/>
                    </a:lnTo>
                    <a:lnTo>
                      <a:pt x="2369" y="1974"/>
                    </a:lnTo>
                    <a:lnTo>
                      <a:pt x="2285" y="2018"/>
                    </a:lnTo>
                    <a:lnTo>
                      <a:pt x="2198" y="2056"/>
                    </a:lnTo>
                    <a:lnTo>
                      <a:pt x="2106" y="2086"/>
                    </a:lnTo>
                    <a:lnTo>
                      <a:pt x="2011" y="2108"/>
                    </a:lnTo>
                    <a:lnTo>
                      <a:pt x="1912" y="2119"/>
                    </a:lnTo>
                    <a:lnTo>
                      <a:pt x="1778" y="2119"/>
                    </a:lnTo>
                    <a:lnTo>
                      <a:pt x="1778" y="2121"/>
                    </a:lnTo>
                    <a:lnTo>
                      <a:pt x="1705" y="2113"/>
                    </a:lnTo>
                    <a:lnTo>
                      <a:pt x="1634" y="2102"/>
                    </a:lnTo>
                    <a:lnTo>
                      <a:pt x="1563" y="2086"/>
                    </a:lnTo>
                    <a:lnTo>
                      <a:pt x="1496" y="2065"/>
                    </a:lnTo>
                    <a:lnTo>
                      <a:pt x="1429" y="2039"/>
                    </a:lnTo>
                    <a:lnTo>
                      <a:pt x="1366" y="2009"/>
                    </a:lnTo>
                    <a:lnTo>
                      <a:pt x="1304" y="1974"/>
                    </a:lnTo>
                    <a:lnTo>
                      <a:pt x="1244" y="1936"/>
                    </a:lnTo>
                    <a:lnTo>
                      <a:pt x="1187" y="1893"/>
                    </a:lnTo>
                    <a:lnTo>
                      <a:pt x="1134" y="1847"/>
                    </a:lnTo>
                    <a:lnTo>
                      <a:pt x="1084" y="1796"/>
                    </a:lnTo>
                    <a:lnTo>
                      <a:pt x="1035" y="1742"/>
                    </a:lnTo>
                    <a:lnTo>
                      <a:pt x="993" y="1684"/>
                    </a:lnTo>
                    <a:lnTo>
                      <a:pt x="953" y="1625"/>
                    </a:lnTo>
                    <a:lnTo>
                      <a:pt x="918" y="1561"/>
                    </a:lnTo>
                    <a:lnTo>
                      <a:pt x="886" y="1494"/>
                    </a:lnTo>
                    <a:lnTo>
                      <a:pt x="826" y="1518"/>
                    </a:lnTo>
                    <a:lnTo>
                      <a:pt x="845" y="1558"/>
                    </a:lnTo>
                    <a:lnTo>
                      <a:pt x="864" y="1597"/>
                    </a:lnTo>
                    <a:lnTo>
                      <a:pt x="884" y="1634"/>
                    </a:lnTo>
                    <a:lnTo>
                      <a:pt x="907" y="1671"/>
                    </a:lnTo>
                    <a:lnTo>
                      <a:pt x="929" y="1707"/>
                    </a:lnTo>
                    <a:lnTo>
                      <a:pt x="953" y="1740"/>
                    </a:lnTo>
                    <a:lnTo>
                      <a:pt x="979" y="1774"/>
                    </a:lnTo>
                    <a:lnTo>
                      <a:pt x="1006" y="1808"/>
                    </a:lnTo>
                    <a:lnTo>
                      <a:pt x="312" y="1808"/>
                    </a:lnTo>
                    <a:lnTo>
                      <a:pt x="312" y="1871"/>
                    </a:lnTo>
                    <a:lnTo>
                      <a:pt x="1045" y="1871"/>
                    </a:lnTo>
                    <a:lnTo>
                      <a:pt x="1048" y="1873"/>
                    </a:lnTo>
                    <a:lnTo>
                      <a:pt x="1058" y="1880"/>
                    </a:lnTo>
                    <a:lnTo>
                      <a:pt x="1071" y="1890"/>
                    </a:lnTo>
                    <a:lnTo>
                      <a:pt x="1088" y="1901"/>
                    </a:lnTo>
                    <a:lnTo>
                      <a:pt x="1106" y="1914"/>
                    </a:lnTo>
                    <a:lnTo>
                      <a:pt x="1125" y="1929"/>
                    </a:lnTo>
                    <a:lnTo>
                      <a:pt x="1144" y="1942"/>
                    </a:lnTo>
                    <a:lnTo>
                      <a:pt x="1160" y="1955"/>
                    </a:lnTo>
                    <a:lnTo>
                      <a:pt x="0" y="1955"/>
                    </a:lnTo>
                    <a:lnTo>
                      <a:pt x="0" y="2018"/>
                    </a:lnTo>
                    <a:lnTo>
                      <a:pt x="1252" y="2018"/>
                    </a:lnTo>
                    <a:lnTo>
                      <a:pt x="1284" y="2039"/>
                    </a:lnTo>
                    <a:lnTo>
                      <a:pt x="1317" y="2058"/>
                    </a:lnTo>
                    <a:lnTo>
                      <a:pt x="1351" y="2074"/>
                    </a:lnTo>
                    <a:lnTo>
                      <a:pt x="1386" y="2091"/>
                    </a:lnTo>
                    <a:lnTo>
                      <a:pt x="1420" y="2106"/>
                    </a:lnTo>
                    <a:lnTo>
                      <a:pt x="1455" y="2119"/>
                    </a:lnTo>
                    <a:lnTo>
                      <a:pt x="1493" y="2132"/>
                    </a:lnTo>
                    <a:lnTo>
                      <a:pt x="1528" y="2143"/>
                    </a:lnTo>
                    <a:lnTo>
                      <a:pt x="1565" y="2155"/>
                    </a:lnTo>
                    <a:lnTo>
                      <a:pt x="1603" y="2162"/>
                    </a:lnTo>
                    <a:lnTo>
                      <a:pt x="1640" y="2171"/>
                    </a:lnTo>
                    <a:lnTo>
                      <a:pt x="1679" y="2177"/>
                    </a:lnTo>
                    <a:lnTo>
                      <a:pt x="1716" y="2183"/>
                    </a:lnTo>
                    <a:lnTo>
                      <a:pt x="1756" y="2184"/>
                    </a:lnTo>
                    <a:lnTo>
                      <a:pt x="1795" y="2188"/>
                    </a:lnTo>
                    <a:lnTo>
                      <a:pt x="1834" y="2188"/>
                    </a:lnTo>
                    <a:lnTo>
                      <a:pt x="1845" y="2188"/>
                    </a:lnTo>
                    <a:lnTo>
                      <a:pt x="1854" y="2188"/>
                    </a:lnTo>
                    <a:lnTo>
                      <a:pt x="1866" y="2188"/>
                    </a:lnTo>
                    <a:lnTo>
                      <a:pt x="1875" y="2186"/>
                    </a:lnTo>
                    <a:lnTo>
                      <a:pt x="1884" y="2186"/>
                    </a:lnTo>
                    <a:lnTo>
                      <a:pt x="1894" y="2186"/>
                    </a:lnTo>
                    <a:lnTo>
                      <a:pt x="1905" y="2184"/>
                    </a:lnTo>
                    <a:lnTo>
                      <a:pt x="1914" y="2184"/>
                    </a:lnTo>
                    <a:lnTo>
                      <a:pt x="2866" y="2184"/>
                    </a:lnTo>
                    <a:lnTo>
                      <a:pt x="2866" y="2119"/>
                    </a:lnTo>
                    <a:lnTo>
                      <a:pt x="2215" y="2119"/>
                    </a:lnTo>
                    <a:lnTo>
                      <a:pt x="2243" y="2108"/>
                    </a:lnTo>
                    <a:lnTo>
                      <a:pt x="2271" y="2097"/>
                    </a:lnTo>
                    <a:lnTo>
                      <a:pt x="2298" y="2084"/>
                    </a:lnTo>
                    <a:lnTo>
                      <a:pt x="2325" y="2071"/>
                    </a:lnTo>
                    <a:lnTo>
                      <a:pt x="2351" y="2058"/>
                    </a:lnTo>
                    <a:lnTo>
                      <a:pt x="2377" y="2043"/>
                    </a:lnTo>
                    <a:lnTo>
                      <a:pt x="2403" y="2028"/>
                    </a:lnTo>
                    <a:lnTo>
                      <a:pt x="2427" y="2013"/>
                    </a:lnTo>
                    <a:lnTo>
                      <a:pt x="2453" y="1996"/>
                    </a:lnTo>
                    <a:lnTo>
                      <a:pt x="2478" y="1979"/>
                    </a:lnTo>
                    <a:lnTo>
                      <a:pt x="2500" y="1961"/>
                    </a:lnTo>
                    <a:lnTo>
                      <a:pt x="2524" y="1942"/>
                    </a:lnTo>
                    <a:lnTo>
                      <a:pt x="2547" y="1923"/>
                    </a:lnTo>
                    <a:lnTo>
                      <a:pt x="2569" y="1903"/>
                    </a:lnTo>
                    <a:lnTo>
                      <a:pt x="2591" y="1882"/>
                    </a:lnTo>
                    <a:lnTo>
                      <a:pt x="2612" y="1862"/>
                    </a:lnTo>
                    <a:lnTo>
                      <a:pt x="2612" y="1871"/>
                    </a:lnTo>
                    <a:lnTo>
                      <a:pt x="3194" y="1871"/>
                    </a:lnTo>
                    <a:lnTo>
                      <a:pt x="3194" y="1808"/>
                    </a:lnTo>
                    <a:lnTo>
                      <a:pt x="2662" y="180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8786600">
                <a:off x="4838400" y="3389760"/>
                <a:ext cx="454320" cy="34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8786600">
                <a:off x="4309560" y="2421000"/>
                <a:ext cx="652680" cy="9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 rot="18786600">
                <a:off x="4502160" y="2556360"/>
                <a:ext cx="274680" cy="71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.VnTifani Heavy"/>
                  </a:rPr>
                  <a:t>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.VnTifani Heavy"/>
                  <a:ea typeface=".VnTifani Heavy"/>
                </a:endParaRPr>
              </a:p>
            </p:txBody>
          </p:sp>
        </p:grpSp>
        <p:pic>
          <p:nvPicPr>
            <p:cNvPr id="71" name="Picture 21" descr="j0232133"/>
            <p:cNvPicPr/>
            <p:nvPr/>
          </p:nvPicPr>
          <p:blipFill>
            <a:blip r:embed="rId2"/>
            <a:stretch/>
          </p:blipFill>
          <p:spPr>
            <a:xfrm rot="589800">
              <a:off x="4285800" y="2854080"/>
              <a:ext cx="2135160" cy="200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762120" y="5562720"/>
            <a:ext cx="784836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ì số mol nướ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m/ M= 36:18=2 (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228600"/>
            <a:ext cx="82296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Câu 4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hi phân hủy 2,17g thủy ngân oxí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 được 0,16g oxi, khối lượng thủy ngâ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 được trong thí nghiệm này l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362320"/>
            <a:ext cx="8229600" cy="4495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2,00 g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2,01 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nb-NO" sz="4000" spc="-1" strike="noStrike">
                <a:solidFill>
                  <a:srgbClr val="000000"/>
                </a:solidFill>
                <a:latin typeface="Arial"/>
              </a:rPr>
              <a:t>2,02 g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2,05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14400" y="5334120"/>
            <a:ext cx="723888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ì khối lượng Hg = khối lượng HgO – m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,17- 0,16 = 2,01 g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olan</dc:creator>
  <dc:description/>
  <dc:language>en-US</dc:language>
  <cp:lastModifiedBy>volan</cp:lastModifiedBy>
  <dcterms:modified xsi:type="dcterms:W3CDTF">2012-11-21T12:38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