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21F-D872-48B9-8AE4-5D529D6A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CA8-5185-44E3-8340-201EC126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AD4-CB6C-4558-9B4D-BAAAF190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E48-D17D-431D-9D46-C5573EEE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094C-988B-4DA3-9307-18F9CF5A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33A-B931-4101-B09B-97B4FD67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9F8-AFF7-4109-917C-1969FCF4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AF1-0328-4F2B-BEE8-32BF3357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247-F067-496B-9CE6-4770489E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D51A-792F-4B0A-97CC-98C09D97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C2B-597F-4146-89C8-6236E0AC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DDF-8F04-4CD3-A558-B8E9F788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0BDE-EBDC-4ACE-B803-F4F472822278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1 Başlık"/>
          <p:cNvSpPr/>
          <p:nvPr/>
        </p:nvSpPr>
        <p:spPr>
          <a:xfrm>
            <a:off x="357120" y="514368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0000"/>
                </a:solidFill>
                <a:latin typeface="Arial"/>
              </a:rPr>
              <a:t>Hikmet SIRM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6 Oval"/>
          <p:cNvSpPr/>
          <p:nvPr/>
        </p:nvSpPr>
        <p:spPr>
          <a:xfrm flipH="1">
            <a:off x="3214800" y="2928960"/>
            <a:ext cx="2286000" cy="2214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Çevrenizde silindire benzeyen üç varlık adı söyleyiniz.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4119120"/>
            <a:ext cx="856908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konserve kutusu</a:t>
            </a:r>
            <a:r>
              <a:rPr b="0" i="1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tr-TR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tr-TR" sz="32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i="1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tr-TR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kit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755640" y="406440"/>
            <a:ext cx="77724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3300"/>
                </a:solidFill>
                <a:latin typeface="Arial"/>
              </a:rPr>
              <a:t>Aşağıdaki varlıklardan silindire benzeyeni söyleyini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212840" y="2241720"/>
            <a:ext cx="1630440" cy="197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3635280" y="2260440"/>
            <a:ext cx="2016360" cy="1960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6300720" y="2206800"/>
            <a:ext cx="2239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03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Aşağıdaki varlıklardan silindire benzemeyeni söyleyin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92280" y="2133720"/>
            <a:ext cx="2295360" cy="2611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3924360" y="2205000"/>
            <a:ext cx="1193760" cy="256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6012000" y="2205000"/>
            <a:ext cx="2663640" cy="25970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250920" y="4365720"/>
            <a:ext cx="8066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bardak     soba borusu       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cc"/>
                </a:solidFill>
                <a:latin typeface="Arial"/>
              </a:rPr>
              <a:t>Küpe Benzeyen Varlık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3492360" y="765000"/>
            <a:ext cx="2305080" cy="2078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4581360"/>
            <a:ext cx="80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66ff"/>
                </a:solidFill>
                <a:latin typeface="Arial"/>
              </a:rPr>
              <a:t>Harf küpü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0" lang="tr-TR" sz="3600" spc="-1" strike="noStrike">
                <a:solidFill>
                  <a:srgbClr val="6666ff"/>
                </a:solidFill>
                <a:latin typeface="Arial"/>
              </a:rPr>
              <a:t>hediye kutusu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 gibi varlıklar </a:t>
            </a:r>
            <a:r>
              <a:rPr b="0" lang="tr-TR" sz="3600" spc="-1" strike="noStrike" u="sng">
                <a:solidFill>
                  <a:srgbClr val="000000"/>
                </a:solidFill>
                <a:uFillTx/>
                <a:latin typeface="Arial"/>
              </a:rPr>
              <a:t>küpe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 benzeyen varlıklard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3240000" cy="23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2952720" cy="2295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611280" y="189000"/>
            <a:ext cx="8064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Aşağıdaki varlıkları inceleyel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1483920"/>
            <a:ext cx="8064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Çevrenizde küpe benzeyen üç varlık adı söyleyiniz.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Aşağıdaki varlıklardan küpe benzeyeni söyleyiniz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2236680" cy="231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3851280" y="2349360"/>
            <a:ext cx="1022400" cy="228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6638760" y="2349360"/>
            <a:ext cx="2181240" cy="2230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719280" y="4264200"/>
            <a:ext cx="842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         soba borusu         oyun küp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Aşağıdaki varlıklardan küpe benzemeyeni söyleyin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3924360" y="1963800"/>
            <a:ext cx="1995480" cy="1969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7380360" y="1916280"/>
            <a:ext cx="1143000" cy="1947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539640" y="3645000"/>
            <a:ext cx="7848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Kutu            harf küpü           pi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cc"/>
                </a:solidFill>
                <a:latin typeface="Arial"/>
              </a:rPr>
              <a:t>Dikdörtgenler Prizmasına Benzeyen Varlık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2771640" y="907920"/>
            <a:ext cx="3529080" cy="1216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00"/>
                </a:solidFill>
                <a:latin typeface="Arial"/>
              </a:rPr>
              <a:t>Aşağıdaki varlıklardan dikdörtgenler prizmasına benzemeyeni söyleyini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39640" y="3500280"/>
            <a:ext cx="8209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ebeşir kutusu     kibrit kutusu     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ita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2232000" cy="1784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3780000" y="1916280"/>
            <a:ext cx="2663640" cy="1647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3"/>
          <a:stretch/>
        </p:blipFill>
        <p:spPr>
          <a:xfrm>
            <a:off x="6937200" y="1916280"/>
            <a:ext cx="1451160" cy="16160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468360" y="4869000"/>
            <a:ext cx="813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66ff"/>
                </a:solidFill>
                <a:latin typeface="Arial"/>
              </a:rPr>
              <a:t>Tebeşir   kutusu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3600" spc="-1" strike="noStrike">
                <a:solidFill>
                  <a:srgbClr val="6666ff"/>
                </a:solidFill>
                <a:latin typeface="Arial"/>
              </a:rPr>
              <a:t>kibrit kutusu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0" lang="tr-TR" sz="3600" spc="-1" strike="noStrike">
                <a:solidFill>
                  <a:srgbClr val="6666ff"/>
                </a:solidFill>
                <a:latin typeface="Arial"/>
              </a:rPr>
              <a:t>kitap 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gibi varlıklar dikdörtgenler prizmasına benzeyen varlıklardır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0000"/>
                </a:solidFill>
                <a:latin typeface="Arial"/>
              </a:rPr>
              <a:t>GEOMETRİK CİSİMLERİ TANIYALI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11280" y="1197000"/>
            <a:ext cx="7848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Çevrenizde dikdörtgenler prizmasına benzeyen üç varlık adı söyleyiniz.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1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00"/>
                </a:solidFill>
                <a:latin typeface="Arial"/>
              </a:rPr>
              <a:t>Aşağıdaki varlıklardan dikdörtgenler prizmasına benzeyeni söyleyiniz.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755640" y="3716280"/>
            <a:ext cx="7848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paklı dolap 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 harf kutusu                  b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73440" cy="2227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3635280" y="1844640"/>
            <a:ext cx="2376720" cy="2236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6804000" y="1844640"/>
            <a:ext cx="1728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00"/>
                </a:solidFill>
                <a:latin typeface="Arial"/>
              </a:rPr>
              <a:t>Aşağıdaki varlıklardan dikdörtgenler prizmasına benzemeyeni söyleyini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39640" y="3645000"/>
            <a:ext cx="7848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diye paketi                 kibrit                       top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611280" y="1987560"/>
            <a:ext cx="2303280" cy="2089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2"/>
          <a:stretch/>
        </p:blipFill>
        <p:spPr>
          <a:xfrm>
            <a:off x="3419640" y="1989000"/>
            <a:ext cx="2592360" cy="208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6443640" y="1989000"/>
            <a:ext cx="22320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0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600" spc="-1" strike="noStrike">
                <a:solidFill>
                  <a:srgbClr val="000000"/>
                </a:solidFill>
                <a:latin typeface="Arial"/>
              </a:rPr>
              <a:t>Ne Kadar Öğrendik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0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3300"/>
                </a:solidFill>
                <a:latin typeface="Arial"/>
              </a:rPr>
              <a:t>Küreye benzeyen varlığı söyleyiniz.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8351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0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Silindire benzeyen varlığı söyleyin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324000" y="3068640"/>
            <a:ext cx="84960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80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Küpe benzeyen varlığı söyleyin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468360" y="2830680"/>
            <a:ext cx="8280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80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Dikdörtgenler prizmasına benzeyen varlığı söyleyin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82803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80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Dikdörtgenler prizmasına benzeyen varlığı söyleyin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64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3300"/>
                </a:solidFill>
                <a:latin typeface="Arial"/>
              </a:rPr>
              <a:t>Neye benzediklerini  söyleyini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cc"/>
                </a:solidFill>
                <a:latin typeface="Arial"/>
              </a:rPr>
              <a:t>Küreye Benzeyen Varlık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4"/>
          <p:cNvSpPr/>
          <p:nvPr/>
        </p:nvSpPr>
        <p:spPr>
          <a:xfrm>
            <a:off x="3492360" y="765000"/>
            <a:ext cx="1871640" cy="18511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3300"/>
                </a:solidFill>
                <a:latin typeface="Arial"/>
              </a:rPr>
              <a:t>1-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şan kaç sporcu vardır? </a:t>
            </a:r>
            <a:br>
              <a:rPr sz="4000"/>
            </a:br>
            <a:r>
              <a:rPr b="0" lang="tr-TR" sz="4000" spc="-1" strike="noStrike">
                <a:solidFill>
                  <a:srgbClr val="ff3300"/>
                </a:solidFill>
                <a:latin typeface="Arial"/>
              </a:rPr>
              <a:t>2-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porcuları sıralayabilir miyi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2090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Sporcuların sıralarını okuyunu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611280" y="2189160"/>
            <a:ext cx="8137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3300"/>
                </a:solidFill>
                <a:latin typeface="Arial"/>
              </a:rPr>
              <a:t>Aşağıdaki varlıkları inceleyeli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48472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2519280" cy="296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6012000" y="1628640"/>
            <a:ext cx="2520720" cy="2952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687240" y="501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Top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karpuz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portakal </a:t>
            </a:r>
            <a:r>
              <a:rPr b="0" lang="tr-TR" sz="4400" spc="-1" strike="noStrike">
                <a:solidFill>
                  <a:srgbClr val="6666ff"/>
                </a:solidFill>
                <a:latin typeface="Arial"/>
              </a:rPr>
              <a:t>küreye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benzeyen varlıklardı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Çevrenizde küreye benzeyen üç varlık adı söyleyiniz.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1:……………….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2:……………….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3:……………….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Aşağıdaki varlıklardan küreye benzeyeni söyleyiniz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24000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3851280" y="2133720"/>
            <a:ext cx="1800360" cy="160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2665440" cy="15825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395280" y="4149720"/>
            <a:ext cx="8061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Kitap             top          ka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Aşağıdaki varlıklardan küreye benzemeyeni söyleyin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66560" y="2021040"/>
            <a:ext cx="2089440" cy="2041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6588000" y="2046240"/>
            <a:ext cx="2016360" cy="1968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2987640" y="2060640"/>
            <a:ext cx="3097080" cy="1957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395280" y="3860640"/>
            <a:ext cx="83534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Tabak        karpuz           kit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cc"/>
                </a:solidFill>
                <a:latin typeface="Arial"/>
              </a:rPr>
              <a:t>Silindire Benzeyen Varlık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4067280" y="981000"/>
            <a:ext cx="1150920" cy="179064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Aşağıdaki varlıkları inceleyel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1800000" cy="223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1222200" cy="1943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1368360" cy="2232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395280" y="4797360"/>
            <a:ext cx="8497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6666ff"/>
                </a:solidFill>
                <a:latin typeface="Arial"/>
              </a:rPr>
              <a:t>Varil, pil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0" lang="tr-TR" sz="4000" spc="-1" strike="noStrike">
                <a:solidFill>
                  <a:srgbClr val="6666ff"/>
                </a:solidFill>
                <a:latin typeface="Arial"/>
              </a:rPr>
              <a:t>soba borusu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gibi varlıklar </a:t>
            </a:r>
            <a:r>
              <a:rPr b="0" lang="tr-TR" sz="4000" spc="-1" strike="noStrike">
                <a:solidFill>
                  <a:srgbClr val="ff33cc"/>
                </a:solidFill>
                <a:latin typeface="Arial"/>
              </a:rPr>
              <a:t>silindir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e benzeyen varlıklard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95280" y="3789360"/>
            <a:ext cx="84978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tr-TR" sz="4400" spc="-1" strike="noStrike">
                <a:solidFill>
                  <a:srgbClr val="000000"/>
                </a:solidFill>
                <a:latin typeface="Arial"/>
              </a:rPr>
              <a:t>varil              pil    soba boru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29:40Z</dcterms:created>
  <dc:creator>tbbbg</dc:creator>
  <dc:description/>
  <dc:language>en-US</dc:language>
  <cp:lastModifiedBy>hikmet</cp:lastModifiedBy>
  <dcterms:modified xsi:type="dcterms:W3CDTF">2007-08-17T01:46:30Z</dcterms:modified>
  <cp:revision>6</cp:revision>
  <dc:subject/>
  <dc:title>Küreye Benzeyen Varlıklar</dc:title>
</cp:coreProperties>
</file>