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94E2-0ED2-42D2-AB31-F5C9D539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2B7C-AF68-424C-BD9B-2E649C207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12C-6572-4E4F-95D7-BC710F5ED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813-E466-494D-8713-0BA159D9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B64-E3DC-4B26-B261-DBA588E3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A8F5-BD80-4AF1-A74D-4DF88425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869A-A9EF-48D5-BBC8-4FDB1A6A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C92-0689-4245-A3A7-838AE632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5C23-6983-4541-8314-66A18D69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87DC-7D36-413E-B45B-9041357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811-6257-4609-AFFD-24C812A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CAFC-97C3-4D7F-9240-B7B51DFE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BF13-27A7-438A-BF8C-B0DA17345CBA}" type="slidenum">
              <a:rPr b="0" lang="tr-T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3 Dikdörtgen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1 Başlık"/>
          <p:cNvSpPr/>
          <p:nvPr/>
        </p:nvSpPr>
        <p:spPr>
          <a:xfrm>
            <a:off x="357120" y="514368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Arial"/>
              </a:rPr>
              <a:t>Hikmet SIRM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6 Oval"/>
          <p:cNvSpPr/>
          <p:nvPr/>
        </p:nvSpPr>
        <p:spPr>
          <a:xfrm flipH="1">
            <a:off x="3214800" y="2928960"/>
            <a:ext cx="2286000" cy="2214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699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silindire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4119120"/>
            <a:ext cx="856908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konserve kutusu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tr-TR" sz="32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tr-TR" sz="2800" spc="-1" strike="noStrike">
                <a:solidFill>
                  <a:srgbClr val="000000"/>
                </a:solidFill>
                <a:latin typeface="Arial"/>
              </a:rPr>
              <a:t>kit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755640" y="406440"/>
            <a:ext cx="777240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Aşağıdaki varlıklardan silindire benzeyeni söyleyini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212840" y="2241720"/>
            <a:ext cx="1630440" cy="197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3635280" y="2260440"/>
            <a:ext cx="2016360" cy="1960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6300720" y="2206800"/>
            <a:ext cx="2239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03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silindire benzemeyeni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692280" y="2133720"/>
            <a:ext cx="2295360" cy="2611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3924360" y="2205000"/>
            <a:ext cx="1193760" cy="25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6012000" y="2205000"/>
            <a:ext cx="2663640" cy="2597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250920" y="4365720"/>
            <a:ext cx="80661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bardak     soba borusu       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Küpe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3492360" y="765000"/>
            <a:ext cx="2305080" cy="20782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576869"/>
              </a:gs>
              <a:gs pos="5000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4581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Harf küpü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hediye kutusu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gibi varlıklar </a:t>
            </a:r>
            <a:r>
              <a:rPr b="0" lang="tr-TR" sz="3600" spc="-1" strike="noStrike" u="sng">
                <a:solidFill>
                  <a:srgbClr val="000000"/>
                </a:solidFill>
                <a:uFillTx/>
                <a:latin typeface="Arial"/>
              </a:rPr>
              <a:t>küpe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benzeyen varlıklardı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3240000" cy="23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2"/>
          <a:stretch/>
        </p:blipFill>
        <p:spPr>
          <a:xfrm>
            <a:off x="5219640" y="1413000"/>
            <a:ext cx="2952720" cy="22953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611280" y="189000"/>
            <a:ext cx="806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ı inceleyelim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0920" y="1483920"/>
            <a:ext cx="806436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küpe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064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pe benzeyeni söyleyiniz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2236680" cy="2313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3851280" y="2349360"/>
            <a:ext cx="1022400" cy="2284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3"/>
          <a:stretch/>
        </p:blipFill>
        <p:spPr>
          <a:xfrm>
            <a:off x="6638760" y="2349360"/>
            <a:ext cx="2181240" cy="22305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719280" y="4264200"/>
            <a:ext cx="842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top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        soba borusu         oyun küp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pe benzemeyeni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3924360" y="1963800"/>
            <a:ext cx="1995480" cy="19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3"/>
          <a:stretch/>
        </p:blipFill>
        <p:spPr>
          <a:xfrm>
            <a:off x="7380360" y="1916280"/>
            <a:ext cx="1143000" cy="19476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539640" y="3645000"/>
            <a:ext cx="784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Kutu            harf küpü           pi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Dikdörtgenler Prizmasına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2771640" y="907920"/>
            <a:ext cx="3529080" cy="1216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Aşağıdaki varlıklardan dikdörtgenler prizmasına benzemeyeni söyleyin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539640" y="3500280"/>
            <a:ext cx="8209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tebeşir kutusu     kibrit kutusu      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200" spc="-1" strike="noStrike">
                <a:solidFill>
                  <a:srgbClr val="000000"/>
                </a:solidFill>
                <a:latin typeface="Arial"/>
              </a:rPr>
              <a:t>kita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2232000" cy="1784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"/>
          <p:cNvPicPr/>
          <p:nvPr/>
        </p:nvPicPr>
        <p:blipFill>
          <a:blip r:embed="rId2"/>
          <a:stretch/>
        </p:blipFill>
        <p:spPr>
          <a:xfrm>
            <a:off x="3780000" y="1916280"/>
            <a:ext cx="2663640" cy="1647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3"/>
          <a:stretch/>
        </p:blipFill>
        <p:spPr>
          <a:xfrm>
            <a:off x="6937200" y="1916280"/>
            <a:ext cx="1451160" cy="161604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0"/>
          <p:cNvSpPr/>
          <p:nvPr/>
        </p:nvSpPr>
        <p:spPr>
          <a:xfrm>
            <a:off x="468360" y="4869000"/>
            <a:ext cx="8136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Tebeşir   kutusu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kibrit kutusu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3600" spc="-1" strike="noStrike">
                <a:solidFill>
                  <a:srgbClr val="6666ff"/>
                </a:solidFill>
                <a:latin typeface="Arial"/>
              </a:rPr>
              <a:t>kitap </a:t>
            </a:r>
            <a:r>
              <a:rPr b="0" lang="tr-TR" sz="3600" spc="-1" strike="noStrike">
                <a:solidFill>
                  <a:srgbClr val="000000"/>
                </a:solidFill>
                <a:latin typeface="Arial"/>
              </a:rPr>
              <a:t>gibi varlıklar dikdörtgenler prizmasına benzeyen varlıklardır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8800" spc="-1" strike="noStrike">
                <a:solidFill>
                  <a:srgbClr val="ff0000"/>
                </a:solidFill>
                <a:latin typeface="Arial"/>
              </a:rPr>
              <a:t>GEOMETRİK CİSİMLERİ TANIYALIM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611280" y="1197000"/>
            <a:ext cx="7848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dikdörtgenler prizmasına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</a:t>
            </a:r>
            <a:r>
              <a:rPr b="1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Aşağıdaki varlıklardan dikdörtgenler prizmasına benzeyeni söyleyiniz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755640" y="3716280"/>
            <a:ext cx="78487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kapaklı dolap  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  harf kutusu                  ba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73440" cy="2227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"/>
          <p:cNvPicPr/>
          <p:nvPr/>
        </p:nvPicPr>
        <p:blipFill>
          <a:blip r:embed="rId2"/>
          <a:stretch/>
        </p:blipFill>
        <p:spPr>
          <a:xfrm>
            <a:off x="3635280" y="1844640"/>
            <a:ext cx="2376720" cy="2236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3"/>
          <a:stretch/>
        </p:blipFill>
        <p:spPr>
          <a:xfrm>
            <a:off x="6804000" y="1844640"/>
            <a:ext cx="1728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3300"/>
                </a:solidFill>
                <a:latin typeface="Arial"/>
              </a:rPr>
              <a:t>Aşağıdaki varlıklardan dikdörtgenler prizmasına benzemeyeni söyleyiniz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539640" y="3645000"/>
            <a:ext cx="7848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hediye paketi                 kibrit                       top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11280" y="1987560"/>
            <a:ext cx="2303280" cy="2089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2"/>
          <a:stretch/>
        </p:blipFill>
        <p:spPr>
          <a:xfrm>
            <a:off x="3419640" y="198900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6443640" y="1989000"/>
            <a:ext cx="223200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6600" spc="-1" strike="noStrike">
                <a:solidFill>
                  <a:srgbClr val="000000"/>
                </a:solidFill>
                <a:latin typeface="Arial"/>
              </a:rPr>
              <a:t>Ne Kadar Öğrendik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Küreye benzeyen varlığı söyleyiniz.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83516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Silindire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>
            <a:lum bright="-2000"/>
          </a:blip>
          <a:stretch/>
        </p:blipFill>
        <p:spPr>
          <a:xfrm>
            <a:off x="324000" y="3068640"/>
            <a:ext cx="849600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Küpe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468360" y="2830680"/>
            <a:ext cx="828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Dikdörtgenler prizmasına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468360" y="2924280"/>
            <a:ext cx="8280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1125360"/>
            <a:ext cx="8064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Dikdörtgenler prizmasına benzeyen varlığı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806436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Neye benzediklerini  söyleyiniz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Küreye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4"/>
          <p:cNvSpPr/>
          <p:nvPr/>
        </p:nvSpPr>
        <p:spPr>
          <a:xfrm>
            <a:off x="3492360" y="765000"/>
            <a:ext cx="1871640" cy="185112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1-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Koşan kaç sporcu vardır? </a:t>
            </a:r>
            <a:br>
              <a:rPr sz="4000"/>
            </a:b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2-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Sporcuları sıralayabilir miyiz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820908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Sporcuların sıralarını okuyunu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611280" y="2189160"/>
            <a:ext cx="8137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3300"/>
                </a:solidFill>
                <a:latin typeface="Arial"/>
              </a:rPr>
              <a:t>Aşağıdaki varlıkları inceleyel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484720" cy="2952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276720" y="1628640"/>
            <a:ext cx="2519280" cy="2963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3"/>
          <a:stretch/>
        </p:blipFill>
        <p:spPr>
          <a:xfrm>
            <a:off x="6012000" y="1628640"/>
            <a:ext cx="2520720" cy="2952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687240" y="501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Top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karpuz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portakal </a:t>
            </a:r>
            <a:r>
              <a:rPr b="0" lang="tr-TR" sz="4400" spc="-1" strike="noStrike">
                <a:solidFill>
                  <a:srgbClr val="6666ff"/>
                </a:solidFill>
                <a:latin typeface="Arial"/>
              </a:rPr>
              <a:t>küreye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benzeyen varlıklardı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Çevrenizde küreye benzeyen üç varlık adı söyleyiniz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1:……………….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2:……………….</a:t>
            </a:r>
            <a:br>
              <a:rPr sz="4400"/>
            </a:b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3:……………….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reye benzeyeni söyleyiniz</a:t>
            </a: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165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"/>
          <p:cNvPicPr/>
          <p:nvPr/>
        </p:nvPicPr>
        <p:blipFill>
          <a:blip r:embed="rId2"/>
          <a:stretch/>
        </p:blipFill>
        <p:spPr>
          <a:xfrm>
            <a:off x="3851280" y="2133720"/>
            <a:ext cx="1800360" cy="1603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665440" cy="15825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6"/>
          <p:cNvSpPr/>
          <p:nvPr/>
        </p:nvSpPr>
        <p:spPr>
          <a:xfrm>
            <a:off x="395280" y="4149720"/>
            <a:ext cx="806148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Kitap             top          ka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dan küreye benzemeyeni söyleyiniz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66560" y="2021040"/>
            <a:ext cx="2089440" cy="2041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6588000" y="2046240"/>
            <a:ext cx="2016360" cy="1968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3"/>
          <a:stretch/>
        </p:blipFill>
        <p:spPr>
          <a:xfrm>
            <a:off x="2987640" y="2060640"/>
            <a:ext cx="3097080" cy="1957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395280" y="3860640"/>
            <a:ext cx="83534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Tabak        karpuz           kit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cc"/>
                </a:solidFill>
                <a:latin typeface="Arial"/>
              </a:rPr>
              <a:t>Silindire Benzeyen Varlık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"/>
          <p:cNvSpPr/>
          <p:nvPr/>
        </p:nvSpPr>
        <p:spPr>
          <a:xfrm>
            <a:off x="4067280" y="981000"/>
            <a:ext cx="1150920" cy="1790640"/>
          </a:xfrm>
          <a:prstGeom prst="ca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0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ff3300"/>
                </a:solidFill>
                <a:latin typeface="Arial"/>
              </a:rPr>
              <a:t>Aşağıdaki varlıkları inceleyeli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1800000" cy="2236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3924360" y="1989000"/>
            <a:ext cx="122220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6156360" y="1700280"/>
            <a:ext cx="1368360" cy="22320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6"/>
          <p:cNvSpPr/>
          <p:nvPr/>
        </p:nvSpPr>
        <p:spPr>
          <a:xfrm>
            <a:off x="395280" y="4797360"/>
            <a:ext cx="8497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6666ff"/>
                </a:solidFill>
                <a:latin typeface="Arial"/>
              </a:rPr>
              <a:t>Varil, pil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ve </a:t>
            </a:r>
            <a:r>
              <a:rPr b="0" lang="tr-TR" sz="4000" spc="-1" strike="noStrike">
                <a:solidFill>
                  <a:srgbClr val="6666ff"/>
                </a:solidFill>
                <a:latin typeface="Arial"/>
              </a:rPr>
              <a:t>soba borusu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 gibi varlıklar </a:t>
            </a:r>
            <a:r>
              <a:rPr b="0" lang="tr-TR" sz="4000" spc="-1" strike="noStrike">
                <a:solidFill>
                  <a:srgbClr val="ff33cc"/>
                </a:solidFill>
                <a:latin typeface="Arial"/>
              </a:rPr>
              <a:t>silindir</a:t>
            </a:r>
            <a:r>
              <a:rPr b="0" lang="tr-TR" sz="4000" spc="-1" strike="noStrike">
                <a:solidFill>
                  <a:srgbClr val="000000"/>
                </a:solidFill>
                <a:latin typeface="Arial"/>
              </a:rPr>
              <a:t>e benzeyen varlıklard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95280" y="3789360"/>
            <a:ext cx="849780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tr-TR" sz="4400" spc="-1" strike="noStrike">
                <a:solidFill>
                  <a:srgbClr val="000000"/>
                </a:solidFill>
                <a:latin typeface="Arial"/>
              </a:rPr>
              <a:t>varil              pil    soba borus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29:40Z</dcterms:created>
  <dc:creator>tbbbg</dc:creator>
  <dc:description/>
  <dc:language>en-US</dc:language>
  <cp:lastModifiedBy>hikmet</cp:lastModifiedBy>
  <dcterms:modified xsi:type="dcterms:W3CDTF">2007-08-17T01:46:30Z</dcterms:modified>
  <cp:revision>6</cp:revision>
  <dc:subject/>
  <dc:title>Küreye Benzeyen Varlıklar</dc:title>
</cp:coreProperties>
</file>