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31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0.wmf" ContentType="image/x-wmf"/>
  <Override PartName="/ppt/media/image5.wmf" ContentType="image/x-wmf"/>
  <Override PartName="/ppt/media/image35.wmf" ContentType="image/x-wmf"/>
  <Override PartName="/ppt/media/image11.png" ContentType="image/png"/>
  <Override PartName="/ppt/media/image39.png" ContentType="image/png"/>
  <Override PartName="/ppt/media/image42.wmf" ContentType="image/x-wmf"/>
  <Override PartName="/ppt/media/image40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49.wmf" ContentType="image/x-wmf"/>
  <Override PartName="/ppt/media/image51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43.wmf" ContentType="image/x-wmf"/>
  <Override PartName="/ppt/media/image55.wmf" ContentType="image/x-wmf"/>
  <Override PartName="/ppt/media/image33.png" ContentType="image/png"/>
  <Override PartName="/ppt/media/image32.png" ContentType="image/png"/>
  <Override PartName="/ppt/media/image38.wmf" ContentType="image/x-wmf"/>
  <Override PartName="/ppt/media/image8.wmf" ContentType="image/x-wmf"/>
  <Override PartName="/ppt/media/image53.wmf" ContentType="image/x-wmf"/>
  <Override PartName="/ppt/media/image13.png" ContentType="image/png"/>
  <Override PartName="/ppt/media/image37.wmf" ContentType="image/x-wmf"/>
  <Override PartName="/ppt/media/image7.wmf" ContentType="image/x-wmf"/>
  <Override PartName="/ppt/media/image52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439-93D3-446B-B975-E9108E09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F53-3F86-423B-8B47-034594B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C69-ADC2-47E3-B9AC-7743E2F5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528-0059-45D9-8A81-38F12BE0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EAF-826E-4B6C-8245-4C7327D3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A8E-DFBE-44BD-93C7-7D69F97D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C53-C9B6-404B-9386-C2C0D2E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284-D189-456A-B81D-E6274E72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5A2-3880-47D4-8305-5326DE8A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0E4-F3E1-46E0-AF01-EB0F5A9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887-DCAC-40F8-B07E-965010D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D80-E90A-4CD4-9CA3-FCA8E82C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5F5-3B70-4612-BED2-A3A1823B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550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57200" y="2054160"/>
            <a:ext cx="82296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46320" y="2346480"/>
            <a:ext cx="665136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earliest ti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1863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gorithm Forward 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(0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 = 1 to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(j) = max{ET(i)+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505320" y="1447920"/>
            <a:ext cx="1066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300320" y="2333520"/>
            <a:ext cx="6541920" cy="305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574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303720" cy="51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7239240" cy="3595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5105520" y="5334120"/>
            <a:ext cx="9903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686280" cy="32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51936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118640" cy="363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5427720" cy="998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952880" y="5562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162920" y="243828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580080" cy="355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4095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Network A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44680" y="1757520"/>
            <a:ext cx="8054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300320" y="2049480"/>
            <a:ext cx="65433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257800" y="518148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41306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263600" y="2081160"/>
            <a:ext cx="6615000" cy="35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405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353960" y="2089080"/>
            <a:ext cx="6434280" cy="3546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5334120" y="5181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543800" y="2057400"/>
            <a:ext cx="3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69390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084320" y="2062080"/>
            <a:ext cx="697536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543800" y="312408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5570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91320" cy="3209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the earliest time for completion of the project (event #8) is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(i) : latest time at which event i can occur if the project is to be completed in minimum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gorithm Backward P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(n) = ET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 = n-1, n-2, …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(i) = min{LT(j) – d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4038480" cy="1863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581280" y="3657600"/>
            <a:ext cx="1067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267000" cy="62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227240" y="2270160"/>
            <a:ext cx="6688080" cy="3186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4952880" y="51055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095720" cy="54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209600" y="2282760"/>
            <a:ext cx="672300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022640" cy="53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467480" cy="3519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5181480" y="52578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951360" cy="46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155600" y="2189160"/>
            <a:ext cx="6831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78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vity B cannot begin until activity A has been compl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vity A i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decessor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of activity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vity B i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ccessor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of activity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425920" cy="981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391520" cy="3558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952880" y="51814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7702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228680" y="2282760"/>
            <a:ext cx="6686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319720" cy="96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209600" y="2255760"/>
            <a:ext cx="6723000" cy="321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4952880" y="52578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283360" cy="105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228680" y="2098800"/>
            <a:ext cx="6686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283360" cy="94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1047600" y="2120760"/>
            <a:ext cx="7047000" cy="3483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105520" y="51055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62120" y="5562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LT(0)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≠ 0, then an error was mad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ach activity def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57200" y="2178000"/>
            <a:ext cx="82296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ach activity, defin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817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17600" y="3044880"/>
            <a:ext cx="83073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otal float of an activity is ze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= L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01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038840" cy="140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nly one activity is allowed between two vertices, dummy activities may be defined if necessary (with zero d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1911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1947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predecessors of C, but only B is a predecessor of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951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beginning of the project be the event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end of the project be the event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(i) : the length of the longest path from event 0 to event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oject begin at time zero, activity (i,j) can be scheduled to start as early as (but no earlier than) time ET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(n): minimum project d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nvenient to labeling event (vertices) of the project network so that i &lt; j if (i , j) is a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0 : let j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: find a vertex without an unlabeled predecessor. If none, quit. Else label this vertex ‘j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 : increment j by 1 and go to step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826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962520" y="525780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2021040"/>
            <a:ext cx="82296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14:58Z</dcterms:created>
  <dc:creator>User</dc:creator>
  <dc:description/>
  <dc:language>en-US</dc:language>
  <cp:lastModifiedBy>Compaq</cp:lastModifiedBy>
  <dcterms:modified xsi:type="dcterms:W3CDTF">2011-10-11T02:15:48Z</dcterms:modified>
  <cp:revision>10</cp:revision>
  <dc:subject/>
  <dc:title>Slide 1</dc:title>
</cp:coreProperties>
</file>