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31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19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24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27.wmf" ContentType="image/x-wmf"/>
  <Override PartName="/ppt/media/image4.wmf" ContentType="image/x-wmf"/>
  <Override PartName="/ppt/media/image10.png" ContentType="image/png"/>
  <Override PartName="/ppt/media/image50.wmf" ContentType="image/x-wmf"/>
  <Override PartName="/ppt/media/image5.wmf" ContentType="image/x-wmf"/>
  <Override PartName="/ppt/media/image35.wmf" ContentType="image/x-wmf"/>
  <Override PartName="/ppt/media/image11.png" ContentType="image/png"/>
  <Override PartName="/ppt/media/image39.png" ContentType="image/png"/>
  <Override PartName="/ppt/media/image42.wmf" ContentType="image/x-wmf"/>
  <Override PartName="/ppt/media/image40.wmf" ContentType="image/x-wmf"/>
  <Override PartName="/ppt/media/image44.wmf" ContentType="image/x-wmf"/>
  <Override PartName="/ppt/media/image34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48.wmf" ContentType="image/x-wmf"/>
  <Override PartName="/ppt/media/image30.png" ContentType="image/png"/>
  <Override PartName="/ppt/media/image49.wmf" ContentType="image/x-wmf"/>
  <Override PartName="/ppt/media/image51.png" ContentType="image/png"/>
  <Override PartName="/ppt/media/image41.png" ContentType="image/png"/>
  <Override PartName="/ppt/media/image9.wmf" ContentType="image/x-wmf"/>
  <Override PartName="/ppt/media/image14.png" ContentType="image/png"/>
  <Override PartName="/ppt/media/image43.wmf" ContentType="image/x-wmf"/>
  <Override PartName="/ppt/media/image55.wmf" ContentType="image/x-wmf"/>
  <Override PartName="/ppt/media/image33.png" ContentType="image/png"/>
  <Override PartName="/ppt/media/image32.png" ContentType="image/png"/>
  <Override PartName="/ppt/media/image38.wmf" ContentType="image/x-wmf"/>
  <Override PartName="/ppt/media/image8.wmf" ContentType="image/x-wmf"/>
  <Override PartName="/ppt/media/image53.wmf" ContentType="image/x-wmf"/>
  <Override PartName="/ppt/media/image13.png" ContentType="image/png"/>
  <Override PartName="/ppt/media/image37.wmf" ContentType="image/x-wmf"/>
  <Override PartName="/ppt/media/image7.wmf" ContentType="image/x-wmf"/>
  <Override PartName="/ppt/media/image52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241D-0A84-4BAC-9071-4A2F3AAD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AE9D-66D0-4EDA-A719-F2DDFADEF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C818-8BA7-419B-A0C4-57D4ECEF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0E7-8BEF-41FA-B7CA-2F44580C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6F81-695A-4BB1-8FEE-E2566633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282-BBCA-464A-A4B3-DB550DDE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FC9-4A63-44E1-9811-4F839762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A9FC-4CBF-43F1-9B49-3E1B957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7F71-E5A3-4385-9EB4-201E7CA4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453-ADD9-40A5-8104-F07D68C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6F8-9942-46B6-B3EE-C8DBEB43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7D9-7A2D-40D2-81D1-C1A7F1FB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B001-776F-44F3-8A81-D522B1221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55000" cy="36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457200" y="2054160"/>
            <a:ext cx="82296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sult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246320" y="2346480"/>
            <a:ext cx="665136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ing earliest ti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ward P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038480" cy="1863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gorithm Forward Pa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(0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j = 1 to 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(j) = max{ET(i)+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505320" y="1447920"/>
            <a:ext cx="1066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300320" y="2333520"/>
            <a:ext cx="6541920" cy="3059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33520" y="1600200"/>
            <a:ext cx="157464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303720" cy="51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838080" y="2362320"/>
            <a:ext cx="7239240" cy="35956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5105520" y="5334120"/>
            <a:ext cx="99036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6686280" cy="3257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519360" cy="63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38080" y="2438280"/>
            <a:ext cx="7118640" cy="3635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5427720" cy="998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4952880" y="5562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7162920" y="243828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580080" cy="3554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457200" y="1219320"/>
            <a:ext cx="4095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Network A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44680" y="1757520"/>
            <a:ext cx="805464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300320" y="2049480"/>
            <a:ext cx="6543360" cy="36273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5257800" y="5181480"/>
            <a:ext cx="9907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33520" y="1447920"/>
            <a:ext cx="413064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1263600" y="2081160"/>
            <a:ext cx="6615000" cy="356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4059360" cy="54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353960" y="2089080"/>
            <a:ext cx="6434280" cy="3546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5334120" y="51814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543800" y="2057400"/>
            <a:ext cx="304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693900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084320" y="2062080"/>
            <a:ext cx="6975360" cy="36003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5"/>
          <p:cNvSpPr/>
          <p:nvPr/>
        </p:nvSpPr>
        <p:spPr>
          <a:xfrm>
            <a:off x="7543800" y="312408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457200" y="762120"/>
            <a:ext cx="55706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791320" cy="3209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o the earliest time for completion of the project (event #8) is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i) : latest time at which event i can occur if the project is to be completed in minimum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gorithm Backward Pa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n) = ET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 = n-1, n-2, …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T(i) = min{LT(j) – d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57200" y="3809880"/>
            <a:ext cx="4038480" cy="18637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3581280" y="3657600"/>
            <a:ext cx="1067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3267000" cy="621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1227240" y="2270160"/>
            <a:ext cx="6688080" cy="3186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4952880" y="51055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4095720" cy="549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1209600" y="2282760"/>
            <a:ext cx="672300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4022640" cy="53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990720" y="1981080"/>
            <a:ext cx="7467480" cy="351972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5181480" y="5257800"/>
            <a:ext cx="990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3951360" cy="468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"/>
          <p:cNvPicPr/>
          <p:nvPr/>
        </p:nvPicPr>
        <p:blipFill>
          <a:blip r:embed="rId2"/>
          <a:stretch/>
        </p:blipFill>
        <p:spPr>
          <a:xfrm>
            <a:off x="1155600" y="2189160"/>
            <a:ext cx="683100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4038480" cy="780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B cannot begin until activity A has been compl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A i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edecessor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of activity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vity B is a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ccessor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of activity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425920" cy="981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391520" cy="35589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6"/>
          <p:cNvSpPr/>
          <p:nvPr/>
        </p:nvSpPr>
        <p:spPr>
          <a:xfrm>
            <a:off x="4952880" y="51814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3770280" cy="46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1228680" y="2282760"/>
            <a:ext cx="668664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5319720" cy="963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1209600" y="2255760"/>
            <a:ext cx="6723000" cy="3213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4952880" y="525780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283360" cy="1052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1228680" y="2098800"/>
            <a:ext cx="66866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5283360" cy="94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2"/>
          <a:stretch/>
        </p:blipFill>
        <p:spPr>
          <a:xfrm>
            <a:off x="1047600" y="2120760"/>
            <a:ext cx="7047000" cy="3483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5105520" y="5105520"/>
            <a:ext cx="914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762120" y="55627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If LT(0)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  <a:ea typeface="Arial"/>
              </a:rPr>
              <a:t>≠ 0, then an error was mad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activity defin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457200" y="2178000"/>
            <a:ext cx="82296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activity, define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817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417600" y="3044880"/>
            <a:ext cx="830736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ical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total float of an activity is zer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 = L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701028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4038840" cy="140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nly one activity is allowed between two vertices, dummy activities may be defined if necessary (with zero du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2"/>
          <a:stretch/>
        </p:blipFill>
        <p:spPr>
          <a:xfrm>
            <a:off x="228600" y="3429000"/>
            <a:ext cx="41911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3505320" cy="1947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and B are predecessors of C, but only B is a predecessor of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80880" y="3733920"/>
            <a:ext cx="395136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beginning of the project be the event 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the end of the project be the event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(i) : the length of the longest path from event 0 to event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roject begin at time zero, activity (i,j) can be scheduled to start as early as (but no earlier than) time ET(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(n): minimum project du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ing Ev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nvenient to labeling event (vertices) of the project network so that i &lt; j if (i , j) is an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0 : let j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1 : find a vertex without an unlabeled predecessor. If none, quit. Else label this vertex ‘j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2 : increment j by 1 and go to step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200" y="1949400"/>
            <a:ext cx="8229600" cy="382608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3962520" y="5257800"/>
            <a:ext cx="12189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d-ID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57200" y="2021040"/>
            <a:ext cx="822960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04:14:58Z</dcterms:created>
  <dc:creator>User</dc:creator>
  <dc:description/>
  <dc:language>en-US</dc:language>
  <cp:lastModifiedBy>Compaq</cp:lastModifiedBy>
  <dcterms:modified xsi:type="dcterms:W3CDTF">2011-10-11T02:15:48Z</dcterms:modified>
  <cp:revision>10</cp:revision>
  <dc:subject/>
  <dc:title>Slide 1</dc:title>
</cp:coreProperties>
</file>