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7F6C-835E-4927-87EA-A095F257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1FEC-8560-4E01-8682-976F6358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4D16-4703-495C-B40D-BFE968F9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8F65-28E2-4CAC-95D6-C795B206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F1C0-71EB-461A-84A7-AD8F7A6B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3558-531B-4989-A0E6-0F0A597F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44DF-2E9B-4694-BDA4-1C36095D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FC2F-7599-44F6-9559-209E4D93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370C-9D09-4F32-BD49-66886CF1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2902-7FC9-4138-BE3A-AEE1A0CB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7AC0-036D-4DDB-9DF0-AF8E2B76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58FC-78EA-4CED-BB55-28C03653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A35B-FD60-42A7-802B-3F22DF33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9E37-D2F8-4DBE-954F-4D4BE524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6B07-B239-4D88-B5C0-85FC188F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34B9-89C1-4EB6-AE99-49B5A140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1CD8-DB6B-40DD-9EEE-8353B39C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1320-7DC7-4F5C-B01C-6FB2D74A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0140-151C-4ACD-88AA-25919641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C581-4AA4-41B4-9148-59F27E80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A8AB-107B-4678-965D-530217AF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20B7-4B0A-4208-86A9-FE21882E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4BA9-D4F7-4030-B0DB-C6016421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BE07-F06B-4B7E-BC47-03EAA0DA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03BF-3152-4836-8CEE-1C1B006FA0E0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0E7E-2F52-44C4-8709-EFEA12A6C4ED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Um computador com o Windows XP perdeu as configuração de associação de arquivo e aplicações. Indique que aplicativo deve ser associado às seguintes extensões respectivamente.</a:t>
            </a:r>
            <a:br>
              <a:rPr sz="24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DOC - EXE - XLS MP3 - PDF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052440"/>
            <a:ext cx="822960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a)Word-Nenhum-Excel-Media Player-Acrobat Rea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b)Bloco de Notas-Acrobat Reader-Exchange-Excel-Pai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)Acrobat Reader-Excel-Nenhum-Word-Outloo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d)Outlook-Excel-Media Player-Word-Bloco de Notas.     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No ambiente Windows ®, para acessar as propriedades de vídeo, entre as quais se encontra Resolução da Tela, o caminho é descrito da seguinte forma: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a)Painel de Controle -&gt; Ferramentas Administrativas -&gt; Configuraçõ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b)Painel de Controle -&gt; Vídeo -&gt; Configurações -&gt; Configuraçõ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c)Painel de Controle -&gt; Opções de Pasta -&gt; Configuraçõ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d)Painel de Controle -&gt; Opções de Acessabilidade -&gt; Configuraçõ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Uma das tarefas mais comuns no dia a dia do uso do computador é o COPIAR e COLAR, que se encontram no menu EDITAR de praticamente todas as aplicações. Indique qual é o atalho das mesmas.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)CTRL-C e CTRL-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)CTRL-C e CTRL-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)ALT-C e ALT-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)ALT-C e ALT-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Uma "Tabela" do Word 2000 tem como principal função: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)Cálculos baseados em linhas e colunas e suas interações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)Criação de uma estrutura de banco de dados do Access 2000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)Organizar colunas de números ou texto sem o uso de tabulação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)Nenhuma das anterio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o usar um processador de texto, o que significa “Capitular”?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)Criar letras grandes no início do(s) parágrafo(s), destacando a letra ou parágrafo do corpo do text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)Criar uma seqüência automática e lógica de capítul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)Rever um trecho do texto marcado anteriorment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)Marcar as páginas selecionadas com o número do respectivo capítul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Assinale a alternativa que representa o resultado obtido dos recursos “copiar” e “colar”, quando aplicados em seqüência em um texto selecionado de um documento do Word: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)Eliminam o texto seleciona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)Reproduzem o texto selecionado em outro local do documento, mantendo-o no local original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)Reproduzem o texto selecionado em outro local do documento, eliminando-o do local original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)Alteram a formatação do texto seleciona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0 formato padrão dos arquivos gerados pelo Word é: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a)tx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b)d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c)x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d)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1 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2 B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3 b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4 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5 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6 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7 b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8 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9 c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10 b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11 b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12 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13 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14 b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Para visualizar na tela do computador um texto do Word escrito no estilo “Colunas de Jornal” deve-se escolher o modo de exibição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: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a)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norm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b)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bás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c)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layout da We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d)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layout de impressã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obre o Word, não é correto afirmar que a opção: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)Fonte no menu Formatar permite alterar as características das letras tais como: tipo, tamanhos cor e efeitos como sublinhado, negrito, tachado, e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)Parágrafo no menu Formatar permite alterar as características dos parágrafos tais como.: alinhamento, recuo e espaçamen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)Marcadores e Numeração no menu Formatar permite adicionar marcadores e números aos parágrafos selecionados e modifica o formato da numeração e da marcaçã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)Estrutura do Documento no menu Formatar permite editar a Estrutura do Documen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No Word, para que possamos elaborar um documento onde teremos cabeçalhos e rodapés diferentes na primeira página devemos configurar em: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8229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)Arquivo/Configurar pági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)Formatar/Parágrafo/Configur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ágina. c)Exibir/Layout de impressã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)Exibir/Cabeçalho e rodap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Ao inserir na tela do Word 7.0, os campos para digitar cabeçalhos e rodapés, o texto passará a ser exibido no modo;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Norm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Tópic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Layout da pági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)Documento mest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 formato padrão dos arquivos gerados pelo Bloco de Notas é: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a)rt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b)tx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c)bd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d)O Bloco de Notas não gera arquiv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5ffff"/>
                </a:solidFill>
                <a:latin typeface="Tahoma"/>
              </a:rPr>
              <a:t>No menu Formatar/Fonte do Word temos o item Keming. Este item permite controlar o(a) :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recuo em relação à margem esquerd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posição do texto em relação à linha de 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expande ou condensa a distancia entre as linh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)quantidade de espaço entre certas combinações de caracteres, de forma que toda a palavra pareça espaçada mais uniformement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arque a alternativa incorreta sobre a impressão de documentos no Microsoft Word2000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)Permite imprimir intervalos de páginas, uma alternativa a imprimir todas as páginas de um docum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)Permite imprimir apenas a página correntemente visualizada, sem necessidade de outro meio para explicitar qual é essa págin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)Para imprimir várias cópias de um documento, deve-se pressionar a tecla CTRL juntamente com a tecla P para cada cópia desejad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)Ao imprimir duas cópias de um documento com três páginas estas podem ser impressas nas seguintes seqüências: 1, 2, 3, 1, 2, 3 ou 1, 1, 2, 2, 3, 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8:35Z</dcterms:created>
  <dc:creator>Futura</dc:creator>
  <dc:description/>
  <dc:language>en-US</dc:language>
  <cp:lastModifiedBy>FUTURA INFORMATICA</cp:lastModifiedBy>
  <dcterms:modified xsi:type="dcterms:W3CDTF">2007-05-13T11:37:14Z</dcterms:modified>
  <cp:revision>5</cp:revision>
  <dc:subject/>
  <dc:title>Um computador com o Windows XP perdeu as configuração de associação de arquivo e aplicações. Indique que aplicativo deve ser associado às seguintes extensões respectivamente. DOC - EXE - XLS MP3 - PDF</dc:title>
</cp:coreProperties>
</file>