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7B4-2B25-499D-9578-6F5815DB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D09-A94D-4067-AAE7-5950B0C1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EB3-7FBC-49F7-9713-42AF9367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1BC-60BB-46DE-BE07-AAAB6FBD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CC7C-CE79-4D8A-ABD0-F90349F1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F4AC-017C-4FF5-BF9A-FB0B7D72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2A67-986A-4108-97EC-8A2FB941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FA5A-D266-4D98-A018-4C6F98AE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87B0-9B98-4170-8F14-C28E6E2E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AEA9-37A3-4E7B-92DC-C0DA08A4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BE05-D77A-4C4E-9615-2909831C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B5B-2A8E-4E6A-A30A-24DD9C1F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DA60-627A-4735-87F2-B94919AB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2217-8539-436C-BEBD-4493A30C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489D-E9C5-475A-B8A3-7D39E6BC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5999-C479-49DB-A5E7-BABE2F9E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AD3E-6605-45E7-A6AE-F8418D61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81B-FBF3-4CE1-A71F-A1FF1390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838-7EE0-4070-9C94-1EEEDA7C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FEE-608B-4211-8E17-1F7D1F85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42D-C0A9-4C59-BF48-AB4047E8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536-9805-452C-9E7E-62BFFC42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069-86B6-42E2-85E0-D1955A8A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C63-338F-4EF3-B52E-B736E8B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6FC5-4B80-4471-BFD6-48D1D1840FB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7A46-51FD-47E4-8570-18FBCE6717B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Um computador com o Windows XP perdeu as configuração de associação de arquivo e aplicações. Indique que aplicativo deve ser associado às seguintes extensões respectivamente.</a:t>
            </a:r>
            <a:br>
              <a:rPr sz="2400"/>
            </a:b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DOC - EXE - XLS MP3 - PDF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052440"/>
            <a:ext cx="822960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)Word-Nenhum-Excel-Media Player-Acrobat Rea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b)Bloco de Notas-Acrobat Reader-Exchange-Excel-Pai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c)Acrobat Reader-Excel-Nenhum-Word-Outloo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d)Outlook-Excel-Media Player-Word-Bloco de Notas.     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No ambiente Windows ®, para acessar as propriedades de vídeo, entre as quais se encontra Resolução da Tela, o caminho é descrito da seguinte forma: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a)Painel de Controle -&gt; Ferramentas Administrativas -&gt; Configura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b)Painel de Controle -&gt; Vídeo -&gt; Configurações -&gt; Configura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c)Painel de Controle -&gt; Opções de Pasta -&gt; Configura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d)Painel de Controle -&gt; Opções de Acessabilidade -&gt; Configuraçõ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Uma das tarefas mais comuns no dia a dia do uso do computador é o COPIAR e COLAR, que se encontram no menu EDITAR de praticamente todas as aplicações. Indique qual é o atalho das mesmas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)CTRL-C e CTRL-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)CTRL-C e CTRL-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)ALT-C e ALT-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)ALT-C e ALT-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ma "Tabela" do Word 2000 tem como principal função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)Cálculos baseados em linhas e colunas e suas interaçõe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)Criação de uma estrutura de banco de dados do Access 200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)Organizar colunas de números ou texto sem o uso de tabulação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)Nenhuma das anteri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o usar um processador de texto, o que significa “Capitular”?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)Criar letras grandes no início do(s) parágrafo(s), destacando a letra ou parágrafo do corpo do tex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)Criar uma seqüência automática e lógica de capítul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)Rever um trecho do texto marcado anteriormen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)Marcar as páginas selecionadas com o número do respectivo capítul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Assinale a alternativa que representa o resultado obtido dos recursos “copiar” e “colar”, quando aplicados em seqüência em um texto selecionado de um documento do Word: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)Eliminam o texto seleciona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)Reproduzem o texto selecionado em outro local do documento, mantendo-o no local original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)Reproduzem o texto selecionado em outro local do documento, eliminando-o do local original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)Alteram a formatação do texto seleciona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0 formato padrão dos arquivos gerados pelo Word é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)t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b)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c)x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d)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1 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2 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3 b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4 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5 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6 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7 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8 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9 c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10 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11 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12 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13 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14 b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Para visualizar na tela do computador um texto do Word escrito no estilo “Colunas de Jornal” deve-se escolher o modo de exibição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nor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b)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bás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)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layout da We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d)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layout de impressã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bre o Word, não é correto afirmar que a opção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)Fonte no menu Formatar permite alterar as características das letras tais como: tipo, tamanhos cor e efeitos como sublinhado, negrito, tachado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)Parágrafo no menu Formatar permite alterar as características dos parágrafos tais como.: alinhamento, recuo e espaça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)Marcadores e Numeração no menu Formatar permite adicionar marcadores e números aos parágrafos selecionados e modifica o formato da numeração e da marc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)Estrutura do Documento no menu Formatar permite editar a Estrutura do Docu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No Word, para que possamos elaborar um documento onde teremos cabeçalhos e rodapés diferentes na primeira página devemos configurar em: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68360"/>
            <a:ext cx="82296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)Arquivo/Configurar pág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)Formatar/Parágrafo/Configur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ágina. c)Exibir/Layout de impressã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)Exibir/Cabeçalho e rodap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Ao inserir na tela do Word 7.0, os campos para digitar cabeçalhos e rodapés, o texto passará a ser exibido no modo;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)Nor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)Tópic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)Layout da pág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)Documento mest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 formato padrão dos arquivos gerados pelo Bloco de Notas é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a)rt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b)t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c)bd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d)O Bloco de Notas não gera arqu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No menu Formatar/Fonte do Word temos o item Keming. Este item permite controlar o(a)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recuo em relação à margem esquerd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posição do texto em relação à linha de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expande ou condensa a distancia entre as linh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quantidade de espaço entre certas combinações de caracteres, de forma que toda a palavra pareça espaçada mais uniformemen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arque a alternativa incorreta sobre a impressão de documentos no Microsoft Word2000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Permite imprimir intervalos de páginas, uma alternativa a imprimir todas as páginas de um docu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)Permite imprimir apenas a página correntemente visualizada, sem necessidade de outro meio para explicitar qual é essa pági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)Para imprimir várias cópias de um documento, deve-se pressionar a tecla CTRL juntamente com a tecla P para cada cópia deseja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)Ao imprimir duas cópias de um documento com três páginas estas podem ser impressas nas seguintes seqüências: 1, 2, 3, 1, 2, 3 ou 1, 1, 2, 2, 3, 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8:35Z</dcterms:created>
  <dc:creator>Futura</dc:creator>
  <dc:description/>
  <dc:language>en-US</dc:language>
  <cp:lastModifiedBy>FUTURA INFORMATICA</cp:lastModifiedBy>
  <dcterms:modified xsi:type="dcterms:W3CDTF">2007-05-13T11:37:14Z</dcterms:modified>
  <cp:revision>5</cp:revision>
  <dc:subject/>
  <dc:title>Um computador com o Windows XP perdeu as configuração de associação de arquivo e aplicações. Indique que aplicativo deve ser associado às seguintes extensões respectivamente. DOC - EXE - XLS MP3 - PDF</dc:title>
</cp:coreProperties>
</file>