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0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5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0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5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001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0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0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-228600"/>
            <a:ext cx="339840" cy="3127320"/>
          </a:xfrm>
          <a:custGeom>
            <a:avLst/>
            <a:gdLst/>
            <a:ahLst/>
            <a:rect l="l" t="t" r="r" b="b"/>
            <a:pathLst>
              <a:path w="241" h="1970">
                <a:moveTo>
                  <a:pt x="25" y="0"/>
                </a:moveTo>
                <a:lnTo>
                  <a:pt x="32" y="25"/>
                </a:lnTo>
                <a:lnTo>
                  <a:pt x="39" y="54"/>
                </a:lnTo>
                <a:lnTo>
                  <a:pt x="44" y="79"/>
                </a:lnTo>
                <a:lnTo>
                  <a:pt x="46" y="107"/>
                </a:lnTo>
                <a:lnTo>
                  <a:pt x="50" y="161"/>
                </a:lnTo>
                <a:lnTo>
                  <a:pt x="50" y="211"/>
                </a:lnTo>
                <a:lnTo>
                  <a:pt x="46" y="265"/>
                </a:lnTo>
                <a:lnTo>
                  <a:pt x="40" y="318"/>
                </a:lnTo>
                <a:lnTo>
                  <a:pt x="33" y="372"/>
                </a:lnTo>
                <a:lnTo>
                  <a:pt x="25" y="425"/>
                </a:lnTo>
                <a:lnTo>
                  <a:pt x="17" y="476"/>
                </a:lnTo>
                <a:lnTo>
                  <a:pt x="10" y="529"/>
                </a:lnTo>
                <a:lnTo>
                  <a:pt x="4" y="583"/>
                </a:lnTo>
                <a:lnTo>
                  <a:pt x="0" y="636"/>
                </a:lnTo>
                <a:lnTo>
                  <a:pt x="0" y="687"/>
                </a:lnTo>
                <a:lnTo>
                  <a:pt x="4" y="740"/>
                </a:lnTo>
                <a:lnTo>
                  <a:pt x="6" y="769"/>
                </a:lnTo>
                <a:lnTo>
                  <a:pt x="11" y="794"/>
                </a:lnTo>
                <a:lnTo>
                  <a:pt x="18" y="822"/>
                </a:lnTo>
                <a:lnTo>
                  <a:pt x="25" y="847"/>
                </a:lnTo>
                <a:lnTo>
                  <a:pt x="32" y="873"/>
                </a:lnTo>
                <a:lnTo>
                  <a:pt x="39" y="901"/>
                </a:lnTo>
                <a:lnTo>
                  <a:pt x="44" y="926"/>
                </a:lnTo>
                <a:lnTo>
                  <a:pt x="46" y="951"/>
                </a:lnTo>
                <a:lnTo>
                  <a:pt x="50" y="1005"/>
                </a:lnTo>
                <a:lnTo>
                  <a:pt x="50" y="1059"/>
                </a:lnTo>
                <a:lnTo>
                  <a:pt x="46" y="1112"/>
                </a:lnTo>
                <a:lnTo>
                  <a:pt x="40" y="1162"/>
                </a:lnTo>
                <a:lnTo>
                  <a:pt x="33" y="1216"/>
                </a:lnTo>
                <a:lnTo>
                  <a:pt x="25" y="1270"/>
                </a:lnTo>
                <a:lnTo>
                  <a:pt x="17" y="1323"/>
                </a:lnTo>
                <a:lnTo>
                  <a:pt x="10" y="1377"/>
                </a:lnTo>
                <a:lnTo>
                  <a:pt x="4" y="1427"/>
                </a:lnTo>
                <a:lnTo>
                  <a:pt x="0" y="1481"/>
                </a:lnTo>
                <a:lnTo>
                  <a:pt x="0" y="1534"/>
                </a:lnTo>
                <a:lnTo>
                  <a:pt x="4" y="1588"/>
                </a:lnTo>
                <a:lnTo>
                  <a:pt x="6" y="1613"/>
                </a:lnTo>
                <a:lnTo>
                  <a:pt x="11" y="1638"/>
                </a:lnTo>
                <a:lnTo>
                  <a:pt x="18" y="1667"/>
                </a:lnTo>
                <a:lnTo>
                  <a:pt x="25" y="1692"/>
                </a:lnTo>
                <a:lnTo>
                  <a:pt x="215" y="1969"/>
                </a:lnTo>
                <a:lnTo>
                  <a:pt x="207" y="1944"/>
                </a:lnTo>
                <a:lnTo>
                  <a:pt x="202" y="1915"/>
                </a:lnTo>
                <a:lnTo>
                  <a:pt x="197" y="1890"/>
                </a:lnTo>
                <a:lnTo>
                  <a:pt x="193" y="1862"/>
                </a:lnTo>
                <a:lnTo>
                  <a:pt x="190" y="1808"/>
                </a:lnTo>
                <a:lnTo>
                  <a:pt x="190" y="1758"/>
                </a:lnTo>
                <a:lnTo>
                  <a:pt x="193" y="1704"/>
                </a:lnTo>
                <a:lnTo>
                  <a:pt x="199" y="1651"/>
                </a:lnTo>
                <a:lnTo>
                  <a:pt x="207" y="1597"/>
                </a:lnTo>
                <a:lnTo>
                  <a:pt x="215" y="1547"/>
                </a:lnTo>
                <a:lnTo>
                  <a:pt x="223" y="1493"/>
                </a:lnTo>
                <a:lnTo>
                  <a:pt x="230" y="1440"/>
                </a:lnTo>
                <a:lnTo>
                  <a:pt x="236" y="1386"/>
                </a:lnTo>
                <a:lnTo>
                  <a:pt x="239" y="1333"/>
                </a:lnTo>
                <a:lnTo>
                  <a:pt x="240" y="1282"/>
                </a:lnTo>
                <a:lnTo>
                  <a:pt x="237" y="1229"/>
                </a:lnTo>
                <a:lnTo>
                  <a:pt x="233" y="1200"/>
                </a:lnTo>
                <a:lnTo>
                  <a:pt x="229" y="1175"/>
                </a:lnTo>
                <a:lnTo>
                  <a:pt x="222" y="1147"/>
                </a:lnTo>
                <a:lnTo>
                  <a:pt x="215" y="1122"/>
                </a:lnTo>
                <a:lnTo>
                  <a:pt x="207" y="1096"/>
                </a:lnTo>
                <a:lnTo>
                  <a:pt x="202" y="1068"/>
                </a:lnTo>
                <a:lnTo>
                  <a:pt x="197" y="1043"/>
                </a:lnTo>
                <a:lnTo>
                  <a:pt x="193" y="1018"/>
                </a:lnTo>
                <a:lnTo>
                  <a:pt x="190" y="964"/>
                </a:lnTo>
                <a:lnTo>
                  <a:pt x="190" y="910"/>
                </a:lnTo>
                <a:lnTo>
                  <a:pt x="193" y="857"/>
                </a:lnTo>
                <a:lnTo>
                  <a:pt x="199" y="807"/>
                </a:lnTo>
                <a:lnTo>
                  <a:pt x="207" y="753"/>
                </a:lnTo>
                <a:lnTo>
                  <a:pt x="215" y="699"/>
                </a:lnTo>
                <a:lnTo>
                  <a:pt x="223" y="646"/>
                </a:lnTo>
                <a:lnTo>
                  <a:pt x="230" y="592"/>
                </a:lnTo>
                <a:lnTo>
                  <a:pt x="236" y="542"/>
                </a:lnTo>
                <a:lnTo>
                  <a:pt x="239" y="488"/>
                </a:lnTo>
                <a:lnTo>
                  <a:pt x="240" y="435"/>
                </a:lnTo>
                <a:lnTo>
                  <a:pt x="237" y="381"/>
                </a:lnTo>
                <a:lnTo>
                  <a:pt x="233" y="356"/>
                </a:lnTo>
                <a:lnTo>
                  <a:pt x="229" y="331"/>
                </a:lnTo>
                <a:lnTo>
                  <a:pt x="222" y="302"/>
                </a:lnTo>
                <a:lnTo>
                  <a:pt x="215" y="277"/>
                </a:lnTo>
                <a:lnTo>
                  <a:pt x="25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f3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03040" y="73080"/>
            <a:ext cx="341640" cy="4502160"/>
          </a:xfrm>
          <a:custGeom>
            <a:avLst/>
            <a:gdLst/>
            <a:ahLst/>
            <a:rect l="l" t="t" r="r" b="b"/>
            <a:pathLst>
              <a:path w="242" h="2836">
                <a:moveTo>
                  <a:pt x="25" y="0"/>
                </a:moveTo>
                <a:lnTo>
                  <a:pt x="33" y="37"/>
                </a:lnTo>
                <a:lnTo>
                  <a:pt x="39" y="78"/>
                </a:lnTo>
                <a:lnTo>
                  <a:pt x="44" y="115"/>
                </a:lnTo>
                <a:lnTo>
                  <a:pt x="47" y="152"/>
                </a:lnTo>
                <a:lnTo>
                  <a:pt x="49" y="189"/>
                </a:lnTo>
                <a:lnTo>
                  <a:pt x="50" y="231"/>
                </a:lnTo>
                <a:lnTo>
                  <a:pt x="51" y="267"/>
                </a:lnTo>
                <a:lnTo>
                  <a:pt x="50" y="304"/>
                </a:lnTo>
                <a:lnTo>
                  <a:pt x="49" y="341"/>
                </a:lnTo>
                <a:lnTo>
                  <a:pt x="47" y="383"/>
                </a:lnTo>
                <a:lnTo>
                  <a:pt x="41" y="456"/>
                </a:lnTo>
                <a:lnTo>
                  <a:pt x="33" y="535"/>
                </a:lnTo>
                <a:lnTo>
                  <a:pt x="25" y="609"/>
                </a:lnTo>
                <a:lnTo>
                  <a:pt x="17" y="687"/>
                </a:lnTo>
                <a:lnTo>
                  <a:pt x="9" y="761"/>
                </a:lnTo>
                <a:lnTo>
                  <a:pt x="4" y="839"/>
                </a:lnTo>
                <a:lnTo>
                  <a:pt x="2" y="876"/>
                </a:lnTo>
                <a:lnTo>
                  <a:pt x="0" y="913"/>
                </a:lnTo>
                <a:lnTo>
                  <a:pt x="0" y="954"/>
                </a:lnTo>
                <a:lnTo>
                  <a:pt x="0" y="991"/>
                </a:lnTo>
                <a:lnTo>
                  <a:pt x="2" y="1028"/>
                </a:lnTo>
                <a:lnTo>
                  <a:pt x="4" y="1065"/>
                </a:lnTo>
                <a:lnTo>
                  <a:pt x="7" y="1106"/>
                </a:lnTo>
                <a:lnTo>
                  <a:pt x="12" y="1143"/>
                </a:lnTo>
                <a:lnTo>
                  <a:pt x="18" y="1180"/>
                </a:lnTo>
                <a:lnTo>
                  <a:pt x="25" y="1217"/>
                </a:lnTo>
                <a:lnTo>
                  <a:pt x="33" y="1254"/>
                </a:lnTo>
                <a:lnTo>
                  <a:pt x="39" y="1295"/>
                </a:lnTo>
                <a:lnTo>
                  <a:pt x="44" y="1332"/>
                </a:lnTo>
                <a:lnTo>
                  <a:pt x="47" y="1369"/>
                </a:lnTo>
                <a:lnTo>
                  <a:pt x="49" y="1411"/>
                </a:lnTo>
                <a:lnTo>
                  <a:pt x="50" y="1448"/>
                </a:lnTo>
                <a:lnTo>
                  <a:pt x="51" y="1484"/>
                </a:lnTo>
                <a:lnTo>
                  <a:pt x="50" y="1526"/>
                </a:lnTo>
                <a:lnTo>
                  <a:pt x="49" y="1563"/>
                </a:lnTo>
                <a:lnTo>
                  <a:pt x="47" y="1600"/>
                </a:lnTo>
                <a:lnTo>
                  <a:pt x="41" y="1678"/>
                </a:lnTo>
                <a:lnTo>
                  <a:pt x="33" y="1752"/>
                </a:lnTo>
                <a:lnTo>
                  <a:pt x="25" y="1830"/>
                </a:lnTo>
                <a:lnTo>
                  <a:pt x="17" y="1904"/>
                </a:lnTo>
                <a:lnTo>
                  <a:pt x="9" y="1982"/>
                </a:lnTo>
                <a:lnTo>
                  <a:pt x="4" y="2061"/>
                </a:lnTo>
                <a:lnTo>
                  <a:pt x="2" y="2097"/>
                </a:lnTo>
                <a:lnTo>
                  <a:pt x="0" y="2134"/>
                </a:lnTo>
                <a:lnTo>
                  <a:pt x="0" y="2171"/>
                </a:lnTo>
                <a:lnTo>
                  <a:pt x="0" y="2213"/>
                </a:lnTo>
                <a:lnTo>
                  <a:pt x="2" y="2250"/>
                </a:lnTo>
                <a:lnTo>
                  <a:pt x="4" y="2286"/>
                </a:lnTo>
                <a:lnTo>
                  <a:pt x="7" y="2323"/>
                </a:lnTo>
                <a:lnTo>
                  <a:pt x="12" y="2365"/>
                </a:lnTo>
                <a:lnTo>
                  <a:pt x="18" y="2402"/>
                </a:lnTo>
                <a:lnTo>
                  <a:pt x="25" y="2439"/>
                </a:lnTo>
                <a:lnTo>
                  <a:pt x="215" y="2835"/>
                </a:lnTo>
                <a:lnTo>
                  <a:pt x="208" y="2798"/>
                </a:lnTo>
                <a:lnTo>
                  <a:pt x="201" y="2761"/>
                </a:lnTo>
                <a:lnTo>
                  <a:pt x="197" y="2720"/>
                </a:lnTo>
                <a:lnTo>
                  <a:pt x="194" y="2683"/>
                </a:lnTo>
                <a:lnTo>
                  <a:pt x="191" y="2646"/>
                </a:lnTo>
                <a:lnTo>
                  <a:pt x="190" y="2609"/>
                </a:lnTo>
                <a:lnTo>
                  <a:pt x="190" y="2568"/>
                </a:lnTo>
                <a:lnTo>
                  <a:pt x="190" y="2531"/>
                </a:lnTo>
                <a:lnTo>
                  <a:pt x="191" y="2494"/>
                </a:lnTo>
                <a:lnTo>
                  <a:pt x="194" y="2457"/>
                </a:lnTo>
                <a:lnTo>
                  <a:pt x="199" y="2379"/>
                </a:lnTo>
                <a:lnTo>
                  <a:pt x="207" y="2305"/>
                </a:lnTo>
                <a:lnTo>
                  <a:pt x="215" y="2227"/>
                </a:lnTo>
                <a:lnTo>
                  <a:pt x="223" y="2153"/>
                </a:lnTo>
                <a:lnTo>
                  <a:pt x="231" y="2074"/>
                </a:lnTo>
                <a:lnTo>
                  <a:pt x="237" y="2001"/>
                </a:lnTo>
                <a:lnTo>
                  <a:pt x="239" y="1959"/>
                </a:lnTo>
                <a:lnTo>
                  <a:pt x="240" y="1922"/>
                </a:lnTo>
                <a:lnTo>
                  <a:pt x="241" y="1885"/>
                </a:lnTo>
                <a:lnTo>
                  <a:pt x="240" y="1849"/>
                </a:lnTo>
                <a:lnTo>
                  <a:pt x="239" y="1807"/>
                </a:lnTo>
                <a:lnTo>
                  <a:pt x="237" y="1770"/>
                </a:lnTo>
                <a:lnTo>
                  <a:pt x="234" y="1733"/>
                </a:lnTo>
                <a:lnTo>
                  <a:pt x="229" y="1696"/>
                </a:lnTo>
                <a:lnTo>
                  <a:pt x="223" y="1655"/>
                </a:lnTo>
                <a:lnTo>
                  <a:pt x="215" y="1618"/>
                </a:lnTo>
                <a:lnTo>
                  <a:pt x="208" y="1581"/>
                </a:lnTo>
                <a:lnTo>
                  <a:pt x="201" y="1544"/>
                </a:lnTo>
                <a:lnTo>
                  <a:pt x="197" y="1503"/>
                </a:lnTo>
                <a:lnTo>
                  <a:pt x="194" y="1466"/>
                </a:lnTo>
                <a:lnTo>
                  <a:pt x="191" y="1429"/>
                </a:lnTo>
                <a:lnTo>
                  <a:pt x="190" y="1392"/>
                </a:lnTo>
                <a:lnTo>
                  <a:pt x="190" y="1351"/>
                </a:lnTo>
                <a:lnTo>
                  <a:pt x="190" y="1314"/>
                </a:lnTo>
                <a:lnTo>
                  <a:pt x="191" y="1277"/>
                </a:lnTo>
                <a:lnTo>
                  <a:pt x="194" y="1240"/>
                </a:lnTo>
                <a:lnTo>
                  <a:pt x="199" y="1162"/>
                </a:lnTo>
                <a:lnTo>
                  <a:pt x="207" y="1088"/>
                </a:lnTo>
                <a:lnTo>
                  <a:pt x="215" y="1010"/>
                </a:lnTo>
                <a:lnTo>
                  <a:pt x="223" y="936"/>
                </a:lnTo>
                <a:lnTo>
                  <a:pt x="231" y="857"/>
                </a:lnTo>
                <a:lnTo>
                  <a:pt x="237" y="784"/>
                </a:lnTo>
                <a:lnTo>
                  <a:pt x="239" y="742"/>
                </a:lnTo>
                <a:lnTo>
                  <a:pt x="240" y="705"/>
                </a:lnTo>
                <a:lnTo>
                  <a:pt x="241" y="668"/>
                </a:lnTo>
                <a:lnTo>
                  <a:pt x="240" y="632"/>
                </a:lnTo>
                <a:lnTo>
                  <a:pt x="239" y="590"/>
                </a:lnTo>
                <a:lnTo>
                  <a:pt x="237" y="553"/>
                </a:lnTo>
                <a:lnTo>
                  <a:pt x="234" y="516"/>
                </a:lnTo>
                <a:lnTo>
                  <a:pt x="229" y="479"/>
                </a:lnTo>
                <a:lnTo>
                  <a:pt x="223" y="438"/>
                </a:lnTo>
                <a:lnTo>
                  <a:pt x="215" y="401"/>
                </a:lnTo>
                <a:lnTo>
                  <a:pt x="25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f3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-380880"/>
            <a:ext cx="339840" cy="3127320"/>
          </a:xfrm>
          <a:custGeom>
            <a:avLst/>
            <a:gdLst/>
            <a:ahLst/>
            <a:rect l="l" t="t" r="r" b="b"/>
            <a:pathLst>
              <a:path w="241" h="1970">
                <a:moveTo>
                  <a:pt x="25" y="0"/>
                </a:moveTo>
                <a:lnTo>
                  <a:pt x="32" y="25"/>
                </a:lnTo>
                <a:lnTo>
                  <a:pt x="39" y="54"/>
                </a:lnTo>
                <a:lnTo>
                  <a:pt x="44" y="79"/>
                </a:lnTo>
                <a:lnTo>
                  <a:pt x="46" y="107"/>
                </a:lnTo>
                <a:lnTo>
                  <a:pt x="50" y="161"/>
                </a:lnTo>
                <a:lnTo>
                  <a:pt x="50" y="211"/>
                </a:lnTo>
                <a:lnTo>
                  <a:pt x="46" y="265"/>
                </a:lnTo>
                <a:lnTo>
                  <a:pt x="40" y="318"/>
                </a:lnTo>
                <a:lnTo>
                  <a:pt x="33" y="372"/>
                </a:lnTo>
                <a:lnTo>
                  <a:pt x="25" y="425"/>
                </a:lnTo>
                <a:lnTo>
                  <a:pt x="17" y="476"/>
                </a:lnTo>
                <a:lnTo>
                  <a:pt x="10" y="529"/>
                </a:lnTo>
                <a:lnTo>
                  <a:pt x="4" y="583"/>
                </a:lnTo>
                <a:lnTo>
                  <a:pt x="0" y="636"/>
                </a:lnTo>
                <a:lnTo>
                  <a:pt x="0" y="687"/>
                </a:lnTo>
                <a:lnTo>
                  <a:pt x="4" y="740"/>
                </a:lnTo>
                <a:lnTo>
                  <a:pt x="6" y="769"/>
                </a:lnTo>
                <a:lnTo>
                  <a:pt x="11" y="794"/>
                </a:lnTo>
                <a:lnTo>
                  <a:pt x="18" y="822"/>
                </a:lnTo>
                <a:lnTo>
                  <a:pt x="25" y="847"/>
                </a:lnTo>
                <a:lnTo>
                  <a:pt x="32" y="873"/>
                </a:lnTo>
                <a:lnTo>
                  <a:pt x="39" y="901"/>
                </a:lnTo>
                <a:lnTo>
                  <a:pt x="44" y="926"/>
                </a:lnTo>
                <a:lnTo>
                  <a:pt x="46" y="951"/>
                </a:lnTo>
                <a:lnTo>
                  <a:pt x="50" y="1005"/>
                </a:lnTo>
                <a:lnTo>
                  <a:pt x="50" y="1059"/>
                </a:lnTo>
                <a:lnTo>
                  <a:pt x="46" y="1112"/>
                </a:lnTo>
                <a:lnTo>
                  <a:pt x="40" y="1162"/>
                </a:lnTo>
                <a:lnTo>
                  <a:pt x="33" y="1216"/>
                </a:lnTo>
                <a:lnTo>
                  <a:pt x="25" y="1270"/>
                </a:lnTo>
                <a:lnTo>
                  <a:pt x="17" y="1323"/>
                </a:lnTo>
                <a:lnTo>
                  <a:pt x="10" y="1377"/>
                </a:lnTo>
                <a:lnTo>
                  <a:pt x="4" y="1427"/>
                </a:lnTo>
                <a:lnTo>
                  <a:pt x="0" y="1481"/>
                </a:lnTo>
                <a:lnTo>
                  <a:pt x="0" y="1534"/>
                </a:lnTo>
                <a:lnTo>
                  <a:pt x="4" y="1588"/>
                </a:lnTo>
                <a:lnTo>
                  <a:pt x="6" y="1613"/>
                </a:lnTo>
                <a:lnTo>
                  <a:pt x="11" y="1638"/>
                </a:lnTo>
                <a:lnTo>
                  <a:pt x="18" y="1667"/>
                </a:lnTo>
                <a:lnTo>
                  <a:pt x="25" y="1692"/>
                </a:lnTo>
                <a:lnTo>
                  <a:pt x="215" y="1969"/>
                </a:lnTo>
                <a:lnTo>
                  <a:pt x="207" y="1944"/>
                </a:lnTo>
                <a:lnTo>
                  <a:pt x="202" y="1915"/>
                </a:lnTo>
                <a:lnTo>
                  <a:pt x="197" y="1890"/>
                </a:lnTo>
                <a:lnTo>
                  <a:pt x="193" y="1862"/>
                </a:lnTo>
                <a:lnTo>
                  <a:pt x="190" y="1808"/>
                </a:lnTo>
                <a:lnTo>
                  <a:pt x="190" y="1758"/>
                </a:lnTo>
                <a:lnTo>
                  <a:pt x="193" y="1704"/>
                </a:lnTo>
                <a:lnTo>
                  <a:pt x="199" y="1651"/>
                </a:lnTo>
                <a:lnTo>
                  <a:pt x="207" y="1597"/>
                </a:lnTo>
                <a:lnTo>
                  <a:pt x="215" y="1547"/>
                </a:lnTo>
                <a:lnTo>
                  <a:pt x="223" y="1493"/>
                </a:lnTo>
                <a:lnTo>
                  <a:pt x="230" y="1440"/>
                </a:lnTo>
                <a:lnTo>
                  <a:pt x="236" y="1386"/>
                </a:lnTo>
                <a:lnTo>
                  <a:pt x="239" y="1333"/>
                </a:lnTo>
                <a:lnTo>
                  <a:pt x="240" y="1282"/>
                </a:lnTo>
                <a:lnTo>
                  <a:pt x="237" y="1229"/>
                </a:lnTo>
                <a:lnTo>
                  <a:pt x="233" y="1200"/>
                </a:lnTo>
                <a:lnTo>
                  <a:pt x="229" y="1175"/>
                </a:lnTo>
                <a:lnTo>
                  <a:pt x="222" y="1147"/>
                </a:lnTo>
                <a:lnTo>
                  <a:pt x="215" y="1122"/>
                </a:lnTo>
                <a:lnTo>
                  <a:pt x="207" y="1096"/>
                </a:lnTo>
                <a:lnTo>
                  <a:pt x="202" y="1068"/>
                </a:lnTo>
                <a:lnTo>
                  <a:pt x="197" y="1043"/>
                </a:lnTo>
                <a:lnTo>
                  <a:pt x="193" y="1018"/>
                </a:lnTo>
                <a:lnTo>
                  <a:pt x="190" y="964"/>
                </a:lnTo>
                <a:lnTo>
                  <a:pt x="190" y="910"/>
                </a:lnTo>
                <a:lnTo>
                  <a:pt x="193" y="857"/>
                </a:lnTo>
                <a:lnTo>
                  <a:pt x="199" y="807"/>
                </a:lnTo>
                <a:lnTo>
                  <a:pt x="207" y="753"/>
                </a:lnTo>
                <a:lnTo>
                  <a:pt x="215" y="699"/>
                </a:lnTo>
                <a:lnTo>
                  <a:pt x="223" y="646"/>
                </a:lnTo>
                <a:lnTo>
                  <a:pt x="230" y="592"/>
                </a:lnTo>
                <a:lnTo>
                  <a:pt x="236" y="542"/>
                </a:lnTo>
                <a:lnTo>
                  <a:pt x="239" y="488"/>
                </a:lnTo>
                <a:lnTo>
                  <a:pt x="240" y="435"/>
                </a:lnTo>
                <a:lnTo>
                  <a:pt x="237" y="381"/>
                </a:lnTo>
                <a:lnTo>
                  <a:pt x="233" y="356"/>
                </a:lnTo>
                <a:lnTo>
                  <a:pt x="229" y="331"/>
                </a:lnTo>
                <a:lnTo>
                  <a:pt x="222" y="302"/>
                </a:lnTo>
                <a:lnTo>
                  <a:pt x="215" y="277"/>
                </a:lnTo>
                <a:lnTo>
                  <a:pt x="25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3040" y="-76320"/>
            <a:ext cx="341640" cy="4498920"/>
          </a:xfrm>
          <a:custGeom>
            <a:avLst/>
            <a:gdLst/>
            <a:ahLst/>
            <a:rect l="l" t="t" r="r" b="b"/>
            <a:pathLst>
              <a:path w="242" h="2834">
                <a:moveTo>
                  <a:pt x="25" y="0"/>
                </a:moveTo>
                <a:lnTo>
                  <a:pt x="33" y="36"/>
                </a:lnTo>
                <a:lnTo>
                  <a:pt x="39" y="77"/>
                </a:lnTo>
                <a:lnTo>
                  <a:pt x="44" y="113"/>
                </a:lnTo>
                <a:lnTo>
                  <a:pt x="47" y="154"/>
                </a:lnTo>
                <a:lnTo>
                  <a:pt x="49" y="190"/>
                </a:lnTo>
                <a:lnTo>
                  <a:pt x="50" y="231"/>
                </a:lnTo>
                <a:lnTo>
                  <a:pt x="51" y="267"/>
                </a:lnTo>
                <a:lnTo>
                  <a:pt x="50" y="304"/>
                </a:lnTo>
                <a:lnTo>
                  <a:pt x="49" y="344"/>
                </a:lnTo>
                <a:lnTo>
                  <a:pt x="47" y="381"/>
                </a:lnTo>
                <a:lnTo>
                  <a:pt x="41" y="458"/>
                </a:lnTo>
                <a:lnTo>
                  <a:pt x="33" y="535"/>
                </a:lnTo>
                <a:lnTo>
                  <a:pt x="25" y="607"/>
                </a:lnTo>
                <a:lnTo>
                  <a:pt x="17" y="684"/>
                </a:lnTo>
                <a:lnTo>
                  <a:pt x="9" y="762"/>
                </a:lnTo>
                <a:lnTo>
                  <a:pt x="4" y="839"/>
                </a:lnTo>
                <a:lnTo>
                  <a:pt x="2" y="875"/>
                </a:lnTo>
                <a:lnTo>
                  <a:pt x="0" y="911"/>
                </a:lnTo>
                <a:lnTo>
                  <a:pt x="0" y="952"/>
                </a:lnTo>
                <a:lnTo>
                  <a:pt x="0" y="988"/>
                </a:lnTo>
                <a:lnTo>
                  <a:pt x="2" y="1024"/>
                </a:lnTo>
                <a:lnTo>
                  <a:pt x="4" y="1065"/>
                </a:lnTo>
                <a:lnTo>
                  <a:pt x="7" y="1101"/>
                </a:lnTo>
                <a:lnTo>
                  <a:pt x="12" y="1138"/>
                </a:lnTo>
                <a:lnTo>
                  <a:pt x="18" y="1179"/>
                </a:lnTo>
                <a:lnTo>
                  <a:pt x="25" y="1215"/>
                </a:lnTo>
                <a:lnTo>
                  <a:pt x="33" y="1251"/>
                </a:lnTo>
                <a:lnTo>
                  <a:pt x="39" y="1292"/>
                </a:lnTo>
                <a:lnTo>
                  <a:pt x="44" y="1328"/>
                </a:lnTo>
                <a:lnTo>
                  <a:pt x="47" y="1369"/>
                </a:lnTo>
                <a:lnTo>
                  <a:pt x="49" y="1405"/>
                </a:lnTo>
                <a:lnTo>
                  <a:pt x="50" y="1446"/>
                </a:lnTo>
                <a:lnTo>
                  <a:pt x="51" y="1482"/>
                </a:lnTo>
                <a:lnTo>
                  <a:pt x="50" y="1523"/>
                </a:lnTo>
                <a:lnTo>
                  <a:pt x="49" y="1559"/>
                </a:lnTo>
                <a:lnTo>
                  <a:pt x="47" y="1596"/>
                </a:lnTo>
                <a:lnTo>
                  <a:pt x="41" y="1673"/>
                </a:lnTo>
                <a:lnTo>
                  <a:pt x="33" y="1750"/>
                </a:lnTo>
                <a:lnTo>
                  <a:pt x="25" y="1827"/>
                </a:lnTo>
                <a:lnTo>
                  <a:pt x="17" y="1904"/>
                </a:lnTo>
                <a:lnTo>
                  <a:pt x="9" y="1981"/>
                </a:lnTo>
                <a:lnTo>
                  <a:pt x="4" y="2053"/>
                </a:lnTo>
                <a:lnTo>
                  <a:pt x="2" y="2094"/>
                </a:lnTo>
                <a:lnTo>
                  <a:pt x="0" y="2130"/>
                </a:lnTo>
                <a:lnTo>
                  <a:pt x="0" y="2167"/>
                </a:lnTo>
                <a:lnTo>
                  <a:pt x="0" y="2207"/>
                </a:lnTo>
                <a:lnTo>
                  <a:pt x="2" y="2244"/>
                </a:lnTo>
                <a:lnTo>
                  <a:pt x="4" y="2285"/>
                </a:lnTo>
                <a:lnTo>
                  <a:pt x="7" y="2321"/>
                </a:lnTo>
                <a:lnTo>
                  <a:pt x="12" y="2357"/>
                </a:lnTo>
                <a:lnTo>
                  <a:pt x="18" y="2398"/>
                </a:lnTo>
                <a:lnTo>
                  <a:pt x="25" y="2434"/>
                </a:lnTo>
                <a:lnTo>
                  <a:pt x="215" y="2833"/>
                </a:lnTo>
                <a:lnTo>
                  <a:pt x="208" y="2797"/>
                </a:lnTo>
                <a:lnTo>
                  <a:pt x="201" y="2756"/>
                </a:lnTo>
                <a:lnTo>
                  <a:pt x="197" y="2720"/>
                </a:lnTo>
                <a:lnTo>
                  <a:pt x="194" y="2679"/>
                </a:lnTo>
                <a:lnTo>
                  <a:pt x="191" y="2643"/>
                </a:lnTo>
                <a:lnTo>
                  <a:pt x="190" y="2602"/>
                </a:lnTo>
                <a:lnTo>
                  <a:pt x="190" y="2566"/>
                </a:lnTo>
                <a:lnTo>
                  <a:pt x="190" y="2529"/>
                </a:lnTo>
                <a:lnTo>
                  <a:pt x="191" y="2489"/>
                </a:lnTo>
                <a:lnTo>
                  <a:pt x="194" y="2452"/>
                </a:lnTo>
                <a:lnTo>
                  <a:pt x="199" y="2375"/>
                </a:lnTo>
                <a:lnTo>
                  <a:pt x="207" y="2298"/>
                </a:lnTo>
                <a:lnTo>
                  <a:pt x="215" y="2226"/>
                </a:lnTo>
                <a:lnTo>
                  <a:pt x="223" y="2149"/>
                </a:lnTo>
                <a:lnTo>
                  <a:pt x="231" y="2071"/>
                </a:lnTo>
                <a:lnTo>
                  <a:pt x="237" y="1994"/>
                </a:lnTo>
                <a:lnTo>
                  <a:pt x="239" y="1958"/>
                </a:lnTo>
                <a:lnTo>
                  <a:pt x="240" y="1917"/>
                </a:lnTo>
                <a:lnTo>
                  <a:pt x="241" y="1881"/>
                </a:lnTo>
                <a:lnTo>
                  <a:pt x="240" y="1845"/>
                </a:lnTo>
                <a:lnTo>
                  <a:pt x="239" y="1804"/>
                </a:lnTo>
                <a:lnTo>
                  <a:pt x="237" y="1768"/>
                </a:lnTo>
                <a:lnTo>
                  <a:pt x="234" y="1727"/>
                </a:lnTo>
                <a:lnTo>
                  <a:pt x="229" y="1691"/>
                </a:lnTo>
                <a:lnTo>
                  <a:pt x="223" y="1650"/>
                </a:lnTo>
                <a:lnTo>
                  <a:pt x="215" y="1614"/>
                </a:lnTo>
                <a:lnTo>
                  <a:pt x="208" y="1577"/>
                </a:lnTo>
                <a:lnTo>
                  <a:pt x="201" y="1537"/>
                </a:lnTo>
                <a:lnTo>
                  <a:pt x="197" y="1500"/>
                </a:lnTo>
                <a:lnTo>
                  <a:pt x="194" y="1464"/>
                </a:lnTo>
                <a:lnTo>
                  <a:pt x="191" y="1423"/>
                </a:lnTo>
                <a:lnTo>
                  <a:pt x="190" y="1387"/>
                </a:lnTo>
                <a:lnTo>
                  <a:pt x="190" y="1351"/>
                </a:lnTo>
                <a:lnTo>
                  <a:pt x="190" y="1310"/>
                </a:lnTo>
                <a:lnTo>
                  <a:pt x="191" y="1274"/>
                </a:lnTo>
                <a:lnTo>
                  <a:pt x="194" y="1233"/>
                </a:lnTo>
                <a:lnTo>
                  <a:pt x="199" y="1160"/>
                </a:lnTo>
                <a:lnTo>
                  <a:pt x="207" y="1083"/>
                </a:lnTo>
                <a:lnTo>
                  <a:pt x="215" y="1006"/>
                </a:lnTo>
                <a:lnTo>
                  <a:pt x="223" y="929"/>
                </a:lnTo>
                <a:lnTo>
                  <a:pt x="231" y="852"/>
                </a:lnTo>
                <a:lnTo>
                  <a:pt x="237" y="780"/>
                </a:lnTo>
                <a:lnTo>
                  <a:pt x="239" y="739"/>
                </a:lnTo>
                <a:lnTo>
                  <a:pt x="240" y="703"/>
                </a:lnTo>
                <a:lnTo>
                  <a:pt x="241" y="666"/>
                </a:lnTo>
                <a:lnTo>
                  <a:pt x="240" y="626"/>
                </a:lnTo>
                <a:lnTo>
                  <a:pt x="239" y="589"/>
                </a:lnTo>
                <a:lnTo>
                  <a:pt x="237" y="548"/>
                </a:lnTo>
                <a:lnTo>
                  <a:pt x="234" y="512"/>
                </a:lnTo>
                <a:lnTo>
                  <a:pt x="229" y="476"/>
                </a:lnTo>
                <a:lnTo>
                  <a:pt x="223" y="435"/>
                </a:lnTo>
                <a:lnTo>
                  <a:pt x="215" y="399"/>
                </a:lnTo>
                <a:lnTo>
                  <a:pt x="25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016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.VnTimeH"/>
              </a:rPr>
              <a:t>Ch­¬ng IV: Chi phÝ, doanh thu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.VnTimeH"/>
              </a:rPr>
              <a:t>vµ lîi nhuËn cña doanh nghiÖ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96320" y="1648440"/>
            <a:ext cx="4779360" cy="4779720"/>
            <a:chOff x="2596320" y="1648440"/>
            <a:chExt cx="4779360" cy="4779720"/>
          </a:xfrm>
        </p:grpSpPr>
        <p:sp>
          <p:nvSpPr>
            <p:cNvPr id="44" name="_s372746"/>
            <p:cNvSpPr/>
            <p:nvPr/>
          </p:nvSpPr>
          <p:spPr>
            <a:xfrm>
              <a:off x="3236760" y="2289240"/>
              <a:ext cx="3498840" cy="34988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_s372747"/>
            <p:cNvSpPr/>
            <p:nvPr/>
          </p:nvSpPr>
          <p:spPr>
            <a:xfrm rot="7200000">
              <a:off x="3236400" y="2288880"/>
              <a:ext cx="3498840" cy="34988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_s372749"/>
            <p:cNvSpPr/>
            <p:nvPr/>
          </p:nvSpPr>
          <p:spPr>
            <a:xfrm rot="14400000">
              <a:off x="3236400" y="2288880"/>
              <a:ext cx="3498840" cy="34988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_s372744"/>
            <p:cNvSpPr/>
            <p:nvPr/>
          </p:nvSpPr>
          <p:spPr>
            <a:xfrm>
              <a:off x="5715000" y="2776680"/>
              <a:ext cx="1066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.VnArial"/>
                </a:rPr>
                <a:t>Chi phÝ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.VnArial"/>
                </a:rPr>
                <a:t>kinh doanh</a:t>
              </a:r>
              <a:r>
                <a:rPr b="0" lang="en-US" sz="2800" spc="-1" strike="noStrike">
                  <a:solidFill>
                    <a:srgbClr val="660033"/>
                  </a:solidFill>
                  <a:latin typeface=".Vn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_s372745"/>
            <p:cNvSpPr/>
            <p:nvPr/>
          </p:nvSpPr>
          <p:spPr>
            <a:xfrm>
              <a:off x="4452840" y="4960800"/>
              <a:ext cx="10670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.VnArial"/>
                </a:rPr>
                <a:t>Lîi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.VnArial"/>
                </a:rPr>
                <a:t>nhuË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_s372748"/>
            <p:cNvSpPr/>
            <p:nvPr/>
          </p:nvSpPr>
          <p:spPr>
            <a:xfrm>
              <a:off x="3191040" y="2776680"/>
              <a:ext cx="1066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.VnArial"/>
                </a:rPr>
                <a:t>Doan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.VnArial"/>
                </a:rPr>
                <a:t> </a:t>
              </a:r>
              <a:r>
                <a:rPr b="1" lang="en-US" sz="2800" spc="-1" strike="noStrike">
                  <a:solidFill>
                    <a:srgbClr val="ffff00"/>
                  </a:solidFill>
                  <a:latin typeface=".VnArial"/>
                </a:rPr>
                <a:t>thu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a. Kh¸i niÖm chi phÝ (tiÕp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.VnArial"/>
              </a:rPr>
              <a:t>+ Ngµnh th­¬ng m¹i - dÞch vô:</a:t>
            </a:r>
            <a:r>
              <a:rPr b="1" i="1" lang="en-US" sz="2600" spc="-1" strike="noStrike">
                <a:solidFill>
                  <a:srgbClr val="800000"/>
                </a:solidFill>
                <a:latin typeface=".Vn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Chi phÝ kinh doanh gåm toµn bé c¸c chi phÝ trùc tiÕp, chi phÝ gi¸n tiÕp liªn quan ®Õn ho¹t ®éng s¶n xuÊt kinh doanh cña DN trong kú vµ nh÷ng kho¶n chi phÝ thÓ hiÖn nghÜa vô cña DN ®èi víi NSNN. ChØ nh÷ng chi phÝ bá ra liªn quan ®Õn qu¸ tr×nh ho¹t ®éng kinh doanh th­¬ng m¹i - dÞch vô ®Ó nh»m t¹o ra thu nhËp trong kú míi thuéc chi phÝ kinh doanh cña DN. Bao gåm: trÞ gi¸ mua vµo cña hµng ho¸ tiªu thô, chi phÝ l­u th«ng hµng ho¸, nh÷ng kho¶n chi phÝ ph¸t sinh liªn quan ®Õn viÖc ®Çu t­ vèn ra ngoµi doanh nghiÖp nh­ liªn doanh, liªn kÕt, mua cæ phiÕu, tr¸i phiÕu vµ c¸c kho¶n thuÕ ph¶i nép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a. Kh¸i niÖm chi phÝ (tiÕp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b. Néi dung chi phÝ kinh doanh cña doanh nghiÖ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§äc gi¸o tr×nh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.VnArial"/>
              </a:rPr>
              <a:t>Néi dung chi phÝ s¶n xuÊt kinh doanh cña doanh nghiÖp</a:t>
            </a: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135800" y="2041560"/>
            <a:ext cx="7486560" cy="3993840"/>
            <a:chOff x="1135800" y="2041560"/>
            <a:chExt cx="7486560" cy="3993840"/>
          </a:xfrm>
        </p:grpSpPr>
        <p:sp>
          <p:nvSpPr>
            <p:cNvPr id="76" name="_s110609"/>
            <p:cNvSpPr/>
            <p:nvPr/>
          </p:nvSpPr>
          <p:spPr>
            <a:xfrm flipH="1" flipV="1">
              <a:off x="2490480" y="5248800"/>
              <a:ext cx="498960" cy="6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_s110608"/>
            <p:cNvSpPr/>
            <p:nvPr/>
          </p:nvSpPr>
          <p:spPr>
            <a:xfrm>
              <a:off x="1135800" y="4522320"/>
              <a:ext cx="2281680" cy="133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lnSpc>
                  <a:spcPct val="12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Vogue"/>
                </a:rPr>
                <a:t>Chi phÝ khÊu ha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Vogue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.VnVogue"/>
                </a:rPr>
                <a:t>TSC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_s110604"/>
            <p:cNvSpPr/>
            <p:nvPr/>
          </p:nvSpPr>
          <p:spPr>
            <a:xfrm>
              <a:off x="5494320" y="4522320"/>
              <a:ext cx="864720" cy="48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110603"/>
            <p:cNvSpPr/>
            <p:nvPr/>
          </p:nvSpPr>
          <p:spPr>
            <a:xfrm>
              <a:off x="6198480" y="4704120"/>
              <a:ext cx="2423880" cy="133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Arial"/>
                </a:rPr>
                <a:t>Chi phÝ kh¸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110602"/>
            <p:cNvSpPr/>
            <p:nvPr/>
          </p:nvSpPr>
          <p:spPr>
            <a:xfrm flipV="1">
              <a:off x="5378400" y="3130920"/>
              <a:ext cx="784440" cy="48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110601"/>
            <p:cNvSpPr/>
            <p:nvPr/>
          </p:nvSpPr>
          <p:spPr>
            <a:xfrm>
              <a:off x="6019920" y="2101680"/>
              <a:ext cx="2385720" cy="1437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lnSpc>
                  <a:spcPct val="12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Vogue"/>
                </a:rPr>
                <a:t>Chi ph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Vogue"/>
                </a:rPr>
                <a:t>nh©n c«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110600"/>
            <p:cNvSpPr/>
            <p:nvPr/>
          </p:nvSpPr>
          <p:spPr>
            <a:xfrm flipV="1">
              <a:off x="2526480" y="2162520"/>
              <a:ext cx="14760" cy="30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110599"/>
            <p:cNvSpPr/>
            <p:nvPr/>
          </p:nvSpPr>
          <p:spPr>
            <a:xfrm>
              <a:off x="1278360" y="2041560"/>
              <a:ext cx="2495520" cy="120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lnSpc>
                  <a:spcPct val="12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Vogue"/>
                </a:rPr>
                <a:t>Chi phÝ vËt t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10598"/>
            <p:cNvSpPr/>
            <p:nvPr/>
          </p:nvSpPr>
          <p:spPr>
            <a:xfrm>
              <a:off x="3824640" y="3433320"/>
              <a:ext cx="1853640" cy="13914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.VnArial"/>
                </a:rPr>
                <a:t>Chi ph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.Vn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.VnArial"/>
                </a:rPr>
                <a:t>s¶n xuÊ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.VnArial"/>
                </a:rPr>
                <a:t>kinh doanh</a:t>
              </a:r>
              <a:r>
                <a:rPr b="0" lang="en-US" sz="1800" spc="-1" strike="noStrike">
                  <a:solidFill>
                    <a:srgbClr val="000066"/>
                  </a:solidFill>
                  <a:latin typeface=".Vn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1032"/>
            <p:cNvSpPr/>
            <p:nvPr/>
          </p:nvSpPr>
          <p:spPr>
            <a:xfrm flipV="1">
              <a:off x="3132360" y="4280040"/>
              <a:ext cx="784080" cy="48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>
              <a:off x="3239280" y="3130920"/>
              <a:ext cx="864720" cy="48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_s1028"/>
          <p:cNvSpPr/>
          <p:nvPr/>
        </p:nvSpPr>
        <p:spPr>
          <a:xfrm flipH="1">
            <a:off x="3365280" y="3978360"/>
            <a:ext cx="709560" cy="41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_s1030"/>
          <p:cNvSpPr/>
          <p:nvPr/>
        </p:nvSpPr>
        <p:spPr>
          <a:xfrm>
            <a:off x="5016600" y="3979800"/>
            <a:ext cx="711000" cy="4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_s1032"/>
          <p:cNvSpPr/>
          <p:nvPr/>
        </p:nvSpPr>
        <p:spPr>
          <a:xfrm flipV="1">
            <a:off x="4546440" y="2622600"/>
            <a:ext cx="180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_s1029"/>
          <p:cNvSpPr/>
          <p:nvPr/>
        </p:nvSpPr>
        <p:spPr>
          <a:xfrm>
            <a:off x="1295280" y="3962520"/>
            <a:ext cx="2251080" cy="1371600"/>
          </a:xfrm>
          <a:prstGeom prst="ellipse">
            <a:avLst/>
          </a:prstGeom>
          <a:solidFill>
            <a:srgbClr val="01bd0a"/>
          </a:solidFill>
          <a:ln w="28440">
            <a:solidFill>
              <a:srgbClr val="0193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Theo mqh chi ph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vµ s¶n l­î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_s1031"/>
          <p:cNvSpPr/>
          <p:nvPr/>
        </p:nvSpPr>
        <p:spPr>
          <a:xfrm>
            <a:off x="5562720" y="3962520"/>
            <a:ext cx="2057400" cy="1447560"/>
          </a:xfrm>
          <a:prstGeom prst="ellipse">
            <a:avLst/>
          </a:prstGeom>
          <a:solidFill>
            <a:srgbClr val="0399ff"/>
          </a:solidFill>
          <a:ln w="28440">
            <a:solidFill>
              <a:srgbClr val="4b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Theo c«ng dô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vµ ®Þa ®iÓ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_s1033"/>
          <p:cNvSpPr/>
          <p:nvPr/>
        </p:nvSpPr>
        <p:spPr>
          <a:xfrm>
            <a:off x="3657600" y="1371600"/>
            <a:ext cx="1828800" cy="1371600"/>
          </a:xfrm>
          <a:prstGeom prst="ellipse">
            <a:avLst/>
          </a:prstGeom>
          <a:solidFill>
            <a:srgbClr val="ff8c01"/>
          </a:solidFill>
          <a:ln w="28440">
            <a:solidFill>
              <a:srgbClr val="d8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Theo tÝnh chÊ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.VnArial"/>
              </a:rPr>
              <a:t>kinh t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_s1034"/>
          <p:cNvSpPr/>
          <p:nvPr/>
        </p:nvSpPr>
        <p:spPr>
          <a:xfrm>
            <a:off x="3581280" y="3114720"/>
            <a:ext cx="1905120" cy="1371600"/>
          </a:xfrm>
          <a:prstGeom prst="ellipse">
            <a:avLst/>
          </a:prstGeom>
          <a:solidFill>
            <a:srgbClr val="f1fd09"/>
          </a:solidFill>
          <a:ln w="28440">
            <a:solidFill>
              <a:srgbClr val="cad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H"/>
              </a:rPr>
              <a:t>Ph©n lo¹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ArialH"/>
              </a:rPr>
              <a:t>chi phÝ SXK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3505320" cy="1981080"/>
          </a:xfrm>
          <a:prstGeom prst="wedgeRectCallout">
            <a:avLst>
              <a:gd name="adj1" fmla="val 72643"/>
              <a:gd name="adj2" fmla="val 28925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vËt t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tiÒn l­¬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BHXH, BHYT, KPC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khÊu hao TSC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dÞch vô mua ngoµ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kh¸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62720"/>
            <a:ext cx="2254320" cy="1295280"/>
          </a:xfrm>
          <a:prstGeom prst="wedgeRectCallout">
            <a:avLst>
              <a:gd name="adj1" fmla="val 48379"/>
              <a:gd name="adj2" fmla="val -82842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hi phÝ cè ®Þn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Chi phÝ biÕn ®æi</a:t>
            </a:r>
            <a:r>
              <a:rPr b="0" lang="en-US" sz="2000" spc="-1" strike="noStrike">
                <a:solidFill>
                  <a:srgbClr val="ffffff"/>
                </a:solidFill>
                <a:latin typeface=".Vn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2133720"/>
            <a:ext cx="2666880" cy="1523880"/>
          </a:xfrm>
          <a:prstGeom prst="wedgeRectCallout">
            <a:avLst>
              <a:gd name="adj1" fmla="val -36189"/>
              <a:gd name="adj2" fmla="val 8093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NVL trùc tiÕ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NC trùc tiÕ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SXC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b¸n hµ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Chi phÝ QL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430360" y="746280"/>
            <a:ext cx="5114880" cy="5019480"/>
            <a:chOff x="2430360" y="746280"/>
            <a:chExt cx="5114880" cy="5019480"/>
          </a:xfrm>
        </p:grpSpPr>
        <p:sp>
          <p:nvSpPr>
            <p:cNvPr id="98" name="_s378893"/>
            <p:cNvSpPr/>
            <p:nvPr/>
          </p:nvSpPr>
          <p:spPr>
            <a:xfrm flipH="1" flipV="1">
              <a:off x="3967200" y="2540160"/>
              <a:ext cx="511200" cy="40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378892"/>
            <p:cNvSpPr/>
            <p:nvPr/>
          </p:nvSpPr>
          <p:spPr>
            <a:xfrm>
              <a:off x="2808360" y="1482840"/>
              <a:ext cx="1303200" cy="13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.VnArial"/>
                </a:rPr>
                <a:t>XuÊt khÈu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.VnArial"/>
                </a:rPr>
                <a:t>nhËp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.VnArial"/>
                </a:rPr>
                <a:t>khÈ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78897"/>
            <p:cNvSpPr/>
            <p:nvPr/>
          </p:nvSpPr>
          <p:spPr>
            <a:xfrm flipH="1">
              <a:off x="3716280" y="3497400"/>
              <a:ext cx="63648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78896"/>
            <p:cNvSpPr/>
            <p:nvPr/>
          </p:nvSpPr>
          <p:spPr>
            <a:xfrm>
              <a:off x="2430360" y="3135240"/>
              <a:ext cx="1303560" cy="1303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.VnArial"/>
                </a:rPr>
                <a:t>M«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.VnArial"/>
                </a:rPr>
                <a:t>bµ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78901"/>
            <p:cNvSpPr/>
            <p:nvPr/>
          </p:nvSpPr>
          <p:spPr>
            <a:xfrm flipH="1">
              <a:off x="4420800" y="3936960"/>
              <a:ext cx="284040" cy="58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78900"/>
            <p:cNvSpPr/>
            <p:nvPr/>
          </p:nvSpPr>
          <p:spPr>
            <a:xfrm>
              <a:off x="3487680" y="4462560"/>
              <a:ext cx="1303560" cy="13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.V.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78899"/>
            <p:cNvSpPr/>
            <p:nvPr/>
          </p:nvSpPr>
          <p:spPr>
            <a:xfrm>
              <a:off x="5268960" y="3936960"/>
              <a:ext cx="284040" cy="58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78898"/>
            <p:cNvSpPr/>
            <p:nvPr/>
          </p:nvSpPr>
          <p:spPr>
            <a:xfrm>
              <a:off x="5184720" y="4462560"/>
              <a:ext cx="1303560" cy="13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Thu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h</a:t>
              </a:r>
              <a:r>
                <a:rPr b="1" lang="en-US" sz="1800" spc="-1" strike="noStrike">
                  <a:solidFill>
                    <a:srgbClr val="cc0000"/>
                  </a:solidFill>
                  <a:latin typeface=".VnArial"/>
                </a:rPr>
                <a:t>Ëp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.VnArial"/>
                </a:rPr>
                <a:t>D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78895"/>
            <p:cNvSpPr/>
            <p:nvPr/>
          </p:nvSpPr>
          <p:spPr>
            <a:xfrm>
              <a:off x="5619600" y="3495600"/>
              <a:ext cx="638280" cy="146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78894"/>
            <p:cNvSpPr/>
            <p:nvPr/>
          </p:nvSpPr>
          <p:spPr>
            <a:xfrm>
              <a:off x="6242040" y="3135240"/>
              <a:ext cx="1303200" cy="1303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Arial"/>
                </a:rPr>
                <a:t>Tµ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Arial"/>
                </a:rPr>
                <a:t>nguyª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78891"/>
            <p:cNvSpPr/>
            <p:nvPr/>
          </p:nvSpPr>
          <p:spPr>
            <a:xfrm flipV="1">
              <a:off x="5494320" y="2538000"/>
              <a:ext cx="511200" cy="407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78890"/>
            <p:cNvSpPr/>
            <p:nvPr/>
          </p:nvSpPr>
          <p:spPr>
            <a:xfrm>
              <a:off x="5864400" y="1481040"/>
              <a:ext cx="1303200" cy="1303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.VnArial"/>
                </a:rPr>
                <a:t>Tiªu thô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.VnArial"/>
                </a:rPr>
                <a:t>®Æc biÖ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78889"/>
            <p:cNvSpPr/>
            <p:nvPr/>
          </p:nvSpPr>
          <p:spPr>
            <a:xfrm flipV="1">
              <a:off x="4986360" y="2048040"/>
              <a:ext cx="0" cy="65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378888"/>
            <p:cNvSpPr/>
            <p:nvPr/>
          </p:nvSpPr>
          <p:spPr>
            <a:xfrm>
              <a:off x="4335480" y="746280"/>
              <a:ext cx="1303200" cy="13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.VnArial"/>
                </a:rPr>
                <a:t>GTG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78887"/>
            <p:cNvSpPr/>
            <p:nvPr/>
          </p:nvSpPr>
          <p:spPr>
            <a:xfrm>
              <a:off x="4335480" y="2701800"/>
              <a:ext cx="1303200" cy="1303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.VnArial"/>
                </a:rPr>
                <a:t>C¸c lo¹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.VnArial"/>
                </a:rPr>
                <a:t>thuÕ chñ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.VnArial"/>
                </a:rPr>
                <a:t>yÕ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3. TiÕt kiÖm chi phÝ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3.1. C¸c chØ tiªu c¬ b¶n cña CPK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.VnArial"/>
              </a:rPr>
              <a:t>a. Tæng møc ph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Tæng møc chi phÝ kinh doanh lµ chØ tiªu tuyÖt ®èi ph¶n ¸nh toµn bé chi phÝ ph©n bæ cho hµng ho¸ b¸n ra trong kú cña doanh nghiÖp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.VnArial"/>
              </a:rPr>
              <a:t>C = C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.VnArial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.VnArial"/>
              </a:rPr>
              <a:t> + C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.VnArial"/>
              </a:rPr>
              <a:t>ps</a:t>
            </a:r>
            <a:r>
              <a:rPr b="1" lang="en-US" sz="3600" spc="-1" strike="noStrike">
                <a:solidFill>
                  <a:srgbClr val="ffffff"/>
                </a:solidFill>
                <a:latin typeface=".VnArial"/>
              </a:rPr>
              <a:t> – C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.Vn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 :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 chi phÝ ph©n bæ cho hµng ho¸ b¸n ra trong kú (tæng møc phÝ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.Vn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 chi phÝ ph©n bæ cho hµng ho¸ dù tr÷ ®Çu k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.VnArial"/>
              </a:rPr>
              <a:t>ps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 tæng chi phÝ kinh doanh ph¸t sinh trong k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.Vn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 chi phÝ ph©n bæ cho hµng ho¸ dù tr÷ cuèi k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a. Tæng møc phÝ (tiÕp)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5840" y="1371600"/>
          <a:ext cx="7715520" cy="471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5840" y="1371600"/>
                    <a:ext cx="771552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. </a:t>
            </a: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Tû suÊt ph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0560" y="1143000"/>
          <a:ext cx="777240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1143000"/>
                    <a:ext cx="777240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016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. </a:t>
            </a:r>
            <a:r>
              <a:rPr b="1" lang="en-US" sz="4400" spc="-1" strike="noStrike">
                <a:solidFill>
                  <a:srgbClr val="ff0000"/>
                </a:solidFill>
                <a:latin typeface=".VnArial"/>
              </a:rPr>
              <a:t>Tû suÊt phÝ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96920" y="1523880"/>
          <a:ext cx="636264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6920" y="1523880"/>
                    <a:ext cx="6362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c. Møc ®é h¹ thÊp tû suÊt ph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080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Lµ chØ tiªu t­¬ng ®èi ph¶n ¸nh t×nh h×nh, kÕt qu¶ h¹ thÊp chi phÝ qua hai tû suÊt chi phÝ ®em so s¸nh, ®Ó ®¸nh gi¸ sù phÊn ®Êu h¹ thÊp tû suÊt chi phÝ hoÆc sù tiÕn bé trong c«ng t¸c qu¶n lý chi phÝ cña doanh nghiÖ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.VnArial"/>
              </a:rPr>
              <a:t>M</a:t>
            </a:r>
            <a:r>
              <a:rPr b="1" lang="en-US" sz="4000" spc="-1" strike="noStrike" baseline="-25000">
                <a:solidFill>
                  <a:srgbClr val="cc0000"/>
                </a:solidFill>
                <a:latin typeface=".VnArial"/>
              </a:rPr>
              <a:t>c’</a:t>
            </a:r>
            <a:r>
              <a:rPr b="1" lang="en-US" sz="4000" spc="-1" strike="noStrike">
                <a:solidFill>
                  <a:srgbClr val="cc0000"/>
                </a:solidFill>
                <a:latin typeface=".VnArial"/>
              </a:rPr>
              <a:t> = C’</a:t>
            </a:r>
            <a:r>
              <a:rPr b="1" lang="en-US" sz="4000" spc="-1" strike="noStrike" baseline="-25000">
                <a:solidFill>
                  <a:srgbClr val="cc0000"/>
                </a:solidFill>
                <a:latin typeface=".VnArial"/>
              </a:rPr>
              <a:t>1</a:t>
            </a:r>
            <a:r>
              <a:rPr b="1" lang="en-US" sz="4000" spc="-1" strike="noStrike">
                <a:solidFill>
                  <a:srgbClr val="cc0000"/>
                </a:solidFill>
                <a:latin typeface=".VnArial"/>
              </a:rPr>
              <a:t> – C’</a:t>
            </a:r>
            <a:r>
              <a:rPr b="1" lang="en-US" sz="4000" spc="-1" strike="noStrike" baseline="-25000">
                <a:solidFill>
                  <a:srgbClr val="cc0000"/>
                </a:solidFill>
                <a:latin typeface=".Vn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M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.VnArial"/>
              </a:rPr>
              <a:t>c’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møc ®é h¹ thÊp chi ph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’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.Vn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tû suÊt chi phÝ kú so s¸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’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.Vn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tû suÊt chi phÝ kú gè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Tuú theo môc ®Ých nghiªn cøu ®Ó chän kú so s¸nh vµ kú gèc cho phï hîp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.VnTime"/>
              </a:rPr>
              <a:t>C©u hái th¶o luË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1. Ph©n biÖt chi phÝ s¶n xuÊt kinh doanh vµ gi¸ thµnh s¶n xuÊ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2. Cã nh÷ng lo¹i gi¸ thµnh s¶n phÈm nµ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3. H¹ gi¸ thµnh s¶n phÈm ®em l¹i lîi Ých g× cho doanh nghiÖp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4. ViÖc ®Èy manh tiªu thô, t¨ng doanh thu cña doanh nghiÖp ®em l¹i lîi Ých g× cho doanh nghiÖp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5. T¹i sao lîi nhuËn tÝnh thuÕ cã thÓ kh¸c víi lîi nhuËn thùc tÕ cña doanh nghiÖp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d. Tèc ®é gi¶m tû suÊt ph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447920"/>
          <a:ext cx="7846920" cy="5005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47920"/>
                    <a:ext cx="78469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e. Sè tiÒn tiÕt kiÖm do h¹ thÊp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chi phÝ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232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ChØ tiªu nµy lµm râ thªm chØ tiªu møc ®é h¹ thÊp chi phÝ b»ng c¸ch biÓu hiÖn tõ sè t­¬ng ®èi (%) sang sè tuyÖt ®èi vÒ h¹ thÊp chi ph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T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.VnArial"/>
              </a:rPr>
              <a:t>k</a:t>
            </a: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 = M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.VnArial"/>
              </a:rPr>
              <a:t>c’</a:t>
            </a: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 D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.Vn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Trong ®ã: 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.VnArial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 sè tiÒn tiÕt kiÖm do h¹ thÊp chi ph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.Vn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 tæng møc doanh thu kú so s¸n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3.2. C¸c nh©n tè ¶nh h­ëng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®Õn chi phÝ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.Vn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.VnTimeH"/>
              </a:rPr>
              <a:t>¶</a:t>
            </a:r>
            <a:r>
              <a:rPr b="1" lang="en-US" sz="2800" spc="-1" strike="noStrike">
                <a:solidFill>
                  <a:srgbClr val="ffff00"/>
                </a:solidFill>
                <a:latin typeface=".VnArial"/>
              </a:rPr>
              <a:t>nh h­ëng cña møc l­u chuyÓn hµng ho¸ vµ cÊu thµnh l­u chuyÓn hµng ho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Chi phÝ KD cã thÓ chia lµm hai lo¹i: chi phÝ kh¶ biÕn vµ chi phÝ bÊt biÕn. Khi møc l­u chuyÓn hµng ho¸ t¨ng lªn, chi phÝ kh¶ biÕn t¨ng lªn nh­ng kh«ng nhÊt thiÕt t¨ng theo tèc ®é t¨ng cña møc l­u chuyÓn hµng ho¸, cßn chi phÝ bÊt biÕn kh«ng t¨ng hoÆc t¨ng kh«ng ®¸ng kÓ. V× vËy, khi t¨ng møc l­u chuyÓn hµng ho¸, tû suÊt chi phÝ cã thÓ ®­îc h¹ thÊ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.VnArial"/>
              </a:rPr>
              <a:t>a. </a:t>
            </a:r>
            <a:r>
              <a:rPr b="1" lang="en-US" sz="3600" spc="-1" strike="noStrike">
                <a:solidFill>
                  <a:srgbClr val="ffff00"/>
                </a:solidFill>
                <a:latin typeface=".VnTimeH"/>
              </a:rPr>
              <a:t>¶</a:t>
            </a:r>
            <a:r>
              <a:rPr b="1" lang="en-US" sz="3600" spc="-1" strike="noStrike">
                <a:solidFill>
                  <a:srgbClr val="ffff00"/>
                </a:solidFill>
                <a:latin typeface=".VnArial"/>
              </a:rPr>
              <a:t>nh h­ëng cña møc l­u chuyÓn hµng ho¸ vµ cÊu thµnh l­u chuyÓn hµng ho¸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0016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lnSpc>
                <a:spcPct val="11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.VnArial"/>
              </a:rPr>
              <a:t>CÊu thµnh l­u chuyÓn hµng ho¸ còng ¶nh h­ëng ®Õn chi phÝ KD. NÕu DN kinh doanh nh÷ng lo¹i hµng ho¸ cã chÊt l­îng tèt, hîp thÞ hiÕu, b¸n ®­îc nhanh th× cã ®iÒu kiÖn gi¶m c¸c kho¶n chi phÝ nh­: chi phÝ b¶o qu¶n, hao hôt hµng ho¸,..., do ®ã møc chi phÝ ®­îc h¹ thÊp vµ ng­îc l¹i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016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.VnArial"/>
              </a:rPr>
              <a:t>b. </a:t>
            </a:r>
            <a:r>
              <a:rPr b="1" lang="en-US" sz="4400" spc="-1" strike="noStrike">
                <a:solidFill>
                  <a:srgbClr val="ff0000"/>
                </a:solidFill>
                <a:latin typeface=".VnTimeH"/>
              </a:rPr>
              <a:t>¶</a:t>
            </a:r>
            <a:r>
              <a:rPr b="1" lang="en-US" sz="4400" spc="-1" strike="noStrike">
                <a:solidFill>
                  <a:srgbClr val="ff0000"/>
                </a:solidFill>
                <a:latin typeface=".VnArial"/>
              </a:rPr>
              <a:t>nh h­ëng cña c¸c nh©n tè thuéc vÒ s¶n xuÊ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308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NÕu hµng ho¸ SX ra hîp thÞ hiÕu, chÊt l­îng ®¶m b¶o tèt, mÉu m· bao b× ®Ñp, t¹o ®iÒu kiÖn më réng l­u chuyÓn hµng ho¸ th× tû suÊt chi phÝ sÏ ®­îc h¹ thÊ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Ph©n bè s¶n xuÊt hîp lý, doanh nghiÖp s¶n xuÊt gÇn n¬i cung cÊp nguyªn liÖu vµ gÇn thÞ tr­êng tiªu thô, t¹o ®iÒu kiÖn tæ chøc vËn ®éng hµng ho¸ hîp lý dÉn tíi kh¶ n¨ng h¹ thÊp chi phÝ kinh doan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0016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c. </a:t>
            </a: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¶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nh h­ëng cña nh©n tè m¹ng l­íi vµ c¬ së vËt chÊt kü thuËt th­¬ng m¹i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NÕu m¹ng l­íi th­¬ng m¹i ®­îc më réng, hÖ thèng kho tµng, cöa hµng, cöa hiÖu ®­îc s¾p xÕp hîp lý, võa tiÖn cho dù tr÷ hµng ho¸, võa ®¶m b¶o phôc vô tèt cho tiªu thô hµng ho¸, th× cã thÓ gi¶m bít ®­îc nh÷ng kh©u trung gian kh«ng cÇn thiÕt, tiÕt kiÖm ®­îc chi ph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c. </a:t>
            </a: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¶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nh h­ëng cña nh©n tè m¹ng l­íi vµ c¬ së vËt chÊt kü thuËt th­¬ng m¹i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016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C¬ së vËt chÊt kü thuËt trong DNTM ®­îc t¨ng c­êng ®Ó më réng l­u chuyÓn hµng ho¸, t¨ng n¨ng suÊt lao ®éng, gi¶m chi phÝ vËn chuyÓn, chi phÝ hao hôt hµng ho¸,..., th× møc chi phÝ còng ®­îc h¹ thÊ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d. </a:t>
            </a: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¶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nh h­ëng cña nh©n tè gi¸ c¶ tíi chi phÝ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156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Gi¸ c¶ vËt liÖu, dông cô mua s¾m phôc vô kinh doanh (nh­ bao b×, vËt liÖu ®ãng gãi, dông cô vËt liÖu b¶o qu¶n,...) hoÆc gi¸ c¶ lao vô cña c¸c ngµnh: vËn t¶i, b­u chÝnh viÔn th«ng, ®iÖn, n­íc,..., t¨ng lªn, chi phÝ sÏ t¨ng lªn vµ ng­îc l¹i. ViÖc tÝnh to¸n vµ vËn dông gi¸ c¶ hîp lý kh«ng nh÷ng cã thÓ h¹ thÊp ®­îc chi phÝ mµ vÉn ®¶m b¶o ®­îc chÊt l­îng c«ng t¸c SXK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d. </a:t>
            </a: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¶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nh h­ëng cña c¸c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nh©n tè kh¸c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0016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Ngoµi ra, chi phÝ kinh doanh cßn chÞu ¶nh h­ëng cña c¸c nh©n tè kh¸c nh­: tæ chøc c«ng t¸c vËn chuyÓn xÕp dì hµng ho¸, tæ chøc sö dông lao ®éng vµ t¨ng n¨ng suÊt lao ®éng, chÕ ®é tiÒn l­¬ng,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0016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3.3. Nh÷ng biÖn ph¸p chñ yÕu nh»m h¹ thÊp chi phÝ kinh doanh T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.VnArial"/>
              </a:rPr>
              <a:t>§äc gi¸o tr×n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.VnTime"/>
              </a:rPr>
              <a:t>C©u hái th¶o luËn (</a:t>
            </a:r>
            <a:r>
              <a:rPr b="1" lang="en-US" sz="4400" spc="-1" strike="noStrike">
                <a:solidFill>
                  <a:srgbClr val="ffffff"/>
                </a:solidFill>
                <a:latin typeface=".VnArial"/>
              </a:rPr>
              <a:t>tiếp</a:t>
            </a:r>
            <a:r>
              <a:rPr b="1" lang="en-US" sz="4400" spc="-1" strike="noStrike">
                <a:solidFill>
                  <a:srgbClr val="ffffff"/>
                </a:solidFill>
                <a:latin typeface=".VnTime"/>
              </a:rPr>
              <a:t>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6. H·y nªu nh÷ng lý do ph¶i sö dông kÕt hîp chØ tiªu lîi nhuËn vµ tû suÊt lîi nhuËn ®Ó ®¸nh gi¸ hiÖu qu¶ ho¹t ®éng s¶n xuÊt kinh doanh cña doanh nghiÖ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7. V× sao c¸c doanh nghiÖp ph¶i trÝch lËp c¸c quü cña doanh nghiÖp nh­ quü ®Çu t­ ph¸t triÓn, quü khen th­ëng, phóc lîi,..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8. Ph©n biÖt doanh thu b¸n hµng vµ tiÒn thu b¸n hµ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3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4. Gi¸ thµnh s¶n phÈm cña D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.VnArial"/>
              </a:rPr>
              <a:t>* Kh¸i niÖ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Gi¸ thµnh s¶n phÈm lµ biÓu hiÖn b»ng tiÒn cña toµn bé chi phÝ cña doanh nghiÖp ®Ó hoµn thµnh viÖc s¶n xuÊt vµ tiªu thô mét lo¹i s¶n phÈm nhÊt ®Þn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Gi¸ thµnh s¶n phÈm cña mét doanh nghiÖp biÓu hiÖn chi phÝ c¸ biÖt cña doanh nghiÖp ®Ó s¶n xuÊt vµ tiªu thô s¶n phÈ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.VnArial"/>
              </a:rPr>
              <a:t>* Ph©n lo¹i gi¸ thµnh s¶n phÈm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1067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Theo ph¹m vi tÝnh gi¸ thµnh S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4560" y="2694960"/>
            <a:ext cx="4100400" cy="3861360"/>
            <a:chOff x="214560" y="2694960"/>
            <a:chExt cx="4100400" cy="3861360"/>
          </a:xfrm>
        </p:grpSpPr>
        <p:sp>
          <p:nvSpPr>
            <p:cNvPr id="151" name="_s202757"/>
            <p:cNvSpPr/>
            <p:nvPr/>
          </p:nvSpPr>
          <p:spPr>
            <a:xfrm>
              <a:off x="754200" y="3181680"/>
              <a:ext cx="2720880" cy="28879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202758"/>
            <p:cNvSpPr/>
            <p:nvPr/>
          </p:nvSpPr>
          <p:spPr>
            <a:xfrm rot="7200000">
              <a:off x="670320" y="3265200"/>
              <a:ext cx="2887920" cy="2720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202759"/>
            <p:cNvSpPr/>
            <p:nvPr/>
          </p:nvSpPr>
          <p:spPr>
            <a:xfrm rot="14400000">
              <a:off x="670680" y="3264840"/>
              <a:ext cx="2887920" cy="2720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02760"/>
            <p:cNvSpPr/>
            <p:nvPr/>
          </p:nvSpPr>
          <p:spPr>
            <a:xfrm>
              <a:off x="2638440" y="3584160"/>
              <a:ext cx="167652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Chi ph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nh©n c«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trùc tiÕ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202761"/>
            <p:cNvSpPr/>
            <p:nvPr/>
          </p:nvSpPr>
          <p:spPr>
            <a:xfrm>
              <a:off x="1600200" y="5409000"/>
              <a:ext cx="106704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Chi phÝ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s¶n xuÊ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chun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02762"/>
            <p:cNvSpPr/>
            <p:nvPr/>
          </p:nvSpPr>
          <p:spPr>
            <a:xfrm>
              <a:off x="457200" y="3584160"/>
              <a:ext cx="109224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Chi phÝ NV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trùc tiÕp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71600" y="3897720"/>
              <a:ext cx="1447920" cy="1536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1600" y="42685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.VnVogue"/>
                </a:rPr>
                <a:t>Gi¸ thµnh s¶n xuÊt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91040" y="2663280"/>
            <a:ext cx="3924360" cy="3804480"/>
            <a:chOff x="4991040" y="2663280"/>
            <a:chExt cx="3924360" cy="3804480"/>
          </a:xfrm>
        </p:grpSpPr>
        <p:sp>
          <p:nvSpPr>
            <p:cNvPr id="160" name="_s202767"/>
            <p:cNvSpPr/>
            <p:nvPr/>
          </p:nvSpPr>
          <p:spPr>
            <a:xfrm>
              <a:off x="5618160" y="3173400"/>
              <a:ext cx="2784600" cy="27846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02768"/>
            <p:cNvSpPr/>
            <p:nvPr/>
          </p:nvSpPr>
          <p:spPr>
            <a:xfrm rot="7200000">
              <a:off x="5617440" y="3173400"/>
              <a:ext cx="2784600" cy="27846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02769"/>
            <p:cNvSpPr/>
            <p:nvPr/>
          </p:nvSpPr>
          <p:spPr>
            <a:xfrm rot="14400000">
              <a:off x="5618160" y="3172680"/>
              <a:ext cx="2784600" cy="27846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202770"/>
            <p:cNvSpPr/>
            <p:nvPr/>
          </p:nvSpPr>
          <p:spPr>
            <a:xfrm>
              <a:off x="7591680" y="3689280"/>
              <a:ext cx="132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Chi ph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b¸n hµ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02771"/>
            <p:cNvSpPr/>
            <p:nvPr/>
          </p:nvSpPr>
          <p:spPr>
            <a:xfrm>
              <a:off x="6586560" y="530244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Chi phÝ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qu¶n l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doanh nghiÖp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202772"/>
            <p:cNvSpPr/>
            <p:nvPr/>
          </p:nvSpPr>
          <p:spPr>
            <a:xfrm>
              <a:off x="4991040" y="3560760"/>
              <a:ext cx="143856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Gi¸ thµn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.VnArial"/>
                </a:rPr>
                <a:t>s¶n xuÊ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0200" y="3841920"/>
              <a:ext cx="1447920" cy="1447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97760" y="4245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.VnVogue"/>
                </a:rPr>
                <a:t>GI¸ thµnh toµn b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572000" y="14479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511360"/>
            <a:ext cx="48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5146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146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619760" cy="762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Theo kÕ ho¹ch ho¸ gi¸ thµnh SP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71600" y="3186000"/>
            <a:ext cx="1600200" cy="1538280"/>
            <a:chOff x="1371600" y="3186000"/>
            <a:chExt cx="1600200" cy="1538280"/>
          </a:xfrm>
        </p:grpSpPr>
        <p:sp>
          <p:nvSpPr>
            <p:cNvPr id="174" name=""/>
            <p:cNvSpPr/>
            <p:nvPr/>
          </p:nvSpPr>
          <p:spPr>
            <a:xfrm>
              <a:off x="1371600" y="3186000"/>
              <a:ext cx="1523880" cy="1538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35053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.VnVogue"/>
                </a:rPr>
                <a:t>Gi¸ thµnh thùc t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7760" y="3200400"/>
            <a:ext cx="1600200" cy="1447920"/>
            <a:chOff x="6197760" y="3200400"/>
            <a:chExt cx="1600200" cy="1447920"/>
          </a:xfrm>
        </p:grpSpPr>
        <p:sp>
          <p:nvSpPr>
            <p:cNvPr id="177" name=""/>
            <p:cNvSpPr/>
            <p:nvPr/>
          </p:nvSpPr>
          <p:spPr>
            <a:xfrm>
              <a:off x="6280200" y="3200400"/>
              <a:ext cx="1447920" cy="1447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97760" y="35812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.VnVogue"/>
                </a:rPr>
                <a:t>GI¸ thµnh kÕ ho¹c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72000" y="14479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511360"/>
            <a:ext cx="48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25146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5146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80880" y="1443600"/>
            <a:ext cx="8305200" cy="3813120"/>
            <a:chOff x="380880" y="1443600"/>
            <a:chExt cx="8305200" cy="3813120"/>
          </a:xfrm>
        </p:grpSpPr>
        <p:cxnSp>
          <p:nvCxnSpPr>
            <p:cNvPr id="184" name="_s198677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605200" y="1896120"/>
              <a:ext cx="763200" cy="29073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7" name="_s198676"/>
            <p:cNvCxnSpPr>
              <a:stCxn id="188" idx="0"/>
              <a:endCxn id="186" idx="2"/>
            </p:cNvCxnSpPr>
            <p:nvPr/>
          </p:nvCxnSpPr>
          <p:spPr>
            <a:xfrm flipV="1">
              <a:off x="4533120" y="2968560"/>
              <a:ext cx="324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9" name="_s198675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2698200" y="1896480"/>
              <a:ext cx="763200" cy="29073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6" name="_s198671"/>
            <p:cNvSpPr/>
            <p:nvPr/>
          </p:nvSpPr>
          <p:spPr>
            <a:xfrm>
              <a:off x="3287520" y="1443600"/>
              <a:ext cx="2491560" cy="1525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.VnTimeH"/>
                </a:rPr>
                <a:t>ý nghÜ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.VnTimeH"/>
                </a:rPr>
                <a:t>cña gi¸ thµnh</a:t>
              </a:r>
              <a:r>
                <a:rPr b="1" lang="en-US" sz="2000" spc="-1" strike="noStrike">
                  <a:solidFill>
                    <a:srgbClr val="000066"/>
                  </a:solidFill>
                  <a:latin typeface=".VnTimeH"/>
                </a:rPr>
                <a:t> 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198672"/>
            <p:cNvSpPr/>
            <p:nvPr/>
          </p:nvSpPr>
          <p:spPr>
            <a:xfrm>
              <a:off x="380880" y="3731400"/>
              <a:ext cx="2491560" cy="1525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Gi¸ thµnh lµ th­í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®o møc hao ph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®Ó sx vµ tiªu thô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1 ®¬n vÞ s¶n phÈm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98673"/>
            <p:cNvSpPr/>
            <p:nvPr/>
          </p:nvSpPr>
          <p:spPr>
            <a:xfrm>
              <a:off x="3287520" y="3731400"/>
              <a:ext cx="2491560" cy="1525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Gi¸ thµnh lµ c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së ®Ó x¸c ®Þn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kÕt qu¶ kinh doan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98674"/>
            <p:cNvSpPr/>
            <p:nvPr/>
          </p:nvSpPr>
          <p:spPr>
            <a:xfrm>
              <a:off x="6194520" y="3731400"/>
              <a:ext cx="2491560" cy="1525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Gi¸ thµnh lµ c¨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cø ®Ó kiÓm tr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Time"/>
                </a:rPr>
                <a:t>vµ gi¸m s¸t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027160" y="1785960"/>
            <a:ext cx="6274440" cy="4235400"/>
            <a:chOff x="2027160" y="1785960"/>
            <a:chExt cx="6274440" cy="4235400"/>
          </a:xfrm>
        </p:grpSpPr>
        <p:sp>
          <p:nvSpPr>
            <p:cNvPr id="192" name="_s206853"/>
            <p:cNvSpPr/>
            <p:nvPr/>
          </p:nvSpPr>
          <p:spPr>
            <a:xfrm flipH="1">
              <a:off x="3809520" y="4149360"/>
              <a:ext cx="64152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206854"/>
            <p:cNvSpPr/>
            <p:nvPr/>
          </p:nvSpPr>
          <p:spPr>
            <a:xfrm>
              <a:off x="2027160" y="4150800"/>
              <a:ext cx="2037960" cy="18705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440" rIns="4644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Trùc tiÕ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gia t¨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lîi nhuË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206855"/>
            <p:cNvSpPr/>
            <p:nvPr/>
          </p:nvSpPr>
          <p:spPr>
            <a:xfrm>
              <a:off x="5483880" y="4149360"/>
              <a:ext cx="96408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206856"/>
            <p:cNvSpPr/>
            <p:nvPr/>
          </p:nvSpPr>
          <p:spPr>
            <a:xfrm>
              <a:off x="6265440" y="4282560"/>
              <a:ext cx="2036160" cy="1738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440" rIns="4644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Më rén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quy m«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sxkd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206857"/>
            <p:cNvSpPr/>
            <p:nvPr/>
          </p:nvSpPr>
          <p:spPr>
            <a:xfrm flipV="1">
              <a:off x="4986360" y="3041280"/>
              <a:ext cx="1080" cy="32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206858"/>
            <p:cNvSpPr/>
            <p:nvPr/>
          </p:nvSpPr>
          <p:spPr>
            <a:xfrm>
              <a:off x="4124520" y="1785960"/>
              <a:ext cx="1711080" cy="12553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440" rIns="4644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Thóc ®Èy tiªu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thô, t¨n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c¹nh tran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206859"/>
            <p:cNvSpPr/>
            <p:nvPr/>
          </p:nvSpPr>
          <p:spPr>
            <a:xfrm>
              <a:off x="4023360" y="3298680"/>
              <a:ext cx="1996560" cy="1598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440" rIns="4644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H¹ gi¸ thµnh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.VnArial"/>
                </a:rPr>
                <a:t>s¶n phÈ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122040"/>
            <a:ext cx="6705720" cy="944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* H¹ gi¸ thµnh s¶n phÈm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135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ý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nghÜ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0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Time"/>
              </a:rPr>
              <a:t>ChØ tiªu ®¸nh gi¸ t×nh h×nh thùc hiÖn h¹ gi¸ thµnh s¶n phÈm</a:t>
            </a:r>
            <a:r>
              <a:rPr b="1" lang="en-US" sz="4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06560" y="1600200"/>
          <a:ext cx="7504200" cy="52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00200"/>
                    <a:ext cx="750420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7088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.VnTime"/>
              </a:rPr>
              <a:t>* C¸c nh©n tè ¶nh h­ëng ®Õn TK chi phÝ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.VnTime"/>
              </a:rPr>
              <a:t>vµ h¹ gi¸ thµnh S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1142640"/>
            <a:ext cx="8153280" cy="5181840"/>
            <a:chOff x="533520" y="1142640"/>
            <a:chExt cx="8153280" cy="5181840"/>
          </a:xfrm>
        </p:grpSpPr>
        <p:sp>
          <p:nvSpPr>
            <p:cNvPr id="206" name="_s211973"/>
            <p:cNvSpPr/>
            <p:nvPr/>
          </p:nvSpPr>
          <p:spPr>
            <a:xfrm flipH="1" flipV="1">
              <a:off x="2742840" y="3047400"/>
              <a:ext cx="1351080" cy="74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211974"/>
            <p:cNvSpPr/>
            <p:nvPr/>
          </p:nvSpPr>
          <p:spPr>
            <a:xfrm>
              <a:off x="533520" y="1752480"/>
              <a:ext cx="2438280" cy="1676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Time"/>
                </a:rPr>
                <a:t>Kü thuËt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Time"/>
                </a:rPr>
                <a:t>c«ng ngh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Time"/>
                </a:rPr>
                <a:t>s¶n xuÊ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211975"/>
            <p:cNvSpPr/>
            <p:nvPr/>
          </p:nvSpPr>
          <p:spPr>
            <a:xfrm flipH="1">
              <a:off x="3124080" y="4495680"/>
              <a:ext cx="68580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211976"/>
            <p:cNvSpPr/>
            <p:nvPr/>
          </p:nvSpPr>
          <p:spPr>
            <a:xfrm>
              <a:off x="609840" y="4571640"/>
              <a:ext cx="2666880" cy="1676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M«I tr­ê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kinh t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vµ ph¸p luË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211977"/>
            <p:cNvSpPr/>
            <p:nvPr/>
          </p:nvSpPr>
          <p:spPr>
            <a:xfrm>
              <a:off x="5343480" y="4419360"/>
              <a:ext cx="92412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211978"/>
            <p:cNvSpPr/>
            <p:nvPr/>
          </p:nvSpPr>
          <p:spPr>
            <a:xfrm>
              <a:off x="6096240" y="4647960"/>
              <a:ext cx="2590560" cy="1676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§iÒu kiÖ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tù nhiª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211979"/>
            <p:cNvSpPr/>
            <p:nvPr/>
          </p:nvSpPr>
          <p:spPr>
            <a:xfrm flipV="1">
              <a:off x="5486400" y="3123720"/>
              <a:ext cx="83844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211980"/>
            <p:cNvSpPr/>
            <p:nvPr/>
          </p:nvSpPr>
          <p:spPr>
            <a:xfrm>
              <a:off x="6096240" y="1771560"/>
              <a:ext cx="2549520" cy="1809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Tr×nh ®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qu¶n lý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211981"/>
            <p:cNvSpPr/>
            <p:nvPr/>
          </p:nvSpPr>
          <p:spPr>
            <a:xfrm flipV="1">
              <a:off x="4556160" y="2666880"/>
              <a:ext cx="158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_s211982"/>
            <p:cNvSpPr/>
            <p:nvPr/>
          </p:nvSpPr>
          <p:spPr>
            <a:xfrm>
              <a:off x="3200400" y="1142640"/>
              <a:ext cx="2667240" cy="1524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Tr×nh ®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rial"/>
                </a:rPr>
                <a:t>lao ®é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211983"/>
            <p:cNvSpPr/>
            <p:nvPr/>
          </p:nvSpPr>
          <p:spPr>
            <a:xfrm>
              <a:off x="3559320" y="3047760"/>
              <a:ext cx="1981080" cy="1752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.VnArial"/>
                </a:rPr>
                <a:t>Nh©n tè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.VnArial"/>
                </a:rPr>
                <a:t>¶nh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.VnArial"/>
                </a:rPr>
                <a:t>h­ë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122040"/>
            <a:ext cx="769608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.VnTime"/>
              </a:rPr>
              <a:t>C¸c biÖn ph¸p chñ yÕu ®Ó tiÕt kiÖm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.VnTime"/>
              </a:rPr>
              <a:t>chi phÝ, h¹ gi¸ thµnh S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24080"/>
            <a:ext cx="14479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Vogue"/>
              </a:rPr>
              <a:t>BiÖn ph¸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676520" y="1752480"/>
            <a:ext cx="99036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1174680"/>
            <a:ext cx="617220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h­êng xuyªn ®æi míi kü thuËt, c«ng nghÖ s¶n xuÊt, øng dông kÞp thêi c¸c thµnh tùu tiÕn bé KH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676520" y="236232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1981080"/>
            <a:ext cx="617220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Kh«ng ngõng hoµn thiÖn vµ n©ng cao tr×nh ®é tæ chøc s¶n xuÊt, tæ chøc lao ®éng gãp phÇn n©ng cao NSL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66880" y="2819520"/>
            <a:ext cx="617220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¨ng c­êng ho¹t ®éng kiÓm tra gi¸m s¸t tµi chÝnh ®èi víi ho¹t ®éng s¶n xuÊt kinh doan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76520" y="320004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3657600"/>
            <a:ext cx="617220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X©y dùng ®Þnh møc vµ kÕ ho¹ch chi phÝ ®Ó t¹o ®iÒu kiÖn qu¶n l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350532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4495680"/>
            <a:ext cx="617220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X¸c ®Þnh râ néi dung vµ ph¹m vi sö dông chi phÝ ®Ó qu¶n lý phï hî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5257800"/>
            <a:ext cx="617220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§Þnh kú tiÕn hµnh ph©n tÝch, ®¸nh gi¸ t×nh h×nh qu¶n lý chi phÝ ®Ó cã biÖn ph¸p ®iÒu chØnh phï hîp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6127920"/>
            <a:ext cx="617220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hùc hiÖn c¸c biÖn ph¸p kinh tÕ nh»m kÝch thÝch viÖc tiÕt kiÖm chi phÝ ®èi víi c¸n bé, c«ng nh©n viª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350532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3581280"/>
            <a:ext cx="9144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505320"/>
            <a:ext cx="99072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TimeH"/>
              </a:rPr>
              <a:t>II. Doanh thu cña d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0042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.VnTime"/>
              </a:rPr>
              <a:t>1. Doanh thu trong n¨m tµi chÝnh cña D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Doanh thu lµ biÓu hiÖn tæng gi¸ trÞ c¸c lîi Ých kinh tÕ mµ DN thu ®­îc tõ ho¹t ®éng kinh doanh vµ ho¹t ®éng kh¸c trong mét thêi kú nhÊt ®Þn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Doanh thu cña doanh nghiÖp bao gå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Doanh thu ho¹t ®éng kinh doanh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Doanh thu b¸n hµ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Doanh thu tµi chÝn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Doanh thu tõ c¸c ho¹t ®éng kh¸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 Doanh thu tiªu thô s¶n phÈm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hµng ho¸ - dÞch vô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.VnArial"/>
              </a:rPr>
              <a:t>2.1. Tiªu thô s¶n phÈm cña doanh nghiÖp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Tiªu thô s¶n phÈm lµ qu¸ tr×nh ®¬n vÞ b¸n xuÊt giao s¶n phÈm cho ®¬n vÞ mua vµ thu ®­îc kho¶n tiÒn vÒ sè s¶n phÈm ®ã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Thêi ®iÓm tiªu thô ®­îc x¸c ®Þnh lµ khi ng­êi mua s¶n phÈm hµng ho¸ - dÞch vô ®· chÊp nhËn thanh to¸n, kh«ng phô thuéc vµo viÖc tiÒn ®· thu ®­îc hay ch­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Khi tiªu thô ®­îc c¸c s¶n phÈm hµng ho¸ - dÞch vô, c¸c doanh nghiÖp sÏ cã mét kho¶n doanh thu b¸n hµng hay cßn gäi lµ doanh thu tiªu thô s¶n phÈ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743200"/>
            <a:ext cx="1981080" cy="1757160"/>
          </a:xfrm>
          <a:prstGeom prst="rect">
            <a:avLst/>
          </a:prstGeom>
          <a:solidFill>
            <a:srgbClr val="009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Chi phÝ kinh doa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52280"/>
            <a:ext cx="2286000" cy="2895840"/>
          </a:xfrm>
          <a:prstGeom prst="wedgeEllipseCallout">
            <a:avLst>
              <a:gd name="adj1" fmla="val 92708"/>
              <a:gd name="adj2" fmla="val 4254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¸c lo¹i chi phÝ kinh doa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05320"/>
            <a:ext cx="2209680" cy="2895480"/>
          </a:xfrm>
          <a:prstGeom prst="wedgeEllipseCallout">
            <a:avLst>
              <a:gd name="adj1" fmla="val 97555"/>
              <a:gd name="adj2" fmla="val -1929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Gi¸ thµnh s¶n phÈ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3733920"/>
            <a:ext cx="2362320" cy="2895480"/>
          </a:xfrm>
          <a:prstGeom prst="wedgeEllipseCallout">
            <a:avLst>
              <a:gd name="adj1" fmla="val -91666"/>
              <a:gd name="adj2" fmla="val -27194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¸c lo¹i thuÕ chñ yÕu cña doanh nghiÖ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28600"/>
            <a:ext cx="2286000" cy="2971800"/>
          </a:xfrm>
          <a:prstGeom prst="wedgeEllipseCallout">
            <a:avLst>
              <a:gd name="adj1" fmla="val -96527"/>
              <a:gd name="adj2" fmla="val 3611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TiÕt kiÖ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h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ph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0016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2. Doanh thu tiªu thô s¶n phÈm hµng ho¸ - dÞch vô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Doanh thu tiªu thô s¶n phÈm hµng ho¸ - dÞch vô lµ toµn bé sè tiÒn b¸n s¶n phÈm hµng ho¸, cung øng dÞch vô trªn thÞ tr­êng sau khi ®· trõ ®i c¸c kho¶n chiÕt khÊu b¸n hµng, gi¶m gi¸ hµng b¸n, hµng b¸n bÞ tr¶ l¹i (nÕu cã chøng tõ hîp lÖ); vµ phÇn trî gi¸ cña Nhµ n­íc khi thùc hiÖn viÖc cung cÊp c¸c hµng ho¸ vµ dÞch vô theo yªu cÇu cña Nhµ n­í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2. Doanh thu tiªu thô s¶n phÈm hµng ho¸ - dÞch vô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85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Doanh thu tiªu thô s¶n phÈm phô thuéc vµo ®Æc ®iÓm s¶n xuÊt, tiªu thô cña tõng ngµnh vµ cã ¶nh h­ëng ®Õn t×nh h×nh tµi chÝnh cña mçi doanh nghiÖ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Trong </a:t>
            </a:r>
            <a:r>
              <a:rPr b="0" lang="en-US" sz="2800" spc="-1" strike="noStrike">
                <a:solidFill>
                  <a:srgbClr val="ffff00"/>
                </a:solidFill>
                <a:latin typeface=".VnArial"/>
              </a:rPr>
              <a:t>ngµnh c«ng nghiÖp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, do tÝnh chÊt s¶n phÈm ®a d¹ng, nhiÒu chñng lo¹i, dùa trªn tr×nh ®é kü thuËt tiªn tiÕn, viÖc s¶n xuÊt Ýt bÞ lÖ thuéc vµo thiªn nhiªn vµ thêi vô, s¶n phÈm s¶n xuÊt ra ®­îc tiªu thô nhanh h¬n, do ®ã tiÒn thu vÒ b¸n hµng còng nhanh h¬n vµ th­êng xuyªn h¬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2. Doanh thu tiªu thô s¶n phÈm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hµng ho¸ - dÞch vô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56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Trong </a:t>
            </a:r>
            <a:r>
              <a:rPr b="0" lang="en-US" sz="2600" spc="-1" strike="noStrike">
                <a:solidFill>
                  <a:srgbClr val="ffff00"/>
                </a:solidFill>
                <a:latin typeface=".VnArial"/>
              </a:rPr>
              <a:t>ngµnh x©y dùng c¬ b¶n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, thi c«ng x©y l¾p lµ mét lo¹i h×nh s¶n xuÊt theo ®¬n ®Æt hµng, c¸c s¶n phÈm x©y l¾p ®­îc s¶n xuÊt ra theo yªu cÇu vÒ gi¸ trÞ sö dông, vÒ chÊt l­îng ®· ®Þnh cña ng­êi giao, ng­êi nhËn, cho nªn tiªu thô s¶n phÈm x©y l¾p tøc lµ bµn giao c«ng tr×nh ®· hoµn thanh cho ®¬n vÞ giao thÇu vµ thu tiÒn vÒ. ViÖc tiªu thô s¶n phÈm chÞu ¶nh h­ëng kh¸ch quan ®Õn chÕ ®é thanh to¸n theo h¹ng môc c«ng tr×nh vµ khèi l­îng hoµn thµnh theo giai ®o¹n quy ­íc, hoÆc thanh to¸n theo ®¬n vÞ h¹ng môc c«ng tr×nh ®· hoµn thµnh. Do ®ã, doanh thu còng phô thuéc vµo thêi gian vµ tiÕn ®é hoµn thµnh c«ng viÖc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0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2. Doanh thu tiªu thô s¶n phÈm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hµng ho¸ - dÞch vô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80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Trong </a:t>
            </a:r>
            <a:r>
              <a:rPr b="1" lang="en-US" sz="2800" spc="-1" strike="noStrike">
                <a:solidFill>
                  <a:srgbClr val="ffff00"/>
                </a:solidFill>
                <a:latin typeface=".VnArial"/>
              </a:rPr>
              <a:t>ngµnh n«ng nghiÖp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, do ®Æc ®iÓm s¶n xuÊt mang tÝnh chÊt thêi vô cho nªn viÖc tiªu thô s¶n phÈm còng mang tÝnh chÊt thêi vô, doanh thu vÒ tiªu thô s¶n phÈm trong n¨m th­êng tËp trung vµo vô thu ho¹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Trong c¸c </a:t>
            </a:r>
            <a:r>
              <a:rPr b="1" lang="en-US" sz="2800" spc="-1" strike="noStrike">
                <a:solidFill>
                  <a:srgbClr val="ffff00"/>
                </a:solidFill>
                <a:latin typeface=".VnArial"/>
              </a:rPr>
              <a:t>ngµnh dÞch vô c«ng céng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(vËn t¶i, du lÞch,…) doanh thu tiªu thô phô thuéc vµo tõng thêi ®iÓm vµ tÝnh chÊt phôc vô nh­ viÖc du lÞch ph¸t triÓn m¹nh vµo mïa hÌ, kh¸ch du lÞch t¨ng, kÓ c¶ kh¸ch trong n­íc vµ kh¸ch n­íc ngoµi; nªn phôc vô vËn chuyÓn còng t¨ng theo vµ do ®ã, doanh thu vÒ nh÷ng hµng ho¸, dÞch vô nµy còng t¨ng lª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2. Doanh thu tiªu thô s¶n phÈm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hµng ho¸ - dÞch vô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80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Doanh thu tiªu thô s¶n phÈm ph¶n ¸nh quy m« cña qu¸ tr×nh t¸i s¶n xuÊt, ph¶n ¸nh tr×nh ®é chØ ®¹o tæ chøc s¶n xuÊt - kinh doanh, tæ chøc c«ng t¸c thanh to¸n. Cã ®­îc doanh thu b¸n hµng, chøng tá doanh nghiÖp ®· s¶n xuÊt s¶n phÈm hµng ho¸ vµ ®· cung cÊp hµng ho¸, dÞch vô ®­îc ng­êi tiªu dïng chÊp nhË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Chøng tá s¶n phÈm s¶n xuÊt vµ tiªu thô xÐt vÒ mÆt khèi l­îng, gi¸ trÞ sö dông, chÊt l­îng vµ gi¸ c¶ ®· phï hîp víi nhu cÇu víi thÞ hiÕu cña thÞ tr­ê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2.2. Doanh thu tiªu thô s¶n phÈm hµng ho¸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dÞch vô cña DN (tiÕp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3124080"/>
            <a:ext cx="144792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H"/>
              </a:rPr>
              <a:t>ý</a:t>
            </a:r>
            <a:r>
              <a:rPr b="0" lang="en-US" sz="1800" spc="-1" strike="noStrike">
                <a:solidFill>
                  <a:srgbClr val="ffffff"/>
                </a:solidFill>
                <a:latin typeface=".VnVogue"/>
              </a:rPr>
              <a:t> nghÜa cña doanh thu b¸n hµ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676520" y="1752120"/>
            <a:ext cx="99036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1463760"/>
            <a:ext cx="617220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Doanh thu lµ nguån tµi chÝnh tiÒm n¨ng ®Ó ®¸p øng nhu cÇu thanh to¸n, chi tr¶ c¸c kho¶n chi phÝ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676520" y="3352680"/>
            <a:ext cx="9144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895480"/>
            <a:ext cx="617220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ã doanh thu thÓ hiÖn viÖc chÊp nhËn cña thÞ tr­êng ®èi víi s¶n phÈm, hµng ho¸ mµ doanh nghiÖp s¶n xuÊt kinh doanh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3581280"/>
            <a:ext cx="9144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572000"/>
            <a:ext cx="617220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Doanh thu thóc ®Èy vßng quay vèn, gãp phÇn tiÕt kiÖm vèn l­u ®éng cña doanh nghiÖ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2.2. Doanh thu tiªu thô SP hµng ho¸ dÞch vô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cña DN (tiÕp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04640" y="1284480"/>
            <a:ext cx="5040720" cy="5431320"/>
            <a:chOff x="2204640" y="1284480"/>
            <a:chExt cx="5040720" cy="5431320"/>
          </a:xfrm>
        </p:grpSpPr>
        <p:sp>
          <p:nvSpPr>
            <p:cNvPr id="257" name="_s224280"/>
            <p:cNvSpPr/>
            <p:nvPr/>
          </p:nvSpPr>
          <p:spPr>
            <a:xfrm flipH="1" flipV="1">
              <a:off x="3510720" y="3319200"/>
              <a:ext cx="608400" cy="34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224279"/>
            <p:cNvSpPr/>
            <p:nvPr/>
          </p:nvSpPr>
          <p:spPr>
            <a:xfrm>
              <a:off x="2204640" y="2301840"/>
              <a:ext cx="1399680" cy="1356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.VnTime"/>
                </a:rPr>
                <a:t>Sè l­îng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1500" spc="-1" strike="noStrike">
                  <a:solidFill>
                    <a:srgbClr val="ffffff"/>
                  </a:solidFill>
                  <a:latin typeface=".VnTime"/>
                </a:rPr>
                <a:t>s¶n phÈm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1500" spc="-1" strike="noStrike">
                  <a:solidFill>
                    <a:srgbClr val="ffffff"/>
                  </a:solidFill>
                  <a:latin typeface=".VnTime"/>
                </a:rPr>
                <a:t>sx vµ tiªu thô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224282"/>
            <p:cNvSpPr/>
            <p:nvPr/>
          </p:nvSpPr>
          <p:spPr>
            <a:xfrm flipH="1">
              <a:off x="3510720" y="4338360"/>
              <a:ext cx="608400" cy="33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224281"/>
            <p:cNvSpPr/>
            <p:nvPr/>
          </p:nvSpPr>
          <p:spPr>
            <a:xfrm>
              <a:off x="2204640" y="4340160"/>
              <a:ext cx="1399680" cy="1356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DÞch vô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trong vµ sau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b¸n hµng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224284"/>
            <p:cNvSpPr/>
            <p:nvPr/>
          </p:nvSpPr>
          <p:spPr>
            <a:xfrm>
              <a:off x="4724280" y="4676400"/>
              <a:ext cx="0" cy="68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224283"/>
            <p:cNvSpPr/>
            <p:nvPr/>
          </p:nvSpPr>
          <p:spPr>
            <a:xfrm>
              <a:off x="4025160" y="5359320"/>
              <a:ext cx="1399680" cy="13564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.VnTime"/>
                </a:rPr>
                <a:t>MÉu m·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.VnTime"/>
                </a:rPr>
                <a:t>h×nh thøc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.VnTime"/>
                </a:rPr>
                <a:t> </a:t>
              </a:r>
              <a:r>
                <a:rPr b="1" lang="en-US" sz="1700" spc="-1" strike="noStrike">
                  <a:solidFill>
                    <a:srgbClr val="ff0000"/>
                  </a:solidFill>
                  <a:latin typeface=".VnTime"/>
                </a:rPr>
                <a:t>s¶n phÈm</a:t>
              </a: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224278"/>
            <p:cNvSpPr/>
            <p:nvPr/>
          </p:nvSpPr>
          <p:spPr>
            <a:xfrm>
              <a:off x="5329080" y="4338360"/>
              <a:ext cx="608400" cy="33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24277"/>
            <p:cNvSpPr/>
            <p:nvPr/>
          </p:nvSpPr>
          <p:spPr>
            <a:xfrm>
              <a:off x="5845680" y="4340160"/>
              <a:ext cx="1399680" cy="13568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ChÊt l­î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s¶n phÈm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224276"/>
            <p:cNvSpPr/>
            <p:nvPr/>
          </p:nvSpPr>
          <p:spPr>
            <a:xfrm flipV="1">
              <a:off x="5329080" y="3319200"/>
              <a:ext cx="608400" cy="34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224275"/>
            <p:cNvSpPr/>
            <p:nvPr/>
          </p:nvSpPr>
          <p:spPr>
            <a:xfrm>
              <a:off x="5845680" y="2304000"/>
              <a:ext cx="1399680" cy="13564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.VnTime"/>
                </a:rPr>
                <a:t>KÕt cÊu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.VnTime"/>
                </a:rPr>
                <a:t> </a:t>
              </a:r>
              <a:r>
                <a:rPr b="1" lang="en-US" sz="1700" spc="-1" strike="noStrike">
                  <a:solidFill>
                    <a:srgbClr val="ff0000"/>
                  </a:solidFill>
                  <a:latin typeface=".VnTime"/>
                </a:rPr>
                <a:t>s¶n phÈm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24274"/>
            <p:cNvSpPr/>
            <p:nvPr/>
          </p:nvSpPr>
          <p:spPr>
            <a:xfrm flipV="1">
              <a:off x="4724280" y="2639520"/>
              <a:ext cx="0" cy="68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224273"/>
            <p:cNvSpPr/>
            <p:nvPr/>
          </p:nvSpPr>
          <p:spPr>
            <a:xfrm>
              <a:off x="4025160" y="1284480"/>
              <a:ext cx="1399680" cy="1356840"/>
            </a:xfrm>
            <a:prstGeom prst="ellipse">
              <a:avLst/>
            </a:prstGeom>
            <a:solidFill>
              <a:srgbClr val="ff00ff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Gi¸ b¸n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®¬n vÞ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s¶n phÈm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224272"/>
            <p:cNvSpPr/>
            <p:nvPr/>
          </p:nvSpPr>
          <p:spPr>
            <a:xfrm>
              <a:off x="4025160" y="3322800"/>
              <a:ext cx="1399680" cy="1356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Nh©n tè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¶nh h­ë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.VnTime"/>
                </a:rPr>
                <a:t>tíi doanh thu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1680" y="198108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Ph­¬ng h­íng, biÖn ph¸p t¨ng doanh thu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N©ng cao chÊt l­îng s¶n phÈ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Th­êng xuyªn thay ®æi mÉu m·, h×nh thøc ®Ó phï hîp víi thÞ hiÕu kh¸ch hµ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Cã c¸c dÞch vô hç trî trong b¸n hµng vµ sau b¸n hµ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Cã c¸c h×nh thøc khuyÕn m·i, chiÕt khÊu b¸n hµng, gi¶m gi¸ hµng b¸n khi cÇn thiÕ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Thùc hiÖn qu¶ng c¸o, tiÕp thÞ ...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1371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Time"/>
              </a:rPr>
              <a:t>2.2. Doanh thu tiªu thô SP hµng ho¸ dÞch vô cña DN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.VnArial"/>
              </a:rPr>
              <a:t>3. LËp kÕ ho¹ch doanh thu cña D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.VnArial"/>
              </a:rPr>
              <a:t>a. LËp kÕ ho¹ch doanh thu tõ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.VnArial"/>
              </a:rPr>
              <a:t>c¸c ho¹t ®éng K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93720" y="2076480"/>
          <a:ext cx="7966080" cy="427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2076480"/>
                    <a:ext cx="796608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a. LËp kÕ ho¹ch doanh thu tõ c¸c ho¹t ®éng kinh doanh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8080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Sè l­îng s¶n phÈm tiªu thô kú kÕ ho¹ch phô thuéc vµo sè l­îng s¶n phÈm s¶n xuÊt trong kú kÕ ho¹ch, sè l­îng s¶n phÈm kÕt d­ dù tÝnh ®Çu kú vµ cuèi kú kÕ ho¹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1. C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ác loại</a:t>
            </a: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 chi phÝ kinh doanh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cña doanh nghiÖp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016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.VnArial"/>
              </a:rPr>
              <a:t>a. Kh¸i niÖ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Chi phÝ s¶n xuÊt - kinh doanh cña mét doanh nghiÖp lµ toµn bé chi phÝ s¶n xuÊt, chi phÝ tiªu thô s¶n phÈm vµ c¸c kho¶n tiÒn thuÕ gi¸n thu mµ doanh nghiÖp ph¶i bá ra ®Ó thùc hiÖn ho¹t ®éng s¶n xuÊt kinh doanh trong mét thêi kú nhÊt ®Þ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Mçi ngµnh kinh tÕ ®Òu cã nh÷ng ®Æc ®iÓm kinh tÕ kü thuËt riªng ¶nh h­ëng ®Õn chi phÝ SXKD cña doanh nghiÖp trong ngµnh ®ã.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a. LËp kÕ ho¹ch doanh thu tõ c¸c ho¹t ®éng kinh doanh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567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S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.VnArial"/>
              </a:rPr>
              <a:t>ti</a:t>
            </a: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 = S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.VnArial"/>
              </a:rPr>
              <a:t>®i</a:t>
            </a: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 + S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.VnArial"/>
              </a:rPr>
              <a:t>si</a:t>
            </a:r>
            <a:r>
              <a:rPr b="1" lang="en-US" sz="4000" spc="-1" strike="noStrike">
                <a:solidFill>
                  <a:srgbClr val="ffffff"/>
                </a:solidFill>
                <a:latin typeface=".VnArial"/>
              </a:rPr>
              <a:t> – S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.VnArial"/>
              </a:rPr>
              <a:t>c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.VnArial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sè l­îng s¶n phÈm kÕt d­ dù tÝnh ®Çu kú kÕ ho¹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.Vn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sè l­îng s¶n phÈm s¶n xuÊt trong kú K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.Vn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sè l­îng s¶n phÈm kÕt d­ dù tÝnh cuèi kú kÕ ho¹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i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lo¹i s¶n phÈ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.VnArial"/>
              </a:rPr>
              <a:t>a. LËp kÕ ho¹ch doanh thu tõ c¸c ho¹t ®éng kinh doanh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Sè l­îng s¶n phÈm kÕt d­ dù tÝnh ®Çu kú kÕ ho¹ch bao gåm hai bé phËn, ®ã lµ sè l­îng s¶n phÈm tån kho ®Õn 31/12 n¨m tr­íc (n¨m b¸o c¸o) vµ sè l­îng s¶n phÈm ®· xuÊt cho kh¸ch hµng nh­ng kh¸ch hµng ch­a chÊp nhËn thanh to¸n (nÕu kh¸ch hµng ®· chÊp nhËn thanh to¸n, th× kh«ng cßn lo¹i s¶n phÈm nµ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0016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.VnArial"/>
              </a:rPr>
              <a:t>a. LËp kÕ ho¹ch doanh thu tõ c¸c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.VnArial"/>
              </a:rPr>
              <a:t>ho¹t ®éng kinh doanh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Sè l­îng s¶n phÈm kÕt d­ ®Çu kú kÕ ho¹ch ph¶i dù tÝnh theo c«ng thøc sa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.VnArial"/>
              </a:rPr>
              <a:t>®i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  = 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.VnArial"/>
              </a:rPr>
              <a:t>ci3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 + 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.VnArial"/>
              </a:rPr>
              <a:t>si4</a:t>
            </a: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 – 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.VnArial"/>
              </a:rPr>
              <a:t>ti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.VnArial"/>
              </a:rPr>
              <a:t>S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.VnArial"/>
              </a:rPr>
              <a:t>ci3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sè l­îng s¶n phÈm kÕt d­ thùc tÕ cuèi quý III kú b¸o c¸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.VnArial"/>
              </a:rPr>
              <a:t>S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.VnArial"/>
              </a:rPr>
              <a:t>si4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sè l­îng s¶n phÈm dù tÝnh s¶n xuÊt trong quý IV kú b¸o c¸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.VnArial"/>
              </a:rPr>
              <a:t>S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.VnArial"/>
              </a:rPr>
              <a:t>ti4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sè l­îng s¶n phÈm dù tÝnh tiªu thô trong quý IV kú b¸o c¸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3. LËp kÕ ho¹ch doanh thu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cña doanh nghiÖp (tiÕ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110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.VnArial"/>
              </a:rPr>
              <a:t>b. LËp kÕ ho¹ch doanh thu tõ c¸c ho¹t ®éng kh¸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Vµo ®Çu n¨m kÕ ho¹ch, doanh nghiÖp còng ph¶i lËp kÕ ho¹ch doanh thu vÒ c¸c ho¹t ®éng kh¸c nh­ c¸c ho¹t ®éng vÒ mua vµ b¸n c¸c lo¹i chøng kho¸n cã gi¸ (nh­ cæ phiÕu, tr¸i phiÕu, tÝn phiÕu,...) c¸c ho¹t ®éng tõ cho thuª tµi s¶n cè ®Þnh, thu tõ c¸c ho¹t ®éng liªn doanh, liªn kÕt, thu tõ l·i tiÒn göi, l·i tiÒn cho vay vµ c¸c kho¶n thu vÒ tiÒn ph¹t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II. Lîi nhuËn vµ ph©n phèi lîi nhuËn trong doanh nghiÖp</a:t>
            </a:r>
            <a:r>
              <a:rPr b="1" lang="en-US" sz="3600" spc="-1" strike="noStrike">
                <a:solidFill>
                  <a:srgbClr val="ffffff"/>
                </a:solidFill>
                <a:latin typeface=".Vn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.VnArial"/>
              </a:rPr>
              <a:t>1. Lîi nhuËn vµ tû suÊt lîi nhuËn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- Lîi nhuËn cña DN lµ kho¶n tiÒn chªnh lÖch gi÷a doanh thu vµ chi phÝ mµ doanh nghiÖp bá ra ®Ó ®¹t ®­îc doanh thu ®ã tõ c¸c ho¹t ®éng cña DN ®­a l¹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- Néi dung cña lîi nhuË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+ Lîi nhuËn tõ ho¹t ®éng kinh doanh gåm lîi nhuËn tiªu thô s¶n phÈm vµ lîi nhuËn ho¹t ®éng tµi chÝnh. 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+ Lîi nhuËn tõ ho¹t ®éng kh¸c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03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1. Lîi nhuËn vµ tû suÊt lîi nhuË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851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.VnTime"/>
              </a:rPr>
              <a:t> Vai trß cña lîi nhuËn</a:t>
            </a:r>
            <a:r>
              <a:rPr b="0" lang="en-US" sz="3200" spc="-1" strike="noStrike">
                <a:solidFill>
                  <a:srgbClr val="ffff00"/>
                </a:solidFill>
                <a:latin typeface=".VnTime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+ Lîi nhuËn lµ chØ tiªu ph¶n ¶nh chÊt l­îng ho¹t ®éng s¶n xuÊt kinh doan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+ Lîi nhuËn kÝch thÝch mäi mÆt ho¹t ®éng s¶n xuÊt kinh doan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+ Lîi nhuËn lµ nguån tÝch luü t¸i s¶n xuÊt më réng ho¹t ®éng s¶n xuÊt kinh doanh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.VnTime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.VnTime"/>
              </a:rPr>
              <a:t> Ph­¬ng h­íng, biÖn ph¸p t¨ng L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+ §Èy m¹nh tiªu thô, t¨ng doanh thu b¸n hµ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+ TiÕt kiÖm chi phÝ, h¹ gi¸ thµnh s¶n phÈ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1. Lîi nhuËn vµ tû suÊt lîi nhuË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851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.VnTime"/>
              </a:rPr>
              <a:t>* Tû suÊt lîi nhuË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Sù cÇn thiÕ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Do lîi nhuËn lµ chØ tiªu chÊt l­îng tæng hîp chÞu ¶nh h­ëng cña nhiÒu nh©n tè thuéc vÒ chñ quan vµ kh¸ch quan ®· cã sù bï trõ lÉn nha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+ Do quy m« kinh doanh, ®Þa ®iÓm tiªu thô, thêi ®iÓm tiªu thô, thÞ tr­êng tiªu thô,… kh¸c nhau dÉn ®Õn quy m« lîi nhuËn kh¸c nhau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=&gt; CÇn thiÕt ph¶i sö dông kÕt hîp c¶ chØ tiªu lîi nhuËn vµ tû suÊt lîi nhuËn ®Ó ®¸nh gi¸ tµn diÖn chÊt l­îng ho¹t ®éng s¶n xuÊt kinh doanh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1. Lîi nhuËn vµ tû suÊt lîi nhuË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66680" y="1676520"/>
          <a:ext cx="7724880" cy="425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1. Lîi nhuËn vµ tû suÊt lîi nhuË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946080" y="1676520"/>
          <a:ext cx="7551720" cy="429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6080" y="1676520"/>
                    <a:ext cx="755172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1. Lîi nhuËn vµ tû suÊt lîi nhuË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39960" y="1528920"/>
          <a:ext cx="7669080" cy="509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9960" y="1528920"/>
                    <a:ext cx="766908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a. Kh¸i niÖm chi phÝ (tiÕp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.VnArial"/>
              </a:rPr>
              <a:t>	</a:t>
            </a:r>
            <a:r>
              <a:rPr b="1" i="1" lang="en-US" sz="2800" spc="-1" strike="noStrike">
                <a:solidFill>
                  <a:srgbClr val="800000"/>
                </a:solidFill>
                <a:latin typeface=".Vn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.VnArial"/>
              </a:rPr>
              <a:t>+ Ngµnh c«ng nghiÖ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Chu kú s¶n xuÊt nãi chung t­¬ng ®èi ng¾n (trõ ngµnh ®ãng tµu vµ mét sè ngµnh c«ng nghiÖp kh¸c), Ýt lÖ thuéc vµo ®iÒu kiÖn tù nhiªn vµ khÝ hËu, phÇn lín kÕt qu¶ ho¹t ®éng SXKD phô thuéc vµo tr×nh ®é tæ chøc qu¶n lý vµ sù cè g¾ng cña b¶n th©n doanh nghiÖp. C¬ cÊu chi phÝ th­êng æn ®Þnh. Tuy nhiªn, viÖc hoµn thiÖn kü thuËt vµ n©ng cao n¨ng suÊt lao ®éng ®Ó lµm gi¶m mét c¸ch cã hÖ thèng tû lÖ chi phÝ tiÒn l­¬ng vµ chi phÝ vËt chÊt, chi phÝ qu¶n lý kh¸c, chØ cã thÓ thùc hiÖn dÇn dÇn chø kh«ng thÓ thay ®æi ®ét biÕn trong c¬ cÊu chi phÝ s¶n xuÊ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03040" y="228600"/>
            <a:ext cx="7769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 KÕ ho¹ch ho¸ lîi nhuËn cña DN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1565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KÕ ho¹ch lîi nhuËn gióp cho c¸c nhµ qu¶n trÞ DN biÕt tr­íc ®­îc quy m« sè l·i mµ DN sÏ t¹o ra, tõ ®ã gióp cho DN cã kÕ ho¹ch s¾p xÕp nhiÖm vô ho¹t ®éng KD vµ t×m nh÷ng gi¶i ph¸p phÊn ®Êu thùc hiÖ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ViÖc dù tÝnh tr­íc ®­îc quy m« cu¶ lîi nhuËn sÏ t¹o ra, sÏ gióp cho DN chñ ®éng sö dông nã, chñ ®éng ph©n phèi, chñ ®éng lËp kÕ ho¹ch ®Çu t­, ®æi míi thiÕt bÞ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LËp kÕ ho¹ch lîi nhuËn ph¶i kÕt hîp víi viÖc ph©n tÝch t×nh h×nh ho¹t ®éng KD, ph©n tÝch tµi chÝnh vµ ph©n tÝch ®iÓm hoµ vè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 KÕ ho¹ch ho¸ lîi nhuËn cña D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914400" y="1066680"/>
          <a:ext cx="78598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859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 KÕ ho¹ch ho¸ lîi nhuËn cña D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39720" y="992160"/>
          <a:ext cx="777240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992160"/>
                    <a:ext cx="777240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.VnArial"/>
              </a:rPr>
              <a:t>2. KÕ ho¹ch ho¸ lîi nhuËn cña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.VnArial"/>
              </a:rPr>
              <a:t>doanh nghiÖp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66720" y="2023920"/>
          <a:ext cx="8164440" cy="43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023920"/>
                    <a:ext cx="8164440" cy="43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0016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 KÕ ho¹ch ho¸ lîi nhuËn cña D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52320" y="1143000"/>
          <a:ext cx="8217000" cy="56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143000"/>
                    <a:ext cx="8217000" cy="56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2. KÕ ho¹ch ho¸ lîi nhuËn cña D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88960" y="1219320"/>
          <a:ext cx="8186760" cy="57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1219320"/>
                    <a:ext cx="818676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0016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3. Ph©n phèi lîi nhuËn cña D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0042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ViÖc ph©n phèi ®óng ®¾n sÏ trë thµnh ®éng lùc thóc ®Èy s¶n xuÊt kinh doanh ph¸t triÓn, t¹o nh÷ng ®iÒu kiÖn thuËn lîi cho DN tiÕp tôc c«ng viÖc kinh doanh cña m×n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Ph©n phèi lîi nhuËn lµ viÖc ph©n chia sè tiÒn l·i nh»m gi¶i quyÕt tæng hîp c¸c mèi quan hÖ kinh tÕ diÔn ra ®èi víi D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- Yªu cÇu ph©n phèi lîi nhuË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+ §¶m b¶o hµi hoµ lîi Ých gi÷a DN víi c¸c chñ thÓ kh¸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+ §¶m b¶o hµi hoµ lîi Ých tr­íc m¾t víi lîi Ých l©u dµi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3. Ph©n phèi lîi nhuËn cña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doanh nghiÖp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0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- Néi dung ph©n phèi lîi nhuË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Lîi nhuËn thùc hiÖn sau khi nép thuÕ ®­îc ph©n phèi nh­ sau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+ Bï lç c¸c kho¶n lç ®· qu¸ h¹n chuyÓn l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+ Quü dù phßng tµi chÝn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+ Lîi nhuËn ®Ó l¹i t¸i ®Çu t­ (TrÝch quü ®Çu t­ ph¸t tr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3. Ph©n phèi lîi nhuËn cña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.VnArial"/>
              </a:rPr>
              <a:t>doanh nghiÖp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0016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+ Chñ së h÷u ph©n chia cho c¸c môc ®Ých tiªu dïng kh¸c nhau (quü khen th­ëng, phóc lîi, chia cæ tøc, chia l·i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* C¸c lo¹i quü chñ yÕu cña D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- Quü dù phßng tµi chÝn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- Quü ®Çu t­ ph¸t tr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- Quü dù phßng trî cÊp mÊt viÖ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Arial"/>
              </a:rPr>
              <a:t>- Quü khen th­ëng, phóc lî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647960" y="3805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.VnMysticalH"/>
              </a:rPr>
              <a:t>BiÓn häc v« b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886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a. Kh¸i niÖm chi phÝ (tiÕp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.VnArial"/>
              </a:rPr>
              <a:t>+ Ngµnh n«ng nghiÖ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LÖ thuéc rÊt nhiÒu vµo ®iÒu kiÖn khÝ hËu vµ tù nhiªn, Ýt cã kh¶ n¨ng lùa chän thay ®æi s¶n phÈm ®Ó s¶n xuÊt, chi phÝ s¶n xuÊt cïng mét lo¹i s¶n phÈm nh­ng ë nh÷ng khu vùc kh¸c nhau cã sù chªnh lÖch t­¬ng ®èi lín. Chu kú s¶n xuÊt t­¬ng ®èi dµi, thêi gian lµm viÖc chØ lµ mét phÇn t­¬ng ®èi nhá so víi chu kú s¶n xuÊt. S¶n xuÊt mang tÝnh thêi vô, kÓ c¶ viÖc thu ho¹ch vµ tiªu thô, bëi vËy, cã thêi gian chØ bá chi phÝ mµ kh«ng cã doanh thu, cã thêi gian doanh thu rÊt Ýt kh«ng ®ñ bï ®¾p chi phÝ. Sù kh«ng ¨n khíp gi÷a n¨m s¶n xuÊt vµ n¨m c«ng lÞch lµm cho mét l­îng lín chi phÝ s¶n xuÊt cña n¨m c«ng lÞch nµy chuyÓn sang n¨m c«ng lÞch sau, còng g©y khã kh¨n cho viÖc x¸c ®Þnh chi phÝ s¶n xuÊ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a. Kh¸i niÖm chi phÝ (tiÕp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016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.VnArial"/>
              </a:rPr>
              <a:t>+ Ngµnh x©y dùng c¬ b¶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Chu kú s¶n xuÊt dµi, thµnh phÇn vµ kÕt cÊu chi phÝ s¶n xuÊt phô thuéc vµo tõng lo¹i c«ng tr×nh vµ tõng giai ®o¹n c«ng tr×nh. Trong thêi kú thi c«ng x©y dùng, chi phÝ vÒ tiÒn l­¬ng ®Ó sö dông m¸y mãc thi c«ng chiÕm tû träng lín trong tæng sè chi phÝ. Thêi kú tËp trung thi c«ng, chi phÝ vÒ nguyªn vËt liÖu, thiÕt bÞ t¨ng lªn. Thêi kú hoµn thiÖn c«ng tr×nh th× chi phÝ tiÒn l­¬ng l¹i lªn cao. Trªn thùc tÕ, phÇn lín chi phÝ cña doanh nghiÖp x©y dùng c¬ b¶n ®Òu n»m ë c«ng tr×nh ch­a hoµn thµ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b7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016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.VnArial"/>
              </a:rPr>
              <a:t>a. Kh¸i niÖm chi phÝ (tiÕp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85406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Arial"/>
              </a:rPr>
              <a:t>Do ®iÒu kiÖn x©y dùng mçi c«ng tr×nh cã nh÷ng ®Æc ®iÓm kh¸c nhau, l¹i ph©n t¸n trªn nhiÒu ®Þa ®iÓm kh¸c nhau, bÞ ¶nh h­ëng bëi thêi tiÕt, phÇn lín c«ng t¸c x©y l¾p ph¶i lµm ngoµi trêi, ®Þa bµn vµ ph¹m vi ho¹t ®éng réng lín, ph©n t¸n, m¸y mãc thiÕt bÞ vµ c«ng nh©n th­êng xuyªn di ®éng. Do ®ã, sÏ ph¸t sinh thªm mét sè chi phÝ vÒ ®iÒu ®éng m¸y mãc thiÕt bÞ, ®­a c«ng nh©n tíi ®Þa ®iÓm thi c«ng; chi phÝ th¸o l¾p, vËn chuyÓn, ch¹y thö m¸y mãc; chi phÝ x©y dùng vµ th¸o dì nh÷ng c«ng tr×nh t¹m phôc vô cho x©y dùng l¸n tr¹i;...; ngoµi ra, nÕu ph¸t sinh ®i thuª m¸y cßn ph¶i thanh to¸n víi bªn cho thuª mét kho¶n tiÒn thuª m¸y thi c«ng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3:40:42Z</dcterms:created>
  <dc:creator>T21</dc:creator>
  <dc:description/>
  <dc:language>en-US</dc:language>
  <cp:lastModifiedBy>User</cp:lastModifiedBy>
  <dcterms:modified xsi:type="dcterms:W3CDTF">2009-01-01T12:37:07Z</dcterms:modified>
  <cp:revision>235</cp:revision>
  <dc:subject/>
  <dc:title>B¹n ®ang cã 1 ý t­ëng kinh doanh?</dc:title>
</cp:coreProperties>
</file>