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0EB-F36E-4E62-891A-15269B13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blmnya pd saat awal konsultasi dokter hanya menanyakan 1 specific area. Apa keluhannya pa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2AFE-B227-4C99-88D6-3F46856F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FD4-6337-4AE4-9AFF-04B77A1A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E53-9C88-47C5-91D1-8EEE8240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70185-BBB5-4A16-8D0A-466D59C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43A2FA-A720-44F4-BA05-8839FD56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E49CA-1CF5-4068-B558-4F1CDEC5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13847-5EBF-469C-BBE8-3756959B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14EC8-1CD0-4C4C-BE7A-3C240643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394B9-973A-48A4-BFEC-C9F563E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D5B0C-B1FA-496D-8865-66F37DA6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75C7C-9A3E-4B4E-87AF-0E500B90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73C38-DB3A-423F-8AF7-297826A0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78852-4A51-4BA1-9405-453DE65A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B9-2FA2-4FDB-AA41-B5E9953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D3948-482E-4224-8593-47A14495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64B10-DF6A-4EE3-9FC0-E5012AEA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6C81C-3406-4E82-B74F-F12F57BC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53F7F-91BE-4DE0-8D9D-819CF30E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1EFA8-0BE5-4D09-9B8D-D503339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0A305-BE43-4BC5-93E6-ABAA2C5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72C8D7-AC69-421E-946D-5DECB87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2500C2-C7FE-4176-BBCC-984EB211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0C5EC-3777-453C-8A09-39867071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2CBCF-273F-4EEA-8C23-50CBA60A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4CB-1F9F-48F1-A984-F708376E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4DC63-7D56-432A-B098-3447146F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D33F2-32CE-4BD6-BE40-7C816694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3058C-0DCF-42DC-99D7-9E56757E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551BB-DE1C-4EA0-8B5F-D8559567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B083A-6357-42A1-9304-CA8FC5B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33480-CA63-4D38-BB6A-F2E39936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9D8A3-CACA-4D7C-8BF5-510CA4E0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5912C-DEFD-4C22-87D8-DEEF816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33CB2-A91F-4E24-BAD5-7BD6CA8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09F5-3AD4-4745-BFF7-ED72833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A34-8D31-4F35-B567-0E5315B6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2BBBC-2559-4497-A673-7B528E7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2C90C-F7B5-492D-852B-17CF9B13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31C2-E6AC-4EC5-986F-B1CE4B0C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C2A0C-116A-46A6-9BAF-8F70B8F9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694DB-D090-4F3E-BCF9-6FA7958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309D3-C950-4DE5-BBC4-1B07A3FE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DDEA8-7460-4120-B30F-1998572B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6D394-AFF4-4BD2-B7E0-86AE366E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1ECB0-C022-4230-AECD-5ECE36EC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3D61C9-1EB0-449C-89D3-3A16811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0037-DC13-4789-8FE6-32893961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64367-3EE0-41BC-8DE8-05C3523F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0C0BE-7B3A-4BA9-B4C5-0D61987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3BC3F-0756-475E-AEFF-66B286B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C2EED-922D-4791-BE60-D8AC0518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BD1AA-A0ED-4664-9EC3-934FF5B8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52F3-465E-4942-A02E-D412AB5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3C6E-1CB8-4997-9060-F7AA42B2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E365-14ED-4956-B576-F8951EBB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3F0-C1B5-461C-9586-3C6F50DF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6009-152B-45DF-87F2-284B2C5F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4B9-993B-484D-8A5E-9F5761E0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F7D-4213-4232-B898-11665F32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0883-D82E-48EB-8086-5F0ADB70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296-574B-43C1-9883-01D50CD5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2D6D-7CD7-4A1B-8F8A-1D7FEC6F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00AD-F612-4BBC-BDDD-712CA3BE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5C29-1DFB-4493-9607-57F6E68D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19EB-B16B-4445-BE79-27DA6250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4B8F-552A-4C45-97C2-E6AB2531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70AA-32F3-48F0-AFA3-5C38980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52FE-052A-4526-BA5D-37824D3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956-76CE-4677-A5FF-9859A644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BDB57-6F66-482B-921B-C6E4625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52629-CB43-4940-ACD8-A201BAC4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E789-1E4D-4850-A91E-DEA3F269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D63A-32A9-42F8-B617-C934B10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516F-6D43-424F-9487-118270D7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B204-32ED-423C-89AF-385B657A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06912-974D-42D6-82D0-C9CD2340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5A3E9-2B0E-43ED-ADB4-F6BC5406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D7F5-C5AA-4391-B251-1FFEE68B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449A-0A01-4448-93A7-BD49712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68D-0EBE-4297-BBEA-2DB14BF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2D69-719F-410D-A3ED-917C3FC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A7B3-35A0-44E8-BE1A-2D9C8A49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16A1-8130-4D44-9E9A-C03B271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545F-E6D2-45EA-AA78-DC0386E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6190-6632-4D43-A206-76E7879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C923-8EB3-4BF7-90D0-1FC44DE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6C7E3-BC50-461C-877A-BDEAC3AC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A339C-8270-464A-B1FB-C711DF2C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3D206-13C8-44F6-A59D-67F41654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35A2-2CE0-4818-BE15-72DFE09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E7D-E10B-4157-BAC4-A8B1FE7C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F4C02-06F1-4CCC-B443-45EB2068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C7A84-D0BE-4737-A009-71E02473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7BE8-45C0-4BD2-A24D-1BDEE9C5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C46C0-E3F4-4CAD-8367-51D31024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7F17-BF16-4B9C-94DD-37E6B10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955B-AC87-4B6C-82DC-BFB3553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69B3-A897-4BB9-B46B-0CC151CF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ADC0-15D3-4B51-BDE5-43883CEA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7C14C-8F3E-4883-900E-16EF30CC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647E4-A333-4223-A66A-71F9C0F4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A06-C616-43FF-BFC9-CA67B918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F4A8C-FE54-4B50-B37C-7EFE0B79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AD60-48EE-4D4B-9E3E-CDFAC82D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3746-79CB-434C-967B-C5437DD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687F-3E74-4847-A496-AF488650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7433B-B07C-492E-872D-1BD3B8D5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2FDF-115A-4BE5-9B4C-B0A0C7A1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2DF8-8E8E-4AF9-9DA9-18EB096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9AFB0-3694-4244-B592-6882171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9D4C-18CE-40E8-8ADF-A862BCCF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1E7B3-4CCE-4EC7-9F77-96160637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CB9-BE49-4E5B-B2BC-FA983A02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A7D54-8746-4798-B25D-A754B70E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A94B-C3D3-4623-97D2-E8F15006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AC2C-E103-4E9A-A754-CFDEC4E2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C16D-6A49-46B8-95B2-79D7B364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07D28-A224-48BE-A9BB-0E6CB3C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DDBFD-E01C-4EAE-89BE-BDC9E50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0F95B-6396-4696-89FF-4B1FAE90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8467E-3871-47C5-82DD-2F7ECCD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DA51-916E-42F9-83DE-45F6E3B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A0C4-F60A-4A25-B8D0-82ED4752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9E1-8CFA-4F21-998C-8F6A593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B097D-6D4D-4432-9083-70EC60E3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DF7F1-B8FF-416B-93EF-7AB5E23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4BC4-6C6F-41E1-89E5-F34F7B2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A3796-4A74-4124-A7A0-EEE133BA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388E9-6588-405F-98EB-BDD97BC1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06C99-452A-42B5-8461-19D5BE20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15FA8-31AD-45B8-AC16-2532D245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0AF8-B082-48E6-8D62-1C520E39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DD95A-E8AC-4E0F-A122-E422292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4991-F351-4983-A0F6-93A0D590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060-2441-4159-A3D6-B9EE73A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B807A-7230-4FA5-A039-7002A19A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21D87-479D-433C-ACA5-0BCCFD3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B214-1DD4-463C-822B-06D6DF4D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FFE0-4BCB-4697-9211-9D917527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26114-5A3B-4E52-AE2E-05213FA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AB867-3673-4432-9319-FB260D15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2ED7-8A8C-46F7-BA74-5B95031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D1650-0AC6-47D1-9A40-DAF5BF8C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7584A-0156-4C7F-8BF5-D11647A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562A8-D9F7-465E-BD13-E24C71D5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85F-555E-4D60-958B-3ACD1B9E403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26E-82B5-4A78-A708-E4241BB18B8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B31-059F-4FC0-91D0-EEBA51A3C75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CE7-219B-4FC0-BF6C-93123E7423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1E57-BBC2-4235-9969-E2CA245EAA9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9DE9-600B-44F4-9F39-354F0541318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79CD-D6B7-4CF0-A22D-D5551FD6A1C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DC8-F819-4B02-A1E4-030C439DE7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6F3-C2C0-4D13-BDCE-B7ACDAC13B4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6D31-F23A-400A-9912-125EAD90EFA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BA46-4DE8-418F-AF69-10D05BE18F5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B9BA-CACC-43BF-B99A-FAD7A463C9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UTRI R. AYUNINGTYA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rinsip-prinsip komunikas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pe komunikasi dan keterkaitanny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ntent skills – what healthcare professionals communic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cess skills – how they do 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ceptual skills – what they are thinking and fe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tent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si dari pertanyaan dan jawab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formasi yang dikumpulkan dan berik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ndakan yang diberikan dan didiskusikan bersam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cess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reka berkomunikasi dengan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gaimana mereka mencari informasi dari penyakit pasien (history tak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verbal/non verbal yang digunak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ngembangkan hubungan dengan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ra mereka mengatur komunika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ceptual skill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ses pengambilan keputusan secara inter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Clinical reasoning dan problem sol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si dan tingkah lak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ilai-nilai dan kepercayaan yang dianut pas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sadaran atas perasaan terhadap pasien mengenai penyakit dan issue lain yang melibatkan merek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sadaran atas konsep diri dan kepercayaan diri terhadap bias dan gangguan yang mungkin timbu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ndingkan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saya sering bangun di malam hari untuk 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OK. Berapa kali?? BAKnya lancar/tersendat2?? Sakit? Seperti apa sakitnya?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pt: saya sering bangun di malam hari untuk 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baik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dan saya sering min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r: oke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t: ibu saya penderita diabetes. Apa mungkin saya juga bisa kena diabet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in 1 menunjukkan covt ini lebih efisien untuk menjawab pertanyaan dokter, bukan untuk menatalaksana keluhan pasi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terampilan bertanya yang tidak digunakan sebagaimana mestinya (process skill) dapat mengakibatkan penyimpulan hipotesis yang buruk (perseptual skil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,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yg efektif antara dokter &amp; pasien memerluka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uktur – bagaimana kita mengatur keterampilan berkomunikasi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terampilan – keterampilan seperti apa yang ingin kita tunjukka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Validitas – bukti apa yang bisa mendukung keterampilan tsb dalam komunikasi dr - pasie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omunikasi intraperson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bagaimana orang menerima info, emngolah, menyimpan, dan menghasilkan kembal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nsasi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roses menangkap stimul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sep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ses pemberian makna pada sensasi sehingga manusia memperoleh pengetahuan baru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mor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ses menyimpan informas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rpiki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golah dan memanipulasi informasi untuk memenuhi kebutuhan/ memberikan resp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Komunikasi interpersona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Komunikasi yang menggarisbawahi manusia sebagai objek perseps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erbedaan persepsi objek dengan persepsi interpersonal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: stimuli ditangkap alat indera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859320" indent="-483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I: stimuli disampaikan melalui lambang grafis/visua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2. PO: indiv hny menanggapi sifat obj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memahami apa yg tidak tampa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3. PO: obj tdk bereaksi pd indiv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ada rx dr indiv yg dipersepsi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4. PO: obj relatif tetap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: obj.nya dinami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faktor-faktor personal pada persepsi interperson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ngalama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learning by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si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keinginan untuk mengaktualisasikan dir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epribadian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ngeksternalisasikan pengalaman subjektif  pada hal-hal yang dialam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ntingnya komunikas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sensial bagi pertumbuhan kepribadian manus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erat kaitannya dengan perilaku dan pengalaman kesadaran manus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ses pembentukan kes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ereotyping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generalisas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licit personality theory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ori mengenai kepribadian secara implisi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ribusi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proses menyimpulkan maksud, motif, karakteristik orang lain dengan melihat pada perilakunya yang tamp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engaruh persepsi interpersonal pada komunikasi interpersona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interpersonal sangat bergantung pada persepsi interperson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th: ketika diberitahu bahwa ada dosen yg disiplin akan mengisi kuliah, mhsw cenderung berhati2 untuk lebih on time dan tidak seenaknya…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Pengaruh Kelompok pada perilaku komunikasi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nformita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asilitasi sosial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g berkelompok pekerjaan menjadi muda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larisasi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kecenderungan untuk menghindari resiko dengan memihak pada suatu bagian tertent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si komunikas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process by which an individual (the communicator) transmits stimuli (usually verbal) to modify the behavior of other individuals( the audience). (Hovland, Janis, Kelly, 1953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aha menimbulkan respons melalui lambang-lambang verbal (Dance, 1967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si (cont’d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nrt Dictionary of Behavioral Science, komunikasi adalah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e transmission of energy change from one place to another as in the nervous system or transmission of sound wav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nyampaian atau oenerimaan signal atau pesan oleh organis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san yang disampaika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oses yang dilakukan satu sistem untuk mempengaruhi sistem yang lain melalui pengaturan signal-signal yang disampaika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ngaruh satu wilayah persona pada wilayah persona yang lain sehingga perubahan dalam satu wilayah menyebabkan perubahan yang berkaitan pada wilayah lai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1800" indent="-27000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esan pasien kepada terapis dalam psikoterapi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o.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omunikasi merupakan penyampaian energi dari alat indera ke otak, dimana terdapat peristiwa penerimaan dan pengolahan informasi yang saling berpengaruh diantara berbagai sistem dalam diri organis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ntangan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ara umum, keterampilan komunikasi pada mhsw medis hanya dalam hal history taking tanpa mendengarkan pasien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5* Docto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are provi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Decision Mak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ommunicat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Community Lead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ctor as Manag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ampu mengkomunikasikan keluhan pasien secara informatif, penuh empati dan tidak menghakimi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ubungan komunikasi, empati dan etika kedoktera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Content Placeholder 3" descr=""/>
          <p:cNvPicPr/>
          <p:nvPr/>
        </p:nvPicPr>
        <p:blipFill>
          <a:blip r:embed="rId1"/>
          <a:stretch/>
        </p:blipFill>
        <p:spPr>
          <a:xfrm>
            <a:off x="-12600" y="1517760"/>
            <a:ext cx="8832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2:47:48Z</dcterms:created>
  <dc:creator>Putri R. Ayuningtyas</dc:creator>
  <dc:description/>
  <dc:language>en-US</dc:language>
  <cp:lastModifiedBy>Putri R. Ayuningtyas</cp:lastModifiedBy>
  <dcterms:modified xsi:type="dcterms:W3CDTF">2008-11-11T05:37:54Z</dcterms:modified>
  <cp:revision>12</cp:revision>
  <dc:subject/>
  <dc:title>Prinsip-prinsip komunikasi</dc:title>
</cp:coreProperties>
</file>