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D0C-43D4-453C-A2C1-BABCA31F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blmnya pd saat awal konsultasi dokter hanya menanyakan 1 specific area. Apa keluhannya p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4FB-A846-4378-9671-13A4A79E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B50-36D5-41CE-8B57-D859C5D3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97A-B778-4CD8-BA07-4CB08EC9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B73C9-2DA9-4F86-BE09-61679FD7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53DB5-A0B2-4EB5-8BE4-521FB45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B1508-09CE-41FC-BD2D-5B0A66C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E1A8-0202-4C2C-9FE2-82EAD3D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FD677-15A1-4E76-929B-6BB0D35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ACF0D-5609-4F89-9BE2-3B1BA61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BF1D9-D1F9-499A-96F8-B578E45D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60979-3CD6-44E3-B0DC-074190B4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068FD-4511-4869-9F98-12EA8EFB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65217-5F16-43E8-98BF-3347BA3A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EF4-79B9-4F3B-AACD-7884CDE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C2DFE-4743-4F89-A870-09C8E278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A56CC-C768-4F3A-8D85-6374C243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23F6E-FE04-4415-BCB3-976EB5A1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C14FE-78C3-4FC8-AFAA-E6CB7941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88152-5A98-4C3A-95B6-2D63627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3121E-3386-49F4-9207-4AD3A34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AD470-9226-4D2C-A893-4C05ACA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48C68-9466-474B-B043-41D0D3A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38C5D-71FF-4D92-A062-B5D4A769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D9FF4-49A6-4116-90F3-079EDF43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1AD-463C-42FA-9CCE-51F2D99B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FF065-655D-45CD-835A-DA3987DD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1176-291B-4191-B5E4-FCB168CF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3684D-1788-4AF1-92CD-80A56DC3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B1109-3A9E-4173-8C8B-D8EB8BC6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BC4C9-3C3E-4A46-AD2E-C3916EA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04CE5-27AF-4D2B-9B97-43DF242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DE23-5D9A-4B47-ACD8-13F2601F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84097-A23D-422E-A774-565038E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EF93-2C99-44CF-9C15-A4674F7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FB982-F617-4BF7-86AB-E4BB79D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E1E1-E239-4300-9C0D-DAC2C89B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A82AA-DBAF-4C8A-9D3A-FE58E562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70104-0C33-4CA3-A912-80D7D86A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EAF26-5B14-4D41-A182-FB526C56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4A5D2-930F-450D-BD1A-954DC092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AF158-E45D-4903-A063-687315F5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6ACB1-F666-43FA-899D-937647B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3E036-2A6C-4244-A872-A363311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AF90F-4842-4284-8682-989FBDD1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63A4D-8DB6-44B1-800D-ADBBBD6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5C4C4-7AED-43D5-8C2D-BDB49D67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18A9-70E1-4EFB-8FC7-DC16AC1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9C085-ACE4-4777-ADA4-937CCB1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BBDEA-6586-4A04-8101-0A4352D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5011C-A81D-4653-8A16-75D0C13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E391B-C7CC-4478-9A25-A7FB3337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B7FE5-D2AD-419E-8CFB-49E44121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7E30-CB70-41CA-ACDC-4B6057DC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5DB-60DB-4D8C-9E8B-5DAB97A1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82E-3735-4FBC-B933-1FC5C07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76E-AFDA-4845-A97A-43679A1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23D-3B60-4F89-A8F0-9F1340D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692-3B86-466E-AF6B-015CE78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A596-F253-4C8C-8CB6-CFC0FEC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00FB-5C23-4599-B52F-7D3AA57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C92-FF8E-49B1-AB09-3F5D7CEE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B637-55CC-43FE-BEF0-6AE673D0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9CF-52F5-41D0-B3BD-7D16BAB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2272-E9D6-4585-A3AE-E6F9DA8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7FA6-D505-46F5-9F4A-0790D9F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0F1A-C1D1-45CA-9CC7-1394686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6136-5B0A-4C01-A99C-ACF8C27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50BC-9CFA-4C12-864C-F239C69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3AD-9DF5-402A-BED4-C8349485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E6EF-5A5B-4992-BD2A-B99D265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C9A6-0775-458E-B911-60F7427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42EA-605C-43D1-9A4C-74071F6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1105-14C6-4010-BD35-599F57D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9141-89BC-42AB-9F8F-EE9D6A2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7EA5-A3E9-4C0B-AA28-FAE92B9D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6EBB-318A-4F71-801A-7E95918F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BEF4-9D38-461F-AA7F-2FFFB3BC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806B-F712-4CB6-BCFE-68E3584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9184-21DD-4E1A-BA1B-4A38417C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D5E-2013-4B47-B709-FE1C180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F685-908C-4445-953B-3B382340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43BB-574C-42BB-B9F7-558E2D3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70E9-88D6-4075-9040-E6A3A81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E352-94F1-4397-B87F-03475D4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D8FC9-194D-4E47-A4BC-90ABA27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19D0-DE68-455A-909D-4A5104B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48B8-F9FE-4986-B86C-36B1386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7E65-8AF3-4D63-9CE2-716AE3E0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8E4E-A746-432D-948A-9CEED1B0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6F87C-CCF3-4401-83F7-FF905078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EA9-B4C9-41B7-9B62-8523FF63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152D-F8C4-4A16-86FB-7264E966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8BEA-D87D-44F8-AC00-A9E452A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318C-C557-46E9-87FF-4ED602C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C08F-7BA0-497C-949C-31431487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4CCB-E7CF-42B7-A8F6-CBCF3A22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569A-50EE-41EA-928D-C70D2C3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5DDD-0D1F-460F-8EE3-07F5A66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4A23-4059-4E88-A77F-1EC3404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9552-2597-478B-B748-B17A6AB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1315-B84C-4BFF-B804-82B7DDF8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824-8731-4FFF-98E4-748A836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9E38-9417-4FB8-921D-2275175A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68083-8CA0-4E45-B9E4-479264A6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4FCD5-BCB8-43CC-B412-09B97A0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E28F4-6DBB-45D9-AAD6-485987A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653B-6D60-498D-A2B8-2B5C3731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7B4A-210F-49FE-94C8-254321D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06C5-26CE-4FA4-A680-07DDCB4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B471-FBEE-4108-A409-AF628D47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D535-7778-4BC6-AF6B-0DB5763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B962-00A1-4AC9-9A64-C805106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D33-20F8-4D4D-B5FD-6374379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C5F5-A89F-43FA-92E9-BB41A671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EB79-26BA-4BDB-A980-89673E3B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CE5C-51D9-489C-AF75-37827770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F7963-440D-4263-A246-0EDA8A11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AF51-093E-43A8-845C-8C92735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B948-B1CB-440F-93DA-D33B87AF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AA13-754C-4AE6-8837-04267A4F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C486-C9A0-4960-92FD-C3209900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5F91-1BB4-40F6-A8D7-62DB23DF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397A-589B-4156-8E65-85B70D1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B79-AB7D-4788-9877-E7C8380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1A9B3-74B5-4AB0-9B31-E97659A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EDC6-10A4-4A87-9EDD-B45EB66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739B-3CB5-4264-AFD4-7F3761A6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B9E60-D1C4-4A34-AB98-ECBCA634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93FF0-ADAE-4AD8-937A-55B980B8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41FE-3B16-43B1-A806-664C3D92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0625-2983-4A32-AEB2-2CE4675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2E25-C082-4518-8AE6-911C5B5B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9BC8-2C83-4835-86CE-02D8049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77782-53FA-4964-BA99-A3B5D69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BC1-8689-4D14-95D4-F011C4E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6D55-0EC5-4555-A846-52F4CC05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24812-BC05-4719-BBF0-37D9D0A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A00F-6CF4-47E5-BCD8-EB699DF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CB8C-AF38-441B-AE9E-65E9AFD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0A6E-37DA-4702-9C2B-31B28D2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D7A8-BF0A-4F53-AAAB-D04FFDEA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75E6-1BD3-40D7-AF23-A470FD0C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953EC-F735-4D92-AF0B-2EC6F3C5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4A57B-455B-49FB-80FD-413E37F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22CD7-9313-4B24-AAFF-1D2F82B6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7D8-13B5-4DDD-8BFA-8131DC65F2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444-0171-4848-BA4C-CE0FD4D8E3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633-6CB9-4932-B67F-8B5E5A4B2D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68A7-D4CF-434B-88BF-D1E7B2D823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16C-327A-45A5-998A-E2054EC5F25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C9A-14B6-4B54-BDFB-D4CA8017D5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2B5-8DD9-4925-998F-25D8DA580D7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E97-09AB-4E04-B85C-080BB23D0FC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9D90-2AFB-4E62-9A16-DB06DCF7880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21E-BA2B-4029-A804-2222E419D0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2DF-2575-467C-9B65-1960912647C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F3EF-A766-4E41-A32D-C51C80C88C6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UTRI R. AYUNINGTY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insip-prinsip komunikas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pe komunikasi dan keterkaitanny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ent skills – what healthcare professionals communic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cess skills – how they do 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ceptual skills – what they are thinking and fe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tent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i dari pertanyaan dan jawab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ormasi yang dikumpulkan dan berik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dakan yang diberikan dan didiskusikan bersa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cess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reka berkomunikasi dengan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aimana mereka mencari informasi dari penyakit pasien (history ta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verbal/non verbal yang digunak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ngembangkan hubungan dengan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reka mengatur komunika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ceptual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ses pengambilan keputusan secara inter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Clinical reasoning dan problem sol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si dan tingkah la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ilai-nilai dan kepercayaan yang dianut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sadaran atas perasaan terhadap pasien mengenai penyakit dan issue lain yang melibatkan mere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sadaran atas konsep diri dan kepercayaan diri terhadap bias dan gangguan yang mungkin timbu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ndingkan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saya sering bangun di malam hari untuk 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OK. Berapa kali?? BAKnya lancar/tersendat2?? Sakit? Seperti apa sakitnya?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pt: saya sering bangun di malam hari untuk 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baik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dan saya sering min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oke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ibu saya penderita diabetes. Apa mungkin saya juga bisa kena diabet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in 1 menunjukkan covt ini lebih efisien untuk menjawab pertanyaan dokter, bukan untuk menatalaksana keluhan pasi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bertanya yang tidak digunakan sebagaimana mestinya (process skill) dapat mengakibatkan penyimpulan hipotesis yang buruk (perseptual skil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,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yg efektif antara dokter &amp; pasien memerluka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uktur – bagaimana kita mengatur keterampilan berkomunikasi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terampilan – keterampilan seperti apa yang ingin kita tunjukk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Validitas – bukti apa yang bisa mendukung keterampilan tsb dalam komunikasi dr - pasi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omunikasi intraperson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bagaimana orang menerima info, emngolah, menyimpan, dan menghasilkan kembal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nsasi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roses menangkap stimul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ep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ses pemberian makna pada sensasi sehingga manusia memperoleh pengetahuan baru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mor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ses menyimpan informas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rpiki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golah dan memanipulasi informasi untuk memenuhi kebutuhan/ memberikan resp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omunikasi interperson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Komunikasi yang menggarisbawahi manusia sebagai objek perseps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erbedaan persepsi objek dengan persepsi interpersonal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: stimuli ditangkap alat inder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859320" indent="-483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I: stimuli disampaikan melalui lambang grafis/visu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2. PO: indiv hny menanggapi sifat obj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memahami apa yg tidak tampa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3. PO: obj tdk bereaksi pd indiv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ada rx dr indiv yg diperseps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4. PO: obj relatif tetap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obj.nya dinami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faktor-faktor personal pada persepsi interperson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ngalama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learning by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si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keinginan untuk mengaktualisasikan dir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pribadia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geksternalisasikan pengalaman subjektif  pada hal-hal yang dialam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ntingnya komunikas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ensial bagi pertumbuhan kepribadian manus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erat kaitannya dengan perilaku dan pengalaman kesadaran manus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ses pembentukan kes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reotyp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generalisa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licit personality theory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ori mengenai kepribadian secara implis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ribusi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roses menyimpulkan maksud, motif, karakteristik orang lain dengan melihat pada perilakunya yang tamp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engaruh persepsi interpersonal pada komunikasi interperson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interpersonal sangat bergantung pada persepsi interperso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th: ketika diberitahu bahwa ada dosen yg disiplin akan mengisi kuliah, mhsw cenderung berhati2 untuk lebih on time dan tidak seenaknya…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engaruh Kelompok pada perilaku komunikasi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nformita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silitasi sosial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g berkelompok pekerjaan menjadi mud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larisasi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kecenderungan untuk menghindari resiko dengan memihak pada suatu bagian tertent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si komunikas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process by which an individual (the communicator) transmits stimuli (usually verbal) to modify the behavior of other individuals( the audience). (Hovland, Janis, Kelly, 195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aha menimbulkan respons melalui lambang-lambang verbal (Dance, 1967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si (cont’d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nrt Dictionary of Behavioral Science, komunikasi adalah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transmission of energy change from one place to another as in the nervous system or transmission of sound wav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nyampaian atau oenerimaan signal atau pesan oleh organis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san yang disampaika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oses yang dilakukan satu sistem untuk mempengaruhi sistem yang lain melalui pengaturan signal-signal yang disampaika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ngaruh satu wilayah persona pada wilayah persona yang lain sehingga perubahan dalam satu wilayah menyebabkan perubahan yang berkaitan pada wilayah lai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san pasien kepada terapis dalam psikoterapi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merupakan penyampaian energi dari alat indera ke otak, dimana terdapat peristiwa penerimaan dan pengolahan informasi yang saling berpengaruh diantara berbagai sistem dalam diri organis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ntanga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ara umum, keterampilan komunikasi pada mhsw medis hanya dalam hal history taking tanpa mendengarkan pasien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5* Docto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are provi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Decision Ma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ommunic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ommunity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Man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ampu mengkomunikasikan keluhan pasien secara informatif, penuh empati dan tidak menghakimi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ubungan komunikasi, empati dan etika kedokter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"/>
          <p:cNvPicPr/>
          <p:nvPr/>
        </p:nvPicPr>
        <p:blipFill>
          <a:blip r:embed="rId1"/>
          <a:stretch/>
        </p:blipFill>
        <p:spPr>
          <a:xfrm>
            <a:off x="-12600" y="1517760"/>
            <a:ext cx="8832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2:47:48Z</dcterms:created>
  <dc:creator>Putri R. Ayuningtyas</dc:creator>
  <dc:description/>
  <dc:language>en-US</dc:language>
  <cp:lastModifiedBy>Putri R. Ayuningtyas</cp:lastModifiedBy>
  <dcterms:modified xsi:type="dcterms:W3CDTF">2008-11-11T05:37:54Z</dcterms:modified>
  <cp:revision>12</cp:revision>
  <dc:subject/>
  <dc:title>Prinsip-prinsip komunikasi</dc:title>
</cp:coreProperties>
</file>