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38F6-B664-4893-9D2B-F531EFD3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0AB-B60B-44F0-B567-76E65A4A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536-A728-4A7D-B1AE-819F681D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77B-A149-42B6-9EF5-E296531B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D85-EB59-49DF-93A4-DAFD3FB6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58D-389F-4402-A96F-0FB0D74E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E01D-D4FC-4AF6-A2F7-5037DF78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C8F-A85E-4867-A634-6719F973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84B-3472-49F7-A473-C24F3517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DE2-79E2-4FC7-846C-06C3F485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C74-F02F-4231-953B-A1955B79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E3D-AAAE-4B55-95F0-7DB70BF4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6DE7-2872-483E-B055-5FCA86503FBE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urin the fountain of information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2" name="Group 10"/>
          <p:cNvGrpSpPr/>
          <p:nvPr/>
        </p:nvGrpSpPr>
        <p:grpSpPr>
          <a:xfrm>
            <a:off x="1428840" y="1357200"/>
            <a:ext cx="6095880" cy="4536720"/>
            <a:chOff x="1428840" y="1357200"/>
            <a:chExt cx="6095880" cy="4536720"/>
          </a:xfrm>
        </p:grpSpPr>
        <p:sp>
          <p:nvSpPr>
            <p:cNvPr id="43" name="Rectangle 4"/>
            <p:cNvSpPr/>
            <p:nvPr/>
          </p:nvSpPr>
          <p:spPr>
            <a:xfrm>
              <a:off x="1428840" y="5277960"/>
              <a:ext cx="6095880" cy="422280"/>
            </a:xfrm>
            <a:prstGeom prst="rect">
              <a:avLst/>
            </a:prstGeom>
            <a:solidFill>
              <a:srgbClr val="e7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" name="Picture 5" descr="Dr_Boen"/>
            <p:cNvPicPr/>
            <p:nvPr/>
          </p:nvPicPr>
          <p:blipFill>
            <a:blip r:embed="rId1"/>
            <a:stretch/>
          </p:blipFill>
          <p:spPr>
            <a:xfrm>
              <a:off x="1428840" y="1357200"/>
              <a:ext cx="6095880" cy="40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6"/>
            <p:cNvSpPr/>
            <p:nvPr/>
          </p:nvSpPr>
          <p:spPr>
            <a:xfrm rot="19489200">
              <a:off x="2308320" y="5247360"/>
              <a:ext cx="628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Hormon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Text Box 7"/>
            <p:cNvSpPr/>
            <p:nvPr/>
          </p:nvSpPr>
          <p:spPr>
            <a:xfrm rot="19721400">
              <a:off x="2738520" y="5262120"/>
              <a:ext cx="1008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Respiratory Syste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Text Box 8"/>
            <p:cNvSpPr/>
            <p:nvPr/>
          </p:nvSpPr>
          <p:spPr>
            <a:xfrm rot="1327800">
              <a:off x="4714200" y="5335200"/>
              <a:ext cx="148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entral nervous syste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AutoShape 9"/>
            <p:cNvSpPr/>
            <p:nvPr/>
          </p:nvSpPr>
          <p:spPr>
            <a:xfrm flipH="1">
              <a:off x="6393960" y="4735080"/>
              <a:ext cx="1130400" cy="904680"/>
            </a:xfrm>
            <a:prstGeom prst="rtTriangle">
              <a:avLst/>
            </a:prstGeom>
            <a:solidFill>
              <a:srgbClr val="e7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TERMINOLOG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nuria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dk ada produks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81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119"/>
                </a:solidFill>
                <a:latin typeface="Calibri"/>
              </a:rPr>
              <a:t>Oliguri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produksi turu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81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119"/>
                </a:solidFill>
                <a:latin typeface="Calibri"/>
              </a:rPr>
              <a:t>Poliuria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&gt; 2000ml / 24 j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81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119"/>
                </a:solidFill>
                <a:latin typeface="Calibri"/>
              </a:rPr>
              <a:t>Nokturia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ering kencing malam ( Rasio Normal siang :    malam = 4: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81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119"/>
                </a:solidFill>
                <a:latin typeface="Calibri"/>
              </a:rPr>
              <a:t>Proteinuria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dp protein dlm ur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in dlm urine 150 mg / 24 jam  ( normal 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ERMINOLOG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71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71680" y="1643040"/>
            <a:ext cx="807228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8119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ff8119"/>
                </a:solidFill>
                <a:latin typeface="Calibri"/>
              </a:rPr>
              <a:t>lukosuria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dp glukosa dlm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Calibri"/>
              </a:rPr>
              <a:t>Piuria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dp nanah / lekosit dlm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Calibri"/>
              </a:rPr>
              <a:t>Hematuria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dp darah dlm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Calibri"/>
              </a:rPr>
              <a:t>Disuria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nyeri dikala ke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Calibri"/>
              </a:rPr>
              <a:t>Polakisuria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ering kencing, jumlah sedi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Calibri"/>
              </a:rPr>
              <a:t>Isostenuria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BJ urine menetap 1.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EMERIKSAAN UR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Makroskopik:</a:t>
            </a:r>
            <a:r>
              <a:rPr b="0" lang="en-US" sz="3200" spc="-1" strike="noStrike">
                <a:solidFill>
                  <a:srgbClr val="66ff33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olume : 800 – 1300 ml / 24 ja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rna   : kuning puc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au       : tak berbau (tgt makana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2"/>
          <p:cNvSpPr/>
          <p:nvPr/>
        </p:nvSpPr>
        <p:spPr>
          <a:xfrm>
            <a:off x="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1800" y="-496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56"/>
          <p:cNvSpPr/>
          <p:nvPr/>
        </p:nvSpPr>
        <p:spPr>
          <a:xfrm>
            <a:off x="3960" y="121644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58"/>
          <p:cNvSpPr/>
          <p:nvPr/>
        </p:nvSpPr>
        <p:spPr>
          <a:xfrm>
            <a:off x="1800" y="2361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9"/>
          <p:cNvSpPr/>
          <p:nvPr/>
        </p:nvSpPr>
        <p:spPr>
          <a:xfrm>
            <a:off x="1440" y="3215520"/>
            <a:ext cx="28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60"/>
          <p:cNvSpPr/>
          <p:nvPr/>
        </p:nvSpPr>
        <p:spPr>
          <a:xfrm>
            <a:off x="5760" y="3810600"/>
            <a:ext cx="21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61"/>
          <p:cNvSpPr/>
          <p:nvPr/>
        </p:nvSpPr>
        <p:spPr>
          <a:xfrm>
            <a:off x="0" y="4237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2"/>
          <p:cNvSpPr/>
          <p:nvPr/>
        </p:nvSpPr>
        <p:spPr>
          <a:xfrm>
            <a:off x="1800" y="4497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4"/>
          <p:cNvSpPr/>
          <p:nvPr/>
        </p:nvSpPr>
        <p:spPr>
          <a:xfrm>
            <a:off x="1295280" y="4830120"/>
            <a:ext cx="23623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  <a:ea typeface="Times New Roman"/>
              </a:rPr>
              <a:t>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66ff"/>
                </a:solidFill>
                <a:latin typeface="Courier New"/>
                <a:ea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KOMPOSISI</a:t>
            </a:r>
            <a:r>
              <a:rPr b="0" lang="en-US" sz="4400" spc="-1" strike="noStrike">
                <a:solidFill>
                  <a:srgbClr val="ff8119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UR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imiawi :  - Ureum &gt; 1000 mg/dl  (35Xseru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Kreatinin &gt; 50 mg/dl ( 70Xseru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NaC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As. Ur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Sedikit : Protein, Fosfat,  Sitr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luler:    - Sedikit  Eri, Leko, Epitel,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linder fisiologis, Krist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2895840" y="30456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Kimiawi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in dlm urine 150 mg / 24 jam  ( normal 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in Tamm-Horsfall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sekresi Tubuli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bahan dasar silinder (cast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inuria OK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Kerusakan memb.kapiler glomeruli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NA, D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Sekresi tubuli      : Pielonefrit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Protein BM rendah       : M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Reabsorbsi tubuli       : Acute renal fail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2819520" y="4114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 flipV="1">
            <a:off x="2786040" y="357156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3286080" y="4214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3571920" y="40003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3143160" y="4572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 flipH="1">
            <a:off x="3285720" y="457200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763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GLUKOSUR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ilai ambang (Renal threshold) thd glukosa : kadar glukosa darah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absorbsi glukosa di tubuli terhenti (Normal : 160 – 180 mg/dl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lukosuria OK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abetes mellit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angguan reabsorbsi glukosa di tubul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Sindroma Fancon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Peny. Ginjal para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erusakan ota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droma Cush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KETONUR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nda Keton: Aseton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. Aseto-asetik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.beta hidroksi-butir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etonuria OK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Diabetes mellit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Vomiting yg para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Kelaparan para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Penurunan BB dgn intake KH nihi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EMATUR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maturia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Gross hematur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Mikroskopic hematur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maturia OK 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8119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Urolitia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- GN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- Tumor Tract. U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- Trauma Tract. U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- Cystit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- Keracunan bahan kim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         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28195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indefinite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indefinite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indefinite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indefinite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indefinite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indefinite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indefinite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indefinite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indefinite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indefinite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indefinite"/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indefinite"/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1" dur="indefinite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5" dur="indefinite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9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3" dur="indefinite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7" dur="indefinite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1" dur="indefinite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5" dur="indefinite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3" dur="indefinite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1" dur="indefinite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EMOGLOBINUR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810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-Uria OK 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aksi transfusi hemoliti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uka bakar lu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N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laria tropik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indefinite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indefinite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indefinite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indefinite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indefinite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indefinite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indefinite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9" dur="indefinite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3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5" dur="indefinite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9" dur="indefinite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63" dur="indefinite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67" dur="indefinite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71" dur="indefinite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BILIRUBINURI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Bilirubinuria OK 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7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epatitis A / B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7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umbatan saluran empedu: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mis.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- Batu,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- Ca caput pancreas</a:t>
            </a:r>
            <a:r>
              <a:rPr b="0" lang="id-ID" sz="2700" spc="-1" strike="noStrike">
                <a:solidFill>
                  <a:srgbClr val="ffffff"/>
                </a:solidFill>
                <a:latin typeface="Calibri"/>
              </a:rPr>
              <a:t>, Hepatitis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 Box 48"/>
          <p:cNvSpPr/>
          <p:nvPr/>
        </p:nvSpPr>
        <p:spPr>
          <a:xfrm>
            <a:off x="1828800" y="571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52"/>
          <p:cNvSpPr/>
          <p:nvPr/>
        </p:nvSpPr>
        <p:spPr>
          <a:xfrm>
            <a:off x="24224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9"/>
          <p:cNvSpPr/>
          <p:nvPr/>
        </p:nvSpPr>
        <p:spPr>
          <a:xfrm>
            <a:off x="6461280" y="5446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indefinite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indefinite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indefinite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indefinite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indefinite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indefinite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indefinite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indefinite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indefinite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indefinite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5" dur="indefinite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9" dur="indefinite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13" dur="indefinite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17" dur="indefinite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21" dur="indefinite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25" dur="indefinite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29" dur="indefinite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33" dur="indefinite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37" dur="indefinite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41" dur="indefinite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45" dur="indefinite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URINALISIS</a:t>
            </a:r>
            <a:r>
              <a:rPr b="0" lang="id-ID" sz="32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424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meriksaan urine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Makroskopi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Kimiaw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Mikroskopi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Calibri"/>
              </a:rPr>
              <a:t>Tujuannya 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Tes penyar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Ada / Tdk  peny. Tract. UG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Monitoring penyak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Calibri"/>
              </a:rPr>
              <a:t>SEMUA - PERLU  RAMBU RAMBU 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d-ID" sz="2800" spc="-1" strike="noStrike">
                <a:solidFill>
                  <a:srgbClr val="ffff00"/>
                </a:solidFill>
                <a:latin typeface="Calibri"/>
              </a:rPr>
              <a:t>PRA ANALITIK, ANALITIK, POST ANALITIK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UROBILINUR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obiliuria        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rutama pada peristiwa hemolitik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AIH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Thalass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Malari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3048120" y="2362320"/>
            <a:ext cx="304560" cy="0"/>
          </a:xfrm>
          <a:prstGeom prst="line">
            <a:avLst/>
          </a:prstGeom>
          <a:ln w="9360">
            <a:solidFill>
              <a:srgbClr val="ff8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V="1">
            <a:off x="3352680" y="1905120"/>
            <a:ext cx="228600" cy="457200"/>
          </a:xfrm>
          <a:prstGeom prst="line">
            <a:avLst/>
          </a:prstGeom>
          <a:ln w="9360">
            <a:solidFill>
              <a:srgbClr val="ff81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152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NITRI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una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nyaring infeksi Tract. U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valuasi Tx infeksi Tract. U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antau yg mudah infeksi U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D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nyaring kultur ur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Urine normal nitrit : - (neg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ffff00"/>
                </a:solidFill>
                <a:latin typeface="Calibri"/>
              </a:rPr>
              <a:t>PERKEMBANGAN PEMERIKSAA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Calibri"/>
              </a:rPr>
              <a:t>Konvension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Calibri"/>
              </a:rPr>
              <a:t>Uji carik – celup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Calibri"/>
              </a:rPr>
              <a:t>Semi otoma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Calibri"/>
              </a:rPr>
              <a:t>Otoma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62080" y="603360"/>
            <a:ext cx="47196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OSEDUR PEMERIKSAA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62080" y="1714680"/>
            <a:ext cx="7013520" cy="22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marL="157320" indent="-1573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iksa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a kadaluwar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7320" indent="-1573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tikan identitas samp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7320" indent="-1573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ogenkan sampel sebelum pemeriks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7320" indent="-1573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kukan pemeriksaan sesuai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it inser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/ buku man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7320" indent="-1573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catatan has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rcRect l="24374" t="54844" r="24732" b="9746"/>
          <a:stretch/>
        </p:blipFill>
        <p:spPr>
          <a:xfrm>
            <a:off x="2556000" y="4203720"/>
            <a:ext cx="465444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026"/>
          <p:cNvSpPr/>
          <p:nvPr/>
        </p:nvSpPr>
        <p:spPr>
          <a:xfrm>
            <a:off x="262080" y="603360"/>
            <a:ext cx="471960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Prosedur Pemeriksaan (Combur </a:t>
            </a:r>
            <a:r>
              <a:rPr b="1" lang="en-US" sz="2500" spc="-1" strike="noStrike" u="sng" baseline="30000">
                <a:solidFill>
                  <a:srgbClr val="ffffff"/>
                </a:solidFill>
                <a:uFillTx/>
                <a:latin typeface="Arial"/>
              </a:rPr>
              <a:t>10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Test M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027"/>
          <p:cNvSpPr/>
          <p:nvPr/>
        </p:nvSpPr>
        <p:spPr>
          <a:xfrm>
            <a:off x="262080" y="1714680"/>
            <a:ext cx="8192880" cy="32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marL="157320" indent="-1573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 segar, tidak di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entrifuge,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ogenkan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7320" indent="-1573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upkan carik uji ke dalam urin (maksimum 1 deti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7320" indent="-1573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tika menarik carik uji, geserkan sisi carik uji di tepi wadah untuk membuang kelebihan u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7320" indent="-1573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ukkan carik uji ke dalam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alyz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7320" indent="-15732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a menggunaka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isual read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andingka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rna s</a:t>
            </a:r>
            <a:r>
              <a:rPr b="1" lang="id-ID" sz="1800" spc="-1" strike="noStrike">
                <a:solidFill>
                  <a:srgbClr val="ffffff"/>
                </a:solidFill>
                <a:latin typeface="Arial"/>
              </a:rPr>
              <a:t>tl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60 detik (lekosit: 60-120</a:t>
            </a:r>
            <a:r>
              <a:rPr b="1" lang="id-ID" sz="1800" spc="-1" strike="noStrike">
                <a:solidFill>
                  <a:srgbClr val="ffffff"/>
                </a:solidFill>
                <a:latin typeface="Arial"/>
              </a:rPr>
              <a:t>’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028" descr=""/>
          <p:cNvPicPr/>
          <p:nvPr/>
        </p:nvPicPr>
        <p:blipFill>
          <a:blip r:embed="rId1"/>
          <a:srcRect l="24373" t="54845" r="24733" b="9746"/>
          <a:stretch/>
        </p:blipFill>
        <p:spPr>
          <a:xfrm>
            <a:off x="2643120" y="5143680"/>
            <a:ext cx="3867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62080" y="603360"/>
            <a:ext cx="47196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Pencatatan Hasi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62080" y="1071720"/>
            <a:ext cx="780084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marL="157320" indent="-1573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at secara benar hasil ke dalam formulir pemeriks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7320" indent="-1573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iksa ulang keterkaitan sampel yang diperiksa den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8440" indent="-15552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ma pas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8440" indent="-15552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omor urut / nomor 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8440" indent="-15552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anggal / j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8440" indent="-15552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tuan has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rcRect l="35126" t="55918" r="21150" b="16185"/>
          <a:stretch/>
        </p:blipFill>
        <p:spPr>
          <a:xfrm>
            <a:off x="3071880" y="3714840"/>
            <a:ext cx="3998880" cy="2836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644400" y="5872320"/>
            <a:ext cx="21574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mated print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7319880" y="4424400"/>
            <a:ext cx="1483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al en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9680" y="713880"/>
            <a:ext cx="8271000" cy="5332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5000"/>
          </a:bodyPr>
          <a:p>
            <a:pPr marL="155160" indent="-155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uhi syarat pengambilan urin yang ben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5160" indent="-155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nakan wadah sekali pakai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(disposable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 d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tutu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5160" indent="-155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kukan pemeriksaan segera, dalam waktu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 1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jam setelah diamb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5160" indent="-155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a pemeriksaan harus ditunda – simpan 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/ beri pengaw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5160" indent="-155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elum diperiksa, sesuaikan spesimen urin kepada suhu ruang dan diaduk ra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5160" indent="-155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at identifikasi yang benar pada wadah ur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14200" y="214200"/>
            <a:ext cx="47196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Kesimpula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4556160" y="1976400"/>
            <a:ext cx="4227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marL="163440" indent="-163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262080" y="603360"/>
            <a:ext cx="47196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Kesimpula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57120" y="1143000"/>
            <a:ext cx="8358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marL="163440" indent="-163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gan gunakan deterjen atau pengawet pada wadah u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gan bekukan atau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entrifu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ampel urin y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perkirakan akan diperiksa mikrosko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gan biarkan sampel urin di suhu ruang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 &gt; 1 j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gan sentuh area pe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meriksa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428760" y="5500800"/>
            <a:ext cx="8215200" cy="118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il urinalisa tidak bermakna kecuali kehati-hatian diberlakukan selama pengambilan dan penyimpanan 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dan pemeriksaa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si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ffffff"/>
                </a:solidFill>
                <a:latin typeface="Calibri"/>
              </a:rPr>
              <a:t>Pemeriksaan SEDIME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libri"/>
              </a:rPr>
              <a:t>KONVENSIONAL – mikroskopis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libri"/>
              </a:rPr>
              <a:t>OTOMATIK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libri"/>
              </a:rPr>
              <a:t>BANYAK INFORMASI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libri"/>
              </a:rPr>
              <a:t>PERHATIKAN  YANG PENTING  SAJA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alibri"/>
              </a:rPr>
              <a:t>ERITROSI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alibri"/>
              </a:rPr>
              <a:t>LEUKOSIT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alibri"/>
              </a:rPr>
              <a:t>PROTE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alibri"/>
              </a:rPr>
              <a:t>SILINDER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ffff"/>
                </a:solidFill>
                <a:latin typeface="Calibri"/>
              </a:rPr>
              <a:t>PANDUAN  INTERPRETASI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RITROSIT DLM URIN ( HEMATURI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MOR</a:t>
            </a:r>
            <a:r>
              <a:rPr b="0" lang="id-ID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K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ffffff"/>
                </a:solidFill>
                <a:latin typeface="Calibri"/>
              </a:rPr>
              <a:t> kelainan ada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IAT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HAT PROTEI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&gt; 2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---- DIATAS --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RY &gt;&gt; DOMINAN DARI LEK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GNA / GN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&gt; 2 ----  DIATAS --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EKO DOMINAN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PNA / PN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&lt; 2  ---  DI BAWAH ( PERDRHN , BATU, TUMOR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UMOR</a:t>
            </a:r>
            <a:r>
              <a:rPr b="0" lang="id-ID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K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ffffff"/>
                </a:solidFill>
                <a:latin typeface="Calibri"/>
              </a:rPr>
              <a:t> kelaina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I BAWAH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027"/>
          <p:cNvSpPr/>
          <p:nvPr/>
        </p:nvSpPr>
        <p:spPr>
          <a:xfrm>
            <a:off x="262080" y="603360"/>
            <a:ext cx="47196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SPEK PREANALITIK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028"/>
          <p:cNvSpPr/>
          <p:nvPr/>
        </p:nvSpPr>
        <p:spPr>
          <a:xfrm>
            <a:off x="262080" y="1785960"/>
            <a:ext cx="8453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ng harus diperhatikan untuk mendapatkan hasil yang dapat dipercay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029"/>
          <p:cNvSpPr/>
          <p:nvPr/>
        </p:nvSpPr>
        <p:spPr>
          <a:xfrm>
            <a:off x="1246320" y="2838600"/>
            <a:ext cx="548928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marL="514440" indent="-51444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kasi sampel dan pencatat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mbilan sam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yimpan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edur pemeriksa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KOSITUR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 SEBUT INFEKSI SALURAN KEMI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HAT  PROTEIN 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gt; 2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KELAINAN DIAT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HAT ERITROSIT --- LEKO &gt; DOMINAN –PNA/PN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RI LEBIH DOMINAN – GNA /GN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lt; 2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KELAINAN DI BAWA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EMUNGKINAN ISK BAG BAWAH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URETERITIS, CYSTITIS –FX PENCETU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ATU, PROSTAT, TUMO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LBUMINUR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LIHAT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gt; 2 --- Kmngkinan  ada kel ginj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lt; 2 --- Kmngkinan tdk ada kel ginjal kecual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da penderita hypertensi dan D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da pdrt ini mikro albuminuria saj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dh mnjkkan adanya kel ginjal ( mikroangiopati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LIHAT  ERI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RI &gt;&gt; , LEKO &gt;&gt;, </a:t>
            </a:r>
            <a:r>
              <a:rPr b="0" lang="id-ID" sz="1800" spc="-1" strike="noStrike">
                <a:solidFill>
                  <a:srgbClr val="ffffff"/>
                </a:solidFill>
                <a:latin typeface="Calibri"/>
              </a:rPr>
              <a:t>dan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T LEBIH DARI 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LA </a:t>
            </a:r>
            <a:r>
              <a:rPr b="0" lang="id-ID" sz="1800" spc="-1" strike="noStrike">
                <a:solidFill>
                  <a:srgbClr val="ffc000"/>
                </a:solidFill>
                <a:latin typeface="Calibri"/>
              </a:rPr>
              <a:t> ery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BIH DOMINAN DARI LEK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GNA/ GN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LA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leko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YANG DOMINAN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PNA/PN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GLOMERULONEFRITIS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6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ELAINAN DI KORTEK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6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I KORTEK BANYAK GLOMERULU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6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ANGGUAN  </a:t>
            </a:r>
            <a:r>
              <a:rPr b="0" lang="id-ID" sz="3000" spc="-1" strike="noStrike">
                <a:solidFill>
                  <a:srgbClr val="ffffff"/>
                </a:solidFill>
                <a:latin typeface="Calibri"/>
              </a:rPr>
              <a:t>berupa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KEBOCORAN BASAL MEMBRA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-210240">
              <a:lnSpc>
                <a:spcPct val="6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OTEIN BOCOR KE DLM URIN ASAL DARI BOCORAN GLOM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-210240">
              <a:lnSpc>
                <a:spcPct val="6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RI BOCOR, LEKO BOCO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51560" indent="-210240">
              <a:lnSpc>
                <a:spcPct val="60000"/>
              </a:lnSpc>
              <a:spcBef>
                <a:spcPts val="75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Calibri"/>
              </a:rPr>
              <a:t>INGAT JUMLAH NORMAL ERI DLM DARAH JAUH LEBIH BANYAK DARI LEKO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d-ID" sz="3000" spc="-1" strike="noStrike">
                <a:solidFill>
                  <a:srgbClr val="ffffff"/>
                </a:solidFill>
                <a:latin typeface="Calibri"/>
              </a:rPr>
              <a:t>jadi wajar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ROSS HEMATURIA / ERI DOMINA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PYELO NEFRITIS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LAINAN DI MEDULL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 MEDULA BANYAK TUBULUS, ADA SEDKT GLOMERULU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PARS JUKTA GLOMERULA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RI SDKT, LEKO BANYA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KO MASUK KRN DATANG UNTUK PAGOSITO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BILA ERI MENONJOL ATAU SAMA SAMA MENINGKAT  KURANG LEBIH DENGAN LEKO,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GAT MUNGKIN DI SAMPING ADA PNA-PNC ADA BATU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LA ADA LEKOSITUR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ntukan atas atau bawah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kosit – gliter / td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ry  - dismorpik / td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Proteinuria - &gt; 2 atau td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DM / H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TFG abnormal ( UREUM CREATININ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PA BILA ADA SALAH DARI DIATAS TERUTAMA POINT 3,4,5 HARUS INGAT INI ADALAH ISK BAGIAN ATA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Evaluasi Spesime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1066680"/>
            <a:ext cx="914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. Lab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. Jenis tes pemeriksa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. Wad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. Kondisi penyimpanan (suhu dan waktu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5. Pengawe</a:t>
            </a:r>
            <a:r>
              <a:rPr b="0" lang="id-ID" sz="3600" spc="-1" strike="noStrike">
                <a:solidFill>
                  <a:srgbClr val="ffffff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id-ID" sz="36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 Transport ke laboratori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85"/>
          <p:cNvSpPr/>
          <p:nvPr/>
        </p:nvSpPr>
        <p:spPr>
          <a:xfrm>
            <a:off x="-3978360" y="-39852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86"/>
          <p:cNvSpPr/>
          <p:nvPr/>
        </p:nvSpPr>
        <p:spPr>
          <a:xfrm>
            <a:off x="-3427200" y="36504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88"/>
          <p:cNvSpPr/>
          <p:nvPr/>
        </p:nvSpPr>
        <p:spPr>
          <a:xfrm>
            <a:off x="-2858040" y="4114800"/>
            <a:ext cx="15164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        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89"/>
          <p:cNvSpPr/>
          <p:nvPr/>
        </p:nvSpPr>
        <p:spPr>
          <a:xfrm>
            <a:off x="-3976560" y="4723560"/>
            <a:ext cx="109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91"/>
          <p:cNvSpPr/>
          <p:nvPr/>
        </p:nvSpPr>
        <p:spPr>
          <a:xfrm>
            <a:off x="-3483000" y="6636600"/>
            <a:ext cx="10645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79"/>
          <p:cNvSpPr/>
          <p:nvPr/>
        </p:nvSpPr>
        <p:spPr>
          <a:xfrm>
            <a:off x="-3977280" y="-345960"/>
            <a:ext cx="838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ff"/>
                </a:solidFill>
                <a:latin typeface="Courier New"/>
                <a:ea typeface="Times New Roman"/>
              </a:rPr>
              <a:t>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280"/>
          <p:cNvSpPr/>
          <p:nvPr/>
        </p:nvSpPr>
        <p:spPr>
          <a:xfrm>
            <a:off x="-3747960" y="10476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82"/>
          <p:cNvSpPr/>
          <p:nvPr/>
        </p:nvSpPr>
        <p:spPr>
          <a:xfrm>
            <a:off x="-3352680" y="1585440"/>
            <a:ext cx="1211580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</a:t>
            </a:r>
            <a:r>
              <a:rPr b="1" lang="en-US" sz="1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              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283"/>
          <p:cNvSpPr/>
          <p:nvPr/>
        </p:nvSpPr>
        <p:spPr>
          <a:xfrm>
            <a:off x="-3809880" y="4572000"/>
            <a:ext cx="5502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r" pos="914400"/>
                <a:tab algn="r" pos="1371600"/>
                <a:tab algn="r" pos="1828800"/>
                <a:tab algn="r" pos="2286000"/>
                <a:tab algn="r" pos="2743200"/>
                <a:tab algn="r" pos="3200400"/>
                <a:tab algn="r" pos="3657600"/>
                <a:tab algn="r" pos="4114800"/>
                <a:tab algn="r" pos="4572000"/>
                <a:tab algn="r" pos="5029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84"/>
          <p:cNvSpPr/>
          <p:nvPr/>
        </p:nvSpPr>
        <p:spPr>
          <a:xfrm>
            <a:off x="-5348160" y="5472000"/>
            <a:ext cx="2486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301"/>
          <p:cNvSpPr/>
          <p:nvPr/>
        </p:nvSpPr>
        <p:spPr>
          <a:xfrm>
            <a:off x="-3726360" y="91440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04"/>
          <p:cNvSpPr/>
          <p:nvPr/>
        </p:nvSpPr>
        <p:spPr>
          <a:xfrm>
            <a:off x="762120" y="3780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05"/>
          <p:cNvSpPr/>
          <p:nvPr/>
        </p:nvSpPr>
        <p:spPr>
          <a:xfrm>
            <a:off x="0" y="370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10"/>
          <p:cNvSpPr/>
          <p:nvPr/>
        </p:nvSpPr>
        <p:spPr>
          <a:xfrm>
            <a:off x="685800" y="121932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11"/>
          <p:cNvSpPr/>
          <p:nvPr/>
        </p:nvSpPr>
        <p:spPr>
          <a:xfrm>
            <a:off x="1660680" y="5218200"/>
            <a:ext cx="85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25"/>
          <p:cNvSpPr/>
          <p:nvPr/>
        </p:nvSpPr>
        <p:spPr>
          <a:xfrm>
            <a:off x="7560" y="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11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326"/>
          <p:cNvSpPr/>
          <p:nvPr/>
        </p:nvSpPr>
        <p:spPr>
          <a:xfrm>
            <a:off x="2064960" y="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811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36"/>
          <p:cNvSpPr/>
          <p:nvPr/>
        </p:nvSpPr>
        <p:spPr>
          <a:xfrm>
            <a:off x="198108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355"/>
          <p:cNvSpPr/>
          <p:nvPr/>
        </p:nvSpPr>
        <p:spPr>
          <a:xfrm>
            <a:off x="6332040" y="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811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59"/>
          <p:cNvSpPr/>
          <p:nvPr/>
        </p:nvSpPr>
        <p:spPr>
          <a:xfrm>
            <a:off x="4122360" y="30492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65"/>
          <p:cNvSpPr/>
          <p:nvPr/>
        </p:nvSpPr>
        <p:spPr>
          <a:xfrm>
            <a:off x="6408360" y="3808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SAMPLING UR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Botol, bermulut lebar, bertutup, bersih, kering, tidak perlu steri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rlabel (nama, tgl, yang  dite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alam 1 jam harus diperiks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la tertunda sampel disimpan suhu 4 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ampel tdk terpapar sinar matahar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2223" t="13258" r="26883" b="72049"/>
          <a:stretch/>
        </p:blipFill>
        <p:spPr>
          <a:xfrm>
            <a:off x="785880" y="1695600"/>
            <a:ext cx="7473960" cy="16221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1049400" y="3465360"/>
            <a:ext cx="15732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ci tan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884320" y="3459240"/>
            <a:ext cx="157356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ka wadah urin dan letakkan tutup menghadap ke a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719600" y="3459240"/>
            <a:ext cx="15732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rtama buang sedikit u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554880" y="3465360"/>
            <a:ext cx="1874880" cy="22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utup wadah tanpa menyentuh sisi dalam tu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12591" t="23186" r="12799" b="14577"/>
          <a:stretch/>
        </p:blipFill>
        <p:spPr>
          <a:xfrm>
            <a:off x="1214280" y="1571760"/>
            <a:ext cx="6823080" cy="4276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5"/>
          <p:cNvSpPr/>
          <p:nvPr/>
        </p:nvSpPr>
        <p:spPr>
          <a:xfrm>
            <a:off x="262080" y="603360"/>
            <a:ext cx="50482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ERUBAHAN BILA SAMPLE DIBIARKA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1500120" y="52149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Calibri"/>
              </a:rPr>
              <a:t>NITRIT Meningkat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frigerato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ymol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maldehid 40%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lue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ngawet “all round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ff00"/>
                </a:solidFill>
                <a:latin typeface="Calibri"/>
              </a:rPr>
              <a:t>PENYIMPANAN /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PENGAWET URIN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ine sewaktu (random sampling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ine pag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ine 2 jam post prandi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ine 24 j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id-ID" sz="4000" spc="-1" strike="noStrike">
                <a:solidFill>
                  <a:srgbClr val="ffff00"/>
                </a:solidFill>
                <a:latin typeface="Calibri"/>
              </a:rPr>
              <a:t>MACAM -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SAMPEL URIN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1:50:22Z</dcterms:created>
  <dc:creator>dr. Hartojo</dc:creator>
  <dc:description/>
  <dc:language>en-US</dc:language>
  <cp:lastModifiedBy>siti fathonah</cp:lastModifiedBy>
  <dcterms:modified xsi:type="dcterms:W3CDTF">2013-02-14T03:43:13Z</dcterms:modified>
  <cp:revision>22</cp:revision>
  <dc:subject/>
  <dc:title>BAHAN</dc:title>
</cp:coreProperties>
</file>