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2AF6-3F30-4A24-8C63-92BAE5D7E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C02A-57CF-4A01-A016-2ED951365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4E00-8325-467E-A053-91FB3345C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C0D0-4FF2-40B8-B707-4EF20155C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AA28F-646F-4EBD-913C-6899998A3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DD671-089B-4752-B5C0-2513A9E8E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2EBE6-61B9-4A2D-BA70-16E296F58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11BE0-AAC1-4898-8DCC-54B9F02F9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0239B-1DA4-4746-B122-040B50C07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B9634-0D4C-4E6F-924A-A69501789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79BE3-60A2-44C3-B59F-CACC7102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8D8F-15C5-4812-BE90-1C41A372E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7DAB5-553F-43B8-AA4D-9E0796D5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12BEF-C91F-4288-892B-C98B24D2B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0B2A8-3DDD-4C2C-819E-374E79414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A31F2-86E4-4F39-B2B9-68796FC89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E6718-93A1-46BB-AF4D-C9E1DF7B6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5901-B3D0-4B48-87BE-8FF2C5CEC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FFAA-A47D-40E7-90D0-22A14DCDF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D446-2D5C-43B5-80CE-89B190151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42AE-C7D7-4EE8-8670-3E3C9F77E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C9BF-70AD-459B-9E21-65B6AAB09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6105-CAE4-4990-B8F0-81417555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48C0-F9EE-4E32-B13E-4A03CB39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6FA14-BC83-4C29-9F9B-906A57AFF4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2A000-C1D2-4AD6-A102-444F51F037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hapter 1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asics of Screenwritin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n Hans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ttp://chicagoscreenwriting.co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3399"/>
                </a:solidFill>
                <a:latin typeface="Courier New"/>
              </a:rPr>
              <a:t>IDEAS AND SUBJEC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28720" indent="-3715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dea </a:t>
            </a:r>
            <a:r>
              <a:rPr b="1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dramatization </a:t>
            </a:r>
            <a:r>
              <a:rPr b="1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subject = what the story is abou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28720" indent="-3715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28720" indent="-3715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dea: a story about a gang and their robber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28720" indent="-3715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Subject: “Clyde Barrow’s gang holding up banks in the Midwest during the Depression, and their eventual downfall” </a:t>
            </a:r>
            <a:r>
              <a:rPr b="1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Arthur Penn’s </a:t>
            </a:r>
            <a:r>
              <a:rPr b="1" i="1" lang="it-IT" sz="2000" spc="-1" strike="noStrike">
                <a:solidFill>
                  <a:srgbClr val="000000"/>
                </a:solidFill>
                <a:latin typeface="Courier New"/>
              </a:rPr>
              <a:t>Bonnie and Clyde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(1967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28720" indent="-3715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28720" indent="-3715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Generalized ideas into a specific dramatic subject </a:t>
            </a:r>
            <a:r>
              <a:rPr b="1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cc0000"/>
                </a:solidFill>
                <a:latin typeface="Courier New"/>
              </a:rPr>
              <a:t>premi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REMIS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28720" indent="-371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Premise(proposition;idea;plan;) = short, one to three sentences statement (25-28 words), which captures the essential elements of the screenpl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28720" indent="-371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28720" indent="-371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0000"/>
                </a:solidFill>
                <a:latin typeface="Courier New"/>
              </a:rPr>
              <a:t>“</a:t>
            </a:r>
            <a:r>
              <a:rPr b="1" lang="it-IT" sz="2000" spc="-1" strike="noStrike">
                <a:solidFill>
                  <a:srgbClr val="cc0000"/>
                </a:solidFill>
                <a:latin typeface="Courier New"/>
              </a:rPr>
              <a:t>King slays father, beds mother, learns truth and tears out his eyes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28720" indent="-371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cc0000"/>
                </a:solidFill>
                <a:latin typeface="Courier New"/>
              </a:rPr>
              <a:t>Sophocle’s </a:t>
            </a:r>
            <a:r>
              <a:rPr b="1" i="1" lang="it-IT" sz="1800" spc="-1" strike="noStrike">
                <a:solidFill>
                  <a:srgbClr val="cc0000"/>
                </a:solidFill>
                <a:latin typeface="Courier New"/>
              </a:rPr>
              <a:t>Oedipus Re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28720" indent="-371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28720" indent="-371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dea/subject </a:t>
            </a:r>
            <a:r>
              <a:rPr b="1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proposal </a:t>
            </a:r>
            <a:r>
              <a:rPr b="1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READER (Producers? Co-writers? Actors? Agents?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REMIS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28720" indent="-371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Keep log lines!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28720" indent="-371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Start from a synopsis/outline, then slash it down to the very essence of the stor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28720" indent="-371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28720" indent="-371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LOG LINES 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(from Bicat &amp; MacNabb, </a:t>
            </a:r>
            <a:r>
              <a:rPr b="1" i="1" lang="it-IT" sz="1400" spc="-1" strike="noStrike">
                <a:solidFill>
                  <a:srgbClr val="000000"/>
                </a:solidFill>
                <a:latin typeface="Courier New"/>
              </a:rPr>
              <a:t>Creative Screenwriting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28720" indent="-3715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Captivating title (creates expectation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28720" indent="-3715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Overriding the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28720" indent="-3715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roduce characters (names, job, functio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28720" indent="-3715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Set the scene (where and whe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28720" indent="-3715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Evoke colour, taste and sme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09120" y="91404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28720" indent="-371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 PREMISE should contain the following inform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28720" indent="-371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28720" indent="-3715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he genre of the screenplay (e.g. thriller, romantic comedy, etc.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85920" indent="-3715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Courier New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o this may be added a reference to similar screenplay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285920" indent="-3715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Courier New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You can also fit in a reference to the Type of Story or Plot Type (e.g. redemption plot, maturation plot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285920" indent="-3715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Courier New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28720" indent="-371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2. Hint at a narrative form/structure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episodic, multi-stranded, circular, etc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28720" indent="-371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28720" indent="-371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3. A rough description of characters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their names, central role in the action of the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tory, essential problem </a:t>
            </a:r>
            <a:r>
              <a:rPr b="1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which results in their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nflict with the antagonistic forc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80880" y="380880"/>
            <a:ext cx="83822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lvl="1" marL="671040" indent="-300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A PREMISE should contain the following informatio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71040" indent="-300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71040" indent="-300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71040" indent="-300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4. A description of the dominant antagonistic force (enemy, natural disaster, self­doubt, corruption, etc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71040" indent="-300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71040" indent="-300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5. A reference to location and tim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71040" indent="-300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71040" indent="-300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6. An active question which arises from the conflict outlined between the central dramatic forces and which provides enough of a hook for the reader to make them want to hear, or read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71040" indent="-300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(NOTE: Do not give away the end of your story!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520" indent="-3805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685440" y="11426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770400" indent="-345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How to assess whether a Premise works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70400" indent="-345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en writing or reading a premise ask yourself the following questi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70400" indent="-3452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70400" indent="-345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1. Who or what is the narrative about? What is the dramatic problem? And why can't it be solved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70400" indent="-345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2. What </a:t>
            </a:r>
            <a:r>
              <a:rPr b="1" lang="en-GB" sz="2000" spc="-1" strike="noStrike">
                <a:solidFill>
                  <a:srgbClr val="cc0000"/>
                </a:solidFill>
                <a:latin typeface="Courier New"/>
              </a:rPr>
              <a:t>type of story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is it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70400" indent="-345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3. Where is the dramatic conflict coming from? What/who is the antagonistic forc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70400" indent="-345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4. What form and genre of screenplay does this idea belong to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70400" indent="-345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5. What is original about it? What is familiar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70400" indent="-345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6. What will an audience be interested in it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hat goes into a script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cep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haracte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o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ruct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Picture 4" descr="screenplay"/>
          <p:cNvPicPr/>
          <p:nvPr/>
        </p:nvPicPr>
        <p:blipFill>
          <a:blip r:embed="rId1"/>
          <a:stretch/>
        </p:blipFill>
        <p:spPr>
          <a:xfrm>
            <a:off x="5029200" y="1828800"/>
            <a:ext cx="2971800" cy="317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haracter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o is your movie about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tagoni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tagoni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9" descr="million_dollar_baby"/>
          <p:cNvPicPr/>
          <p:nvPr/>
        </p:nvPicPr>
        <p:blipFill>
          <a:blip r:embed="rId1"/>
          <a:stretch/>
        </p:blipFill>
        <p:spPr>
          <a:xfrm>
            <a:off x="566640" y="2583000"/>
            <a:ext cx="3924360" cy="26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ncep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at is your movie about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at do you want to say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o’s going to pay to see it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ow much will it cost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y film it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Picture 6" descr="MPj04017920000[1]"/>
          <p:cNvPicPr/>
          <p:nvPr/>
        </p:nvPicPr>
        <p:blipFill>
          <a:blip r:embed="rId1"/>
          <a:stretch/>
        </p:blipFill>
        <p:spPr>
          <a:xfrm>
            <a:off x="4838760" y="1752480"/>
            <a:ext cx="353196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lo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at drives your story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at happens to your character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rama equals conflic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5" descr="crash-no-limite-poster05"/>
          <p:cNvPicPr/>
          <p:nvPr/>
        </p:nvPicPr>
        <p:blipFill>
          <a:blip r:embed="rId1"/>
          <a:stretch/>
        </p:blipFill>
        <p:spPr>
          <a:xfrm>
            <a:off x="5105520" y="1752480"/>
            <a:ext cx="29509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tructu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ree Acts (Aristotle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ct I (1-30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roduce world and charact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ot point 1 – without this scene there is no mov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ct II (31-90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happens to the character to make him/her chan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ot point 2 – another event necessary to move charact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ct III (91-120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max (Big a Battl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clus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a50021"/>
                </a:solidFill>
                <a:latin typeface="Courier New"/>
              </a:rPr>
              <a:t>Script or screenplay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28720" indent="-371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a50021"/>
                </a:solidFill>
                <a:latin typeface="Courier New"/>
              </a:rPr>
              <a:t>Script = more generic (any written work, including screenplay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28720" indent="-371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28720" indent="-371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a50021"/>
                </a:solidFill>
                <a:latin typeface="Courier New"/>
              </a:rPr>
              <a:t>Screenplay = play for the screen (film industry, screenwriter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28720" indent="-371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28720" indent="-371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a50021"/>
                </a:solidFill>
                <a:latin typeface="Courier New"/>
              </a:rPr>
              <a:t>What is a screenplay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28720" indent="-3715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a50021"/>
                </a:solidFill>
                <a:latin typeface="Courier New"/>
              </a:rPr>
              <a:t>90-120 pa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28720" indent="-3715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a50021"/>
                </a:solidFill>
                <a:latin typeface="Courier New"/>
              </a:rPr>
              <a:t>Action + dialogue (SEE + HEAR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3399"/>
                </a:solidFill>
                <a:latin typeface="Courier New"/>
              </a:rPr>
              <a:t>DEVELOPMENT PROC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28720" indent="-3715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Idea (theme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28720" indent="-3715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Subject </a:t>
            </a:r>
            <a:r>
              <a:rPr b="1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 Premise (?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28720" indent="-3715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28720" indent="-3715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28720" indent="-3715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Treat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28720" indent="-3715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Step outline (breakdow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28720" indent="-3715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Screenpla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3399"/>
                </a:solidFill>
                <a:latin typeface="Courier New"/>
              </a:rPr>
              <a:t>IDEAS AND SUBJEC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803520" indent="-36036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Drama = Someone doing something </a:t>
            </a:r>
            <a:r>
              <a:rPr b="1" lang="it-IT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characters and ac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03520" indent="-36036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03520" indent="-36036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Starting point = an ide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03520" indent="-36036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Where do you find ideas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03520" indent="-36036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deas: books/novels, classics, plays, magazines, newspapers, headlines, biographies, conversations (overheard), experience, social issues, history, dreams, fantasies, fears, concepts, what...if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03520" indent="-36036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Truth + imagination + re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60360" indent="-36036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60360" indent="-36036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6T15:03:14Z</dcterms:created>
  <dc:creator>Kelly High School</dc:creator>
  <dc:description/>
  <dc:language>en-US</dc:language>
  <cp:lastModifiedBy>user</cp:lastModifiedBy>
  <dcterms:modified xsi:type="dcterms:W3CDTF">2010-09-30T05:41:15Z</dcterms:modified>
  <cp:revision>11</cp:revision>
  <dc:subject/>
  <dc:title>Basics of Screenplays</dc:title>
</cp:coreProperties>
</file>