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3F6-6397-4422-9282-D2A78FEF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DBD-6AD4-4020-BACB-0A7E130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B73-A764-400C-9866-D8B70152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0EC-34AA-4DE4-8432-87086870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1837-8F66-41D9-9AB8-8C081C42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BEF1-DAD2-40FB-95D8-5E595941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F786-E696-4099-8CFD-5E1E9EC5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3313-70CA-4D5C-97AD-70860684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9B2F-DCC5-47DE-8A5D-9579FDFD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7FA1-004B-4625-BDD7-7A099FC3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EC83-2E7A-42C2-8C9E-DE240462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305-393C-448D-9437-1EF48F9D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D7C3-7AE5-4296-BC2A-E1CB6CA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9F84-44F3-40D7-A4EB-2EDB3F03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12CC-428D-4C86-A190-E7621C59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D8DD-A52B-428F-BEF1-A04BF3A1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E081-DE7D-4DC2-B59D-3FDCE597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9FE-7903-41BE-B763-5E92097A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414-2EB0-4EFA-8B50-D013A5E7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945-C2BE-4E5D-9DFA-6DADA97B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4F1-8FE4-43F7-B380-5C2F0F72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092-FB46-4A21-8D7E-3844308E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531-F982-4C9E-B47D-EC8797C4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EBF-021A-4C26-823C-05CD34F2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60C6-C5A2-468A-9003-18901A639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3538-2DDE-4164-90BA-66AE26E0A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sics of Screenwri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 Hans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chicagoscreenwriting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urier New"/>
              </a:rPr>
              <a:t>IDEAS AND SU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dea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dramatization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subject = what the story is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dea: a story about a gang and their robbe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ject: “Clyde Barrow’s gang holding up banks in the Midwest during the Depression, and their eventual downfall”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Arthur Penn’s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Bonnie and Clyde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196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eneralized ideas into a specific dramatic subject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M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remise(proposition;idea;plan;) = short, one to three sentences statement (25-28 words), which captures the essential elements of the screen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“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King slays father, beds mother, learns truth and tears out his eye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cc0000"/>
                </a:solidFill>
                <a:latin typeface="Courier New"/>
              </a:rPr>
              <a:t>Sophocle’s </a:t>
            </a:r>
            <a:r>
              <a:rPr b="1" i="1" lang="it-IT" sz="1800" spc="-1" strike="noStrike">
                <a:solidFill>
                  <a:srgbClr val="cc0000"/>
                </a:solidFill>
                <a:latin typeface="Courier New"/>
              </a:rPr>
              <a:t>Oedipus R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dea/subject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proposal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READER (Producers? Co-writers? Actors? Agents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M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Keep log lines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art from a synopsis/outline, then slash it down to the very essence of the s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OG LINES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(from Bicat &amp; MacNabb, </a:t>
            </a:r>
            <a:r>
              <a:rPr b="1" i="1" lang="it-IT" sz="1400" spc="-1" strike="noStrike">
                <a:solidFill>
                  <a:srgbClr val="000000"/>
                </a:solidFill>
                <a:latin typeface="Courier New"/>
              </a:rPr>
              <a:t>Creative Screenwriting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aptivating title (creates expecta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Overriding the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roduce characters (names, job, func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et the scene (where and wh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voke colour, taste and sm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0912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 PREMISE should contain the following inform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 genre of the screenplay (e.g. thriller, romantic comedy, etc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5920" indent="-371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o this may be added a reference to similar screenpl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85920" indent="-371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ou can also fit in a reference to the Type of Story or Plot Type (e.g. redemption plot, maturation plot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85920" indent="-371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. Hint at a narrative form/structu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pisodic, multi-stranded, circular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3. A rough description of character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heir names, central role in the action of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ory, essential problem 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which results in their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flict with the antagonistic for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3808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 PREMISE should contain the following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4. A description of the dominant antagonistic force (enemy, natural disaster, self­doubt, corruption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5. A reference to location and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6. An active question which arises from the conflict outlined between the central dramatic forces and which provides enough of a hook for the reader to make them want to hear, or rea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NOTE: Do not give away the end of your story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440" y="114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ow to assess whether a Premise work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en writing or reading a premise ask yourself the following ques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. Who or what is the narrative about? What is the dramatic problem? And why can't it be solv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. What </a:t>
            </a:r>
            <a:r>
              <a:rPr b="1" lang="en-GB" sz="2000" spc="-1" strike="noStrike">
                <a:solidFill>
                  <a:srgbClr val="cc0000"/>
                </a:solidFill>
                <a:latin typeface="Courier New"/>
              </a:rPr>
              <a:t>type of story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s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3. Where is the dramatic conflict coming from? What/who is the antagonistic for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4. What form and genre of screenplay does this idea belong t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5. What is original about it? What is famili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6. What will an audience be interested in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goes into a scrip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4" descr="screenplay"/>
          <p:cNvPicPr/>
          <p:nvPr/>
        </p:nvPicPr>
        <p:blipFill>
          <a:blip r:embed="rId1"/>
          <a:stretch/>
        </p:blipFill>
        <p:spPr>
          <a:xfrm>
            <a:off x="5029200" y="1828800"/>
            <a:ext cx="297180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o is your movie abou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tagon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agon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9" descr="million_dollar_baby"/>
          <p:cNvPicPr/>
          <p:nvPr/>
        </p:nvPicPr>
        <p:blipFill>
          <a:blip r:embed="rId1"/>
          <a:stretch/>
        </p:blipFill>
        <p:spPr>
          <a:xfrm>
            <a:off x="566640" y="2583000"/>
            <a:ext cx="3924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your movie abou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do you want to sa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o’s going to pay to see i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much will it co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film i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6" descr="MPj04017920000[1]"/>
          <p:cNvPicPr/>
          <p:nvPr/>
        </p:nvPicPr>
        <p:blipFill>
          <a:blip r:embed="rId1"/>
          <a:stretch/>
        </p:blipFill>
        <p:spPr>
          <a:xfrm>
            <a:off x="4838760" y="1752480"/>
            <a:ext cx="3531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drives your stor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happens to your charact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ama equals confli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crash-no-limite-poster05"/>
          <p:cNvPicPr/>
          <p:nvPr/>
        </p:nvPicPr>
        <p:blipFill>
          <a:blip r:embed="rId1"/>
          <a:stretch/>
        </p:blipFill>
        <p:spPr>
          <a:xfrm>
            <a:off x="5105520" y="1752480"/>
            <a:ext cx="2950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ree Acts (Aristotl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t I (1-3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e world and charac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ot point 1 – without this scene there is no mov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t II (31-9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happens to the character to make him/her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ot point 2 – another event necessary to move charac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t III (91-12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max (Big a Batt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a50021"/>
                </a:solidFill>
                <a:latin typeface="Courier New"/>
              </a:rPr>
              <a:t>Script or screenplay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Courier New"/>
              </a:rPr>
              <a:t>Script = more generic (any written work, including screenplay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Courier New"/>
              </a:rPr>
              <a:t>Screenplay = play for the screen (film industry, screenwrit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Courier New"/>
              </a:rPr>
              <a:t>What is a screenpla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Courier New"/>
              </a:rPr>
              <a:t>90-120 p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Courier New"/>
              </a:rPr>
              <a:t>Action + dialogue (SEE + HE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99"/>
                </a:solidFill>
                <a:latin typeface="Courier New"/>
              </a:rPr>
              <a:t>DEVELOPMENT PRO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dea (them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ubject </a:t>
            </a:r>
            <a:r>
              <a:rPr b="1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Premise (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ep outline (breakdow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creen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99"/>
                </a:solidFill>
                <a:latin typeface="Courier New"/>
              </a:rPr>
              <a:t>IDEAS AND SUB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Drama = Someone doing something </a:t>
            </a:r>
            <a:r>
              <a:rPr b="1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characters and 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Starting point = an id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Where do you find idea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deas: books/novels, classics, plays, magazines, newspapers, headlines, biographies, conversations (overheard), experience, social issues, history, dreams, fantasies, fears, concepts, what...if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Truth + imagination +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5:03:14Z</dcterms:created>
  <dc:creator>Kelly High School</dc:creator>
  <dc:description/>
  <dc:language>en-US</dc:language>
  <cp:lastModifiedBy>user</cp:lastModifiedBy>
  <dcterms:modified xsi:type="dcterms:W3CDTF">2010-09-30T05:41:15Z</dcterms:modified>
  <cp:revision>11</cp:revision>
  <dc:subject/>
  <dc:title>Basics of Screenplays</dc:title>
</cp:coreProperties>
</file>