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793-4EAE-4283-A8D4-8934903F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259-52FE-4051-BCF0-CA49DE93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367-3027-4CBF-A5D5-CA97E5F1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39D-F43F-4865-AA3A-EAA65F5A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999-DBC0-49C3-B4EB-6FD09353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DC6-B879-4F46-A276-488B272C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ECB-C76F-4BF8-BA64-3C8E7369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DB4-BFF0-4505-AB55-9C569363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65E-C00C-41EB-BB80-5F52886A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F80-FF1A-42BB-B2FC-C6FD94EA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53D-F918-4200-B100-AB951ADD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A51-3B31-4FF3-BB6C-2B255BE0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1C5E2-38C0-4900-BA3D-5D9CC30A860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4B071-3DD4-4D75-B97F-5647EF64730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8:41:49Z</dcterms:created>
  <dc:creator>최봉수</dc:creator>
  <dc:description/>
  <dc:language>en-US</dc:language>
  <cp:lastModifiedBy>맛있다 군만두</cp:lastModifiedBy>
  <dcterms:modified xsi:type="dcterms:W3CDTF">2024-10-01T02:55:30Z</dcterms:modified>
  <cp:revision>4</cp:revision>
  <dc:subject/>
  <dc:title>슬라이드 1</dc:title>
</cp:coreProperties>
</file>