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4F3-2646-4AEC-A1BA-900538AA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E69-1C13-44A1-841B-AC5D4B1C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B84-BC76-4FA8-8260-A2B718DD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DB2-C32F-4931-9C0D-A614B8D7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A65-EBA8-4AC4-9241-21BB662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F17-CB4B-4BB7-AF61-160C2BD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A0E-87AE-47F4-9E88-787595FD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526-FC9A-4B22-9662-3736C58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805-A5B3-455C-8B26-DA45760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C18-B3B0-49E3-8036-B6EF603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359-5550-406E-992E-B18CB61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007-25EF-476C-B458-2D568C5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7C1DF-0EC2-47A4-B48C-5931FE2AA2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26984-FFB5-4E75-8EC1-FFED43AE708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41:49Z</dcterms:created>
  <dc:creator>최봉수</dc:creator>
  <dc:description/>
  <dc:language>en-US</dc:language>
  <cp:lastModifiedBy>맛있다 군만두</cp:lastModifiedBy>
  <dcterms:modified xsi:type="dcterms:W3CDTF">2024-10-01T02:55:30Z</dcterms:modified>
  <cp:revision>4</cp:revision>
  <dc:subject/>
  <dc:title>슬라이드 1</dc:title>
</cp:coreProperties>
</file>