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A1A-CC33-4EC3-9B78-89C5723E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7AB-82DF-44C6-8852-FDE37CC7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2DB-3F90-443C-AEF4-597A634D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62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13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2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62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13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40D-AF24-4D7D-8B86-046663F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1DB-A9E7-4EA6-BDC9-ACB4911D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4052-17F7-4720-AC08-ADFE49E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D036-4065-46A1-A813-9E82A12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1A2C-8C8C-43A4-BC93-61D97E5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FB2-4BD7-42E1-931F-1D5F8E0A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65D-1D4A-400B-9180-ADDBF6F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5AC-E42B-41DA-93CA-702AA754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6F0-5301-444C-B7AD-25923CC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73B8-FB82-4918-8C52-E320930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0A0-AE73-4D2A-AD3F-D7D367D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9C56-B2C9-4641-AF22-4162876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7199-A8DE-44A8-83A7-B3F1FEF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62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13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2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62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213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8AC-86F4-4800-8B6E-254CF0AF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C8B-0CD3-41D2-BC36-5E8D289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BFB-F382-4F46-8D9D-3EF53B3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EBA-0751-42FA-BC12-952071AE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AF4-952C-4FA9-90A9-159E6AE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AA9-0314-47D9-B769-DE211F8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F22-EF1F-4E05-B326-AFA27CD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233-614B-496B-BBAF-99C9920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295280" cy="6858000"/>
            <a:chOff x="0" y="0"/>
            <a:chExt cx="1295280" cy="6858000"/>
          </a:xfrm>
        </p:grpSpPr>
        <p:sp>
          <p:nvSpPr>
            <p:cNvPr id="1" name="Rectangle 3"/>
            <p:cNvSpPr/>
            <p:nvPr/>
          </p:nvSpPr>
          <p:spPr>
            <a:xfrm>
              <a:off x="962280" y="0"/>
              <a:ext cx="3330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39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E422-85EA-4BDE-A31C-26BCF76BB30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D5D9-077A-4BCF-A128-6CC50DA155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483-4289-4173-B04E-97526BC47F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93CF-1235-4604-8164-81C1BFB7FC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11C-B6F8-4812-BFFB-9AC389C84A2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4500-1764-46FB-890A-46AB7832FD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2600" y="-381240"/>
            <a:ext cx="9144000" cy="3352680"/>
          </a:xfrm>
          <a:prstGeom prst="rect">
            <a:avLst/>
          </a:prstGeom>
          <a:solidFill>
            <a:srgbClr val="ffffff">
              <a:alpha val="50000"/>
            </a:srgbClr>
          </a:solidFill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ưu ý khi sử dụng Email !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1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C53-8A48-4FD3-B467-FE7FBA8594D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69A-0506-49A8-8A66-D046B3E675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752480" y="2971800"/>
            <a:ext cx="583560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Narrow"/>
              </a:rPr>
              <a:t>Thank You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Narrow"/>
              <a:ea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75042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ỖI CƠ BẢN THƯỜNG GẶP KHI VIẾT EMAIL</a:t>
            </a:r>
            <a:br>
              <a:rPr sz="3200"/>
            </a:b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ỏ sót tiêu đề th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êu đề thư không tương th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ời mở đầu thư không có ý nghĩ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đưa tên người nhận vào th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quan tâm, trau chuốt từ ng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ên kiểm tra chính tả và ngữ phá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5C6-E432-4B22-ABE6-18A8EF7635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E640-9913-4132-90DF-0803EA0DBE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ỖI CƠ BẢN THƯỜNG GẶP KHI VIẾT GMAI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ội dung dài dòng, mông lung, không cô đ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yển tiếp Email mà chưa có sự đồng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ghĩ rằng sẽ không ai khác thấy đọc được email của bạn ngoài người gử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ỏ qua chữ 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g đợi những phản hồi ngay lập tứ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àn thành mục gửi ngay đầu ti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6F1A-A79F-4622-AD76-1967ED5CD60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2E0-94E8-4550-A936-944F587CA7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ƯU Ý KHI  GIAO TIẾP QUA MAI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A4D-FC58-4570-99CD-586D632DC9C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5EB8-7D10-4453-8C85-90546531F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22E-7D68-4F3A-BB41-3571CBD1845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506-819F-4AC9-B0AC-9B0AE391A6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Subjec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i rõ mục đích, tiêu đề nội dung sẽ trình  bày trong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chữ cái đầu tiên viết 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: Báo Cáo Kết Quả Nhiệm V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ú ý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ệt đối không để Subject "trống" bởi Gmail có thể nhận mail của bạn là Spam mail và tự động lọc và xóa đ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D08A-CCDF-46B8-92CB-E06CAE52BD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A43-53A5-41A6-A385-5D3B8FC511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371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Lời chào, lời mở đầ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Dear Mr/Ms/Mrs… 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34286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ên người nhận viết đ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: D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ườ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ân mến 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Lưu ý sau phần chào nội dung mail nên được thụt vào mộ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7D9-C337-4393-A07F-95D026EC139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67F-CC43-45AC-B9CF-D6C652D8BB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 Nội dung email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ác thông tin cần được viết 1 cách ngắn gọn xúc t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Trình bày theo cách đánh số thứ tự hoặc xuống dòng cho từng vấn đề cần trao đổ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ết hoa đầu dò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ú 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ên Enter nhiều lần sau mỗi nội dung để tạo khoảng trống, khi người đọc đọc họ sẽ bớt rối mắt và thích thú với việc đọc emai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ểm tra kĩ lỗi chính tả trước khi  gử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2BEF-B844-4F51-BF8F-E486BB3A08B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36D-E088-4B1E-9401-2247D97AA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Kết mail: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hào cuối mail và cám ơn họ đã quan tâm (hoặc đọc th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: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ám ơ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đã dành thời gian và đọc mail củ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ôi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vui lòng Confirm đ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ô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có thể biế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đã nhận được mai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. CHỮ KÝ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685800"/>
            <a:ext cx="721332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Viết tên mình dưới bức thư là một điều tốt và là hành động biểu hiện lịch sự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c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ó thể ghi thêm các thông tin khác nữa như địa chỉ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ức danh,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số điện thoạ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ông ty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ấu trú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Họ và tên () | vị tr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Điện thoại | Mail | Website công 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Tên công ty | Số điện thoại công 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DA5-CC85-41F7-9EAC-2953D52E1BE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5A5-98E4-40B8-8FF8-83A63DD69B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59:36Z</dcterms:created>
  <dc:creator>ThuatNgo</dc:creator>
  <dc:description/>
  <dc:language>en-US</dc:language>
  <cp:lastModifiedBy>Tran</cp:lastModifiedBy>
  <dcterms:modified xsi:type="dcterms:W3CDTF">2013-08-03T03:24:07Z</dcterms:modified>
  <cp:revision>35</cp:revision>
  <dc:subject/>
  <dc:title>KỸ NĂNG GIAO VIỆC/UỶ QUYỀN</dc:title>
</cp:coreProperties>
</file>