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D91-5745-4831-BDA8-C6E64C19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2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526-7B46-4F00-B631-BCE50B3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976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9A5-9EB8-497C-9FBD-410034FC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62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13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2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62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13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C3D-AA96-453B-9C6A-B5F44C6C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5F9-ACB7-4D73-B360-2254EE2F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2EE8-223A-403C-8EEE-E9348D66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6C9-3FED-4864-8E0A-CA45B18D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9E7A-C484-4E23-9601-6FB2D8F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4CD8-9185-4066-9FC3-877964AE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492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F11C-FA49-42DE-A4C8-B3E54C3A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3328-4EFF-467C-9C30-2BCD7CD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68A-85C9-4BF6-8642-CF27AC2D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976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28AD-67B4-4E8B-A6CF-F14399BB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BC0B-1FAF-4495-BE8B-A1B34C1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2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1082-CDC3-4BD7-B7E1-EE6CB6FF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976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5600-AF21-4739-928A-DB66A328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62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13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2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62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213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5B1-B0AB-4FF1-B3A4-B6E9CC41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64A-75CE-48BC-981B-D20593D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517-3CF1-4678-AE59-737F458A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E1A-E258-4407-8D1D-F29EFB88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492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C68-5999-4A97-8195-0C6A6ACD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E41-BDA4-4E8A-A942-EF33BD98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976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F85-280D-4EA0-8AAF-A7C4F61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76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2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99A-55E7-49A0-9B0C-83D1DA97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295280" cy="6858000"/>
            <a:chOff x="0" y="0"/>
            <a:chExt cx="1295280" cy="6858000"/>
          </a:xfrm>
        </p:grpSpPr>
        <p:sp>
          <p:nvSpPr>
            <p:cNvPr id="1" name="Rectangle 3"/>
            <p:cNvSpPr/>
            <p:nvPr/>
          </p:nvSpPr>
          <p:spPr>
            <a:xfrm>
              <a:off x="962280" y="0"/>
              <a:ext cx="3330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39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7F04-1608-44DF-A2B4-D459AF0D116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1121-D4C1-4461-B385-6A9354BFA6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93C3-94C8-4BD8-94F8-1A73C64F5D0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CE3D-95C8-4D99-93F4-8B58371EB6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54F2-D1EE-4F68-AEA8-BAAA98D36C5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26E3-F513-4E01-8141-7301D3A4D3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2600" y="-381240"/>
            <a:ext cx="9144000" cy="3352680"/>
          </a:xfrm>
          <a:prstGeom prst="rect">
            <a:avLst/>
          </a:prstGeom>
          <a:solidFill>
            <a:srgbClr val="ffffff">
              <a:alpha val="50000"/>
            </a:srgbClr>
          </a:solidFill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ột số lưu ý khi sử dụng Email !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1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A756-BBCB-4877-AFB8-5EE293BE115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30A3-A695-4F8A-B947-AC1EA2281B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752480" y="2971800"/>
            <a:ext cx="583560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Narrow"/>
              </a:rPr>
              <a:t>Thank You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Narrow"/>
              <a:ea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75042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ỘT SỐ LỖI CƠ BẢN THƯỜNG GẶP KHI VIẾT EMAIL</a:t>
            </a:r>
            <a:br>
              <a:rPr sz="3200"/>
            </a:b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ỏ sót tiêu đề th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êu đề thư không tương th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ời mở đầu thư không có ý nghĩ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đưa tên người nhận vào th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quan tâm, trau chuốt từ ng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ên kiểm tra chính tả và ngữ phá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9175-6FE8-4D81-9302-CF6AB31F012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6D3E-9B87-42BC-8779-75BB835B12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ỘT SỐ LỖI CƠ BẢN THƯỜNG GẶP KHI VIẾT GMAI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8000"/>
          </a:bodyPr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ội dung dài dòng, mông lung, không cô đọ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yển tiếp Email mà chưa có sự đồng 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ghĩ rằng sẽ không ai khác thấy đọc được email của bạn ngoài người gử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ỏ qua chữ 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g đợi những phản hồi ngay lập tứ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àn thành mục gửi ngay đầu ti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5AEC-425E-41FB-AD3A-5C8E5C30A95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23EA-B094-4C20-9408-A5EBB4329B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ỘT SỐ LƯU Ý KHI  GIAO TIẾP QUA MAI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5170-826C-4043-BB3F-5B42603506C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8235-CDBA-451D-AF26-BB283E516C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F271-26B4-4C48-9E86-55B546813F2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1261-C988-43A8-854B-AE1081DCFE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Subjec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8377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i rõ mục đích, tiêu đề nội dung sẽ trình  bày trong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chữ cái đầu tiên viết 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: Báo Cáo Kết Quả Nhiệm V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ú ý: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uyệt đối không để Subject "trống" bởi Gmail có thể nhận mail của bạn là Spam mail và tự động lọc và xóa đ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057D-B548-4E02-8B7F-EA35C6E7880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ED4-6591-4460-A240-2D27C1DFF2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371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Lời chào, lời mở đầu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Dear Mr/Ms/Mrs… 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34286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ên người nhận viết đ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: De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ườ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ân mến 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Lưu ý sau phần chào nội dung mail nên được thụt vào một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16FA-DB0B-43C1-B1A6-DDDC0029166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45DA-EB3C-4A9F-B9D4-CDBC768973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. Nội dung email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ác thông tin cần được viết 1 cách ngắn gọn xúc tí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Trình bày theo cách đánh số thứ tự hoặc xuống dòng cho từng vấn đề cần trao đổ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ết hoa đầu dò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ú 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ên Enter nhiều lần sau mỗi nội dung để tạo khoảng trống, khi người đọc đọc họ sẽ bớt rối mắt và thích thú với việc đọc emai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iểm tra kĩ lỗi chính tả trước khi  gử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9EDB-4AFF-443D-A2AE-6DAFF37AA9F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931F-0AF2-426E-A643-EA0711135F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. Kết mail: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Chào cuối mail và cám ơn họ đã quan tâm (hoặc đọc th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: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Cám ơ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h//chị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đã dành thời gian và đọc mail củ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ôi.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h/chị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vui lòng Confirm đ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ô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có thể biế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h/chị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đã nhận được mai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990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. CHỮ KÝ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685800"/>
            <a:ext cx="7213320" cy="510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Viết tên mình dưới bức thư là một điều tốt và là hành động biểu hiện lịch sự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 c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ó thể ghi thêm các thông tin khác nữa như địa chỉ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ức danh,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số điện thoạ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ông ty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ấu trú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Họ và tên () | vị tr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Điện thoại | Mail | Website công 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Tên công ty | Số điện thoại công 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152280" y="6324480"/>
            <a:ext cx="190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1D08-45A5-42A0-9D7C-EF86F07CA71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934320" y="64008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C8D-18CE-42FD-98EC-CF651622A2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1:59:36Z</dcterms:created>
  <dc:creator>ThuatNgo</dc:creator>
  <dc:description/>
  <dc:language>en-US</dc:language>
  <cp:lastModifiedBy>Tran</cp:lastModifiedBy>
  <dcterms:modified xsi:type="dcterms:W3CDTF">2013-08-03T03:24:07Z</dcterms:modified>
  <cp:revision>35</cp:revision>
  <dc:subject/>
  <dc:title>KỸ NĂNG GIAO VIỆC/UỶ QUYỀN</dc:title>
</cp:coreProperties>
</file>